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483-CA62-4708-962B-4FCE1463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50E-0ECB-4989-86AF-E4AD9B65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D08-FE7A-4727-9DB4-024D673E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59F-CDD6-46B2-B1DA-EEE08F4F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BA61-04E6-42CC-9C69-44ACBB69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D3B5-FE20-4751-A885-4A3A1271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CD10-6FD7-42E6-AD11-4EAFA10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7AE-71A7-4992-AC98-033E3CE3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7F4-1DD3-4E9B-9C20-0434A110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567-BCA1-4893-A3D5-077A602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575F-6AEF-41CA-B762-CC70239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0CB-2876-49DC-B627-C974C4B4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C20D-934E-4806-A65F-E766FC2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7543-9990-47F2-8191-0290A64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ACFD-2C16-4829-ABD5-F035D8C1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C228-C762-426A-9544-A785F4A4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B1BA-314F-4948-8F6B-025A411A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06-D50F-4318-9A66-FA20362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479-8C75-41A0-9BF4-2FC1925C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5E7-424D-41F9-BE76-40FB0AD4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9F1-43CA-41F5-907F-8C9F48B4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9D9-4008-4007-8B60-6F6CC914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0C2-AAB4-45D9-874C-7FCD472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3A6-555F-4825-85E2-45C50B6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4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b78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406f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4f2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BD3A-9645-4E03-947E-05E907C91D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b78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4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b7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b78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b78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406f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4f2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4f2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6D7-C9BE-4AF4-AA3A-0A925AE4FAB1}" type="slidenum">
              <a:rPr b="0" lang="ru-RU" sz="10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97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Единственное и множественное число имён существительных</a:t>
            </a:r>
            <a:endParaRPr b="0" lang="en-US" sz="44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71640" y="3962160"/>
            <a:ext cx="770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Какая буква чаще встречается в стихотворении?</a:t>
            </a:r>
            <a:r>
              <a:rPr b="0" lang="ru-RU" sz="3800" spc="-1" strike="noStrike">
                <a:solidFill>
                  <a:srgbClr val="3406fa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ыл у бабушки баран,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ил он бойко в барабан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И плясали 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д окно у бабушки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7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464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187280" y="620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Варя разделила слова на группы  так: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pic>
        <p:nvPicPr>
          <p:cNvPr id="104" name="Picture 4" descr="115452480______2x__13_"/>
          <p:cNvPicPr/>
          <p:nvPr/>
        </p:nvPicPr>
        <p:blipFill>
          <a:blip r:embed="rId1"/>
          <a:stretch/>
        </p:blipFill>
        <p:spPr>
          <a:xfrm>
            <a:off x="755640" y="1628640"/>
            <a:ext cx="1697040" cy="3494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059280" y="256536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ушка        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58160" y="486900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какому признаку Вар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делила слова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8348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(одушевлённые)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(неодушевлённые)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ушка                    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Picture 4" descr="115452480______2x__13_"/>
          <p:cNvPicPr/>
          <p:nvPr/>
        </p:nvPicPr>
        <p:blipFill>
          <a:blip r:embed="rId1"/>
          <a:stretch/>
        </p:blipFill>
        <p:spPr>
          <a:xfrm>
            <a:off x="0" y="3141720"/>
            <a:ext cx="16970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Сергей разделил слова на группы так: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pic>
        <p:nvPicPr>
          <p:cNvPr id="110" name="Picture 4" descr="1345492437_school-childrens-6"/>
          <p:cNvPicPr/>
          <p:nvPr/>
        </p:nvPicPr>
        <p:blipFill>
          <a:blip r:embed="rId1"/>
          <a:stretch/>
        </p:blipFill>
        <p:spPr>
          <a:xfrm>
            <a:off x="7236000" y="3284640"/>
            <a:ext cx="1485720" cy="2943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619280" y="206064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бушка       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6880" y="4797360"/>
            <a:ext cx="65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какому признаку Сергей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делил слова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ин                                 Много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мет                        предмето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бушка                           бабочк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бараба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5" descr="1271799711_img291"/>
          <p:cNvPicPr/>
          <p:nvPr/>
        </p:nvPicPr>
        <p:blipFill>
          <a:blip r:embed="rId1"/>
          <a:stretch/>
        </p:blipFill>
        <p:spPr>
          <a:xfrm>
            <a:off x="179280" y="4508640"/>
            <a:ext cx="1427400" cy="172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879902"/>
          <p:cNvPicPr/>
          <p:nvPr/>
        </p:nvPicPr>
        <p:blipFill>
          <a:blip r:embed="rId2"/>
          <a:stretch/>
        </p:blipFill>
        <p:spPr>
          <a:xfrm>
            <a:off x="1692360" y="5373720"/>
            <a:ext cx="1585800" cy="12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araban"/>
          <p:cNvPicPr/>
          <p:nvPr/>
        </p:nvPicPr>
        <p:blipFill>
          <a:blip r:embed="rId3"/>
          <a:stretch/>
        </p:blipFill>
        <p:spPr>
          <a:xfrm>
            <a:off x="2050920" y="4149720"/>
            <a:ext cx="126216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%D0%91%D0%B0%D0%B1%D0%BE%D1%87%D0%BA%D0%B8-2"/>
          <p:cNvPicPr/>
          <p:nvPr/>
        </p:nvPicPr>
        <p:blipFill>
          <a:blip r:embed="rId4"/>
          <a:stretch/>
        </p:blipFill>
        <p:spPr>
          <a:xfrm>
            <a:off x="5867280" y="3068640"/>
            <a:ext cx="2549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Имена существительные</a:t>
            </a:r>
            <a:br>
              <a:rPr sz="3800"/>
            </a:b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изменяются по числам</a:t>
            </a:r>
            <a:r>
              <a:rPr b="0" lang="ru-RU" sz="38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406fa"/>
              </a:solidFill>
              <a:latin typeface="Times New Roman"/>
            </a:endParaRPr>
          </a:p>
        </p:txBody>
      </p:sp>
      <p:cxnSp>
        <p:nvCxnSpPr>
          <p:cNvPr id="119" name="Прямая со стрелкой 7"/>
          <p:cNvCxnSpPr/>
          <p:nvPr/>
        </p:nvCxnSpPr>
        <p:spPr>
          <a:xfrm flipH="1">
            <a:off x="2410560" y="1484280"/>
            <a:ext cx="2288520" cy="807120"/>
          </a:xfrm>
          <a:prstGeom prst="straightConnector1">
            <a:avLst/>
          </a:prstGeom>
          <a:ln w="38160">
            <a:solidFill>
              <a:srgbClr val="386aff"/>
            </a:solidFill>
            <a:miter/>
            <a:tailEnd len="med" type="arrow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>
            <a:off x="4643280" y="1484280"/>
            <a:ext cx="2214000" cy="807120"/>
          </a:xfrm>
          <a:prstGeom prst="straightConnector1">
            <a:avLst/>
          </a:prstGeom>
          <a:ln w="38160">
            <a:solidFill>
              <a:srgbClr val="386aff"/>
            </a:solidFill>
            <a:miter/>
            <a:tailEnd len="med" type="arrow" w="med"/>
          </a:ln>
        </p:spPr>
      </p:cxnSp>
      <p:sp>
        <p:nvSpPr>
          <p:cNvPr id="121" name="Rectangle 6"/>
          <p:cNvSpPr/>
          <p:nvPr/>
        </p:nvSpPr>
        <p:spPr>
          <a:xfrm>
            <a:off x="611280" y="2421000"/>
            <a:ext cx="2950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динственное число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</a:rPr>
              <a:t>(ед. ч.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5292720" y="2349360"/>
            <a:ext cx="3095640" cy="865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Скругленный прямоугольник 15"/>
          <p:cNvSpPr/>
          <p:nvPr/>
        </p:nvSpPr>
        <p:spPr>
          <a:xfrm>
            <a:off x="684360" y="2349360"/>
            <a:ext cx="3097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219640" y="2492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ножественное число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(мн. ч.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4360" y="335772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означаю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дин предме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219640" y="335772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означаю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сколько предмето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Рисунок 28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1689120" cy="690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7" descr=""/>
          <p:cNvPicPr/>
          <p:nvPr/>
        </p:nvPicPr>
        <p:blipFill>
          <a:blip r:embed="rId2"/>
          <a:stretch/>
        </p:blipFill>
        <p:spPr>
          <a:xfrm rot="2647200">
            <a:off x="2339640" y="44370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4"/>
          <p:cNvSpPr/>
          <p:nvPr/>
        </p:nvSpPr>
        <p:spPr>
          <a:xfrm>
            <a:off x="470160" y="544356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конфет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413080" y="54435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ручк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Рисунок 29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1785960" cy="1015920"/>
          </a:xfrm>
          <a:prstGeom prst="rect">
            <a:avLst/>
          </a:prstGeom>
          <a:ln w="0">
            <a:noFill/>
          </a:ln>
        </p:spPr>
      </p:pic>
      <p:grpSp>
        <p:nvGrpSpPr>
          <p:cNvPr id="132" name="Группа 32"/>
          <p:cNvGrpSpPr/>
          <p:nvPr/>
        </p:nvGrpSpPr>
        <p:grpSpPr>
          <a:xfrm>
            <a:off x="7093080" y="4221000"/>
            <a:ext cx="1708200" cy="1400400"/>
            <a:chOff x="7093080" y="4221000"/>
            <a:chExt cx="1708200" cy="1400400"/>
          </a:xfrm>
        </p:grpSpPr>
        <p:pic>
          <p:nvPicPr>
            <p:cNvPr id="133" name="Рисунок 31" descr=""/>
            <p:cNvPicPr/>
            <p:nvPr/>
          </p:nvPicPr>
          <p:blipFill>
            <a:blip r:embed="rId4"/>
            <a:stretch/>
          </p:blipFill>
          <p:spPr>
            <a:xfrm>
              <a:off x="7093080" y="4221000"/>
              <a:ext cx="147780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30" descr=""/>
            <p:cNvPicPr/>
            <p:nvPr/>
          </p:nvPicPr>
          <p:blipFill>
            <a:blip r:embed="rId5"/>
            <a:stretch/>
          </p:blipFill>
          <p:spPr>
            <a:xfrm flipH="1" rot="1213200">
              <a:off x="7500960" y="4635360"/>
              <a:ext cx="1198080" cy="80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20"/>
          <p:cNvSpPr/>
          <p:nvPr/>
        </p:nvSpPr>
        <p:spPr>
          <a:xfrm>
            <a:off x="5221080" y="54450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конфет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7526520" y="544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6fa"/>
                </a:solidFill>
                <a:latin typeface="Arial"/>
              </a:rPr>
              <a:t>ручк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Picture 23" descr="koyXre5yy4c"/>
          <p:cNvPicPr/>
          <p:nvPr/>
        </p:nvPicPr>
        <p:blipFill>
          <a:blip r:embed="rId6"/>
          <a:stretch/>
        </p:blipFill>
        <p:spPr>
          <a:xfrm>
            <a:off x="7773840" y="476280"/>
            <a:ext cx="1211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равило</a:t>
            </a:r>
            <a:endParaRPr b="0" lang="en-US" sz="4200" spc="-1" strike="noStrike">
              <a:solidFill>
                <a:srgbClr val="3406fa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1187280" y="1844640"/>
            <a:ext cx="50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мена существительные изменяются по числам: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нига - книги,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ашина - машины,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исьмо - письма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55640" y="4869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ри изменении числа имени существительног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зменяется его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форма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46" descr="koyXre5yy4c"/>
          <p:cNvPicPr/>
          <p:nvPr/>
        </p:nvPicPr>
        <p:blipFill>
          <a:blip r:embed="rId1"/>
          <a:stretch/>
        </p:blipFill>
        <p:spPr>
          <a:xfrm>
            <a:off x="6227640" y="170028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7" descr="koyXre5yy4c"/>
          <p:cNvPicPr/>
          <p:nvPr/>
        </p:nvPicPr>
        <p:blipFill>
          <a:blip r:embed="rId2"/>
          <a:stretch/>
        </p:blipFill>
        <p:spPr>
          <a:xfrm>
            <a:off x="6227640" y="1700280"/>
            <a:ext cx="1905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12:27:42Z</dcterms:created>
  <dc:creator>Виталий</dc:creator>
  <dc:description/>
  <dc:language>en-US</dc:language>
  <cp:lastModifiedBy>елена</cp:lastModifiedBy>
  <dcterms:modified xsi:type="dcterms:W3CDTF">2020-04-05T17:00:24Z</dcterms:modified>
  <cp:revision>18</cp:revision>
  <dc:subject/>
  <dc:title>Правописание окончаний имён существительных  в Дательном падеже.</dc:title>
</cp:coreProperties>
</file>