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7FB-3679-464C-85A1-DEAB7D6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6F9-EE5C-481E-AB3B-80A49522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7A7-1704-4540-BA8A-7ABCDB50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295-9605-4D71-A7EC-04556584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F2B-D56B-44E5-BEBC-3336B3BE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075-46C3-4916-972D-5D47B61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119-3126-4253-AAFF-DA66AAFD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27E0-5B06-42C8-B14D-F00F93C8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061-E5DB-4E31-B9C3-9157CD0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620-F55E-45E9-90EF-F3D1A62F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71F-49A8-43C2-89BB-C1CBDFD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6C3-9648-4434-9740-F26BE14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9D23-0664-459B-83D9-DC6CFFCC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3C86-B967-42B3-9C49-11365F2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42B3-832E-4DF4-9A30-C624AEB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D924-B4C8-4AB1-8E70-CF2D2793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0C3-105C-4383-A5B5-0D7860C8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C9F-7421-4480-B0E2-CF9CE2F4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F66-B874-4C5E-BBCE-984371B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B41-CA3E-4F00-B911-6C4E88B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130-DA29-4327-9A7E-E7E866C1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D5A-92D8-4C55-A8C3-CE5D8A8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10A-00BD-4BC9-90B8-1F4F690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D28-7C76-4C9B-A99E-12072ECB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4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406f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4f2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E46-DC19-4D61-BDA7-FCEF063622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b78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4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b7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406f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4f2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1A96-1F03-470E-A70D-C56E80820EE3}" type="slidenum">
              <a:rPr b="0" lang="ru-RU" sz="10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97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Единственное и множественное число имён существительных</a:t>
            </a:r>
            <a:endParaRPr b="0" lang="en-US" sz="44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71640" y="3962160"/>
            <a:ext cx="770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Какая буква чаще встречается в стихотворении?</a:t>
            </a:r>
            <a:r>
              <a:rPr b="0" lang="ru-RU" sz="3800" spc="-1" strike="noStrike">
                <a:solidFill>
                  <a:srgbClr val="3406fa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ыл у бабушки баран,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ил он бойко в барабан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 плясали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 окно у бабушки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7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464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187280" y="620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Варя разделила слова на группы  так: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pic>
        <p:nvPicPr>
          <p:cNvPr id="104" name="Picture 4" descr="115452480______2x__13_"/>
          <p:cNvPicPr/>
          <p:nvPr/>
        </p:nvPicPr>
        <p:blipFill>
          <a:blip r:embed="rId1"/>
          <a:stretch/>
        </p:blipFill>
        <p:spPr>
          <a:xfrm>
            <a:off x="755640" y="1628640"/>
            <a:ext cx="1697040" cy="3494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059280" y="25653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ушка        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58160" y="48690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какому признаку Вар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делила слова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8348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(одушевлённые)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(неодушевлённые)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ушка                    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4" descr="115452480______2x__13_"/>
          <p:cNvPicPr/>
          <p:nvPr/>
        </p:nvPicPr>
        <p:blipFill>
          <a:blip r:embed="rId1"/>
          <a:stretch/>
        </p:blipFill>
        <p:spPr>
          <a:xfrm>
            <a:off x="0" y="3141720"/>
            <a:ext cx="16970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ергей разделил слова на группы так: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pic>
        <p:nvPicPr>
          <p:cNvPr id="110" name="Picture 4" descr="1345492437_school-childrens-6"/>
          <p:cNvPicPr/>
          <p:nvPr/>
        </p:nvPicPr>
        <p:blipFill>
          <a:blip r:embed="rId1"/>
          <a:stretch/>
        </p:blipFill>
        <p:spPr>
          <a:xfrm>
            <a:off x="7236000" y="3284640"/>
            <a:ext cx="1485720" cy="2943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619280" y="206064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бушка      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6880" y="4797360"/>
            <a:ext cx="65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какому признаку Сергей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делил слова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                                 Мног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мет                        предмето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бушка                          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5" descr="1271799711_img291"/>
          <p:cNvPicPr/>
          <p:nvPr/>
        </p:nvPicPr>
        <p:blipFill>
          <a:blip r:embed="rId1"/>
          <a:stretch/>
        </p:blipFill>
        <p:spPr>
          <a:xfrm>
            <a:off x="179280" y="4508640"/>
            <a:ext cx="1427400" cy="17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879902"/>
          <p:cNvPicPr/>
          <p:nvPr/>
        </p:nvPicPr>
        <p:blipFill>
          <a:blip r:embed="rId2"/>
          <a:stretch/>
        </p:blipFill>
        <p:spPr>
          <a:xfrm>
            <a:off x="1692360" y="5373720"/>
            <a:ext cx="1585800" cy="12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araban"/>
          <p:cNvPicPr/>
          <p:nvPr/>
        </p:nvPicPr>
        <p:blipFill>
          <a:blip r:embed="rId3"/>
          <a:stretch/>
        </p:blipFill>
        <p:spPr>
          <a:xfrm>
            <a:off x="2050920" y="4149720"/>
            <a:ext cx="126216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%D0%91%D0%B0%D0%B1%D0%BE%D1%87%D0%BA%D0%B8-2"/>
          <p:cNvPicPr/>
          <p:nvPr/>
        </p:nvPicPr>
        <p:blipFill>
          <a:blip r:embed="rId4"/>
          <a:stretch/>
        </p:blipFill>
        <p:spPr>
          <a:xfrm>
            <a:off x="5867280" y="3068640"/>
            <a:ext cx="2549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Имена существительные</a:t>
            </a:r>
            <a:br>
              <a:rPr sz="3800"/>
            </a:b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изменяются по числам</a:t>
            </a:r>
            <a:r>
              <a:rPr b="0" lang="ru-RU" sz="3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 flipH="1">
            <a:off x="2410560" y="1484280"/>
            <a:ext cx="2288520" cy="807120"/>
          </a:xfrm>
          <a:prstGeom prst="straightConnector1">
            <a:avLst/>
          </a:prstGeom>
          <a:ln w="38160">
            <a:solidFill>
              <a:srgbClr val="386aff"/>
            </a:solidFill>
            <a:miter/>
            <a:tailEnd len="med" type="arrow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>
            <a:off x="4643280" y="1484280"/>
            <a:ext cx="2214000" cy="807120"/>
          </a:xfrm>
          <a:prstGeom prst="straightConnector1">
            <a:avLst/>
          </a:prstGeom>
          <a:ln w="38160">
            <a:solidFill>
              <a:srgbClr val="386aff"/>
            </a:solidFill>
            <a:miter/>
            <a:tailEnd len="med" type="arrow" w="med"/>
          </a:ln>
        </p:spPr>
      </p:cxnSp>
      <p:sp>
        <p:nvSpPr>
          <p:cNvPr id="121" name="Rectangle 6"/>
          <p:cNvSpPr/>
          <p:nvPr/>
        </p:nvSpPr>
        <p:spPr>
          <a:xfrm>
            <a:off x="611280" y="2421000"/>
            <a:ext cx="2950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динственное число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(ед. ч.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5292720" y="2349360"/>
            <a:ext cx="3095640" cy="865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Скругленный прямоугольник 15"/>
          <p:cNvSpPr/>
          <p:nvPr/>
        </p:nvSpPr>
        <p:spPr>
          <a:xfrm>
            <a:off x="684360" y="2349360"/>
            <a:ext cx="309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219640" y="2492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ножественное число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(мн. ч.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4360" y="335772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означаю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дин предме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219640" y="335772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означаю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сколько предмето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Рисунок 28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1689120" cy="690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2"/>
          <a:stretch/>
        </p:blipFill>
        <p:spPr>
          <a:xfrm rot="2647200">
            <a:off x="2339640" y="44370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4"/>
          <p:cNvSpPr/>
          <p:nvPr/>
        </p:nvSpPr>
        <p:spPr>
          <a:xfrm>
            <a:off x="470160" y="544356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конфет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413080" y="54435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ручк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Рисунок 29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1785960" cy="1015920"/>
          </a:xfrm>
          <a:prstGeom prst="rect">
            <a:avLst/>
          </a:prstGeom>
          <a:ln w="0">
            <a:noFill/>
          </a:ln>
        </p:spPr>
      </p:pic>
      <p:grpSp>
        <p:nvGrpSpPr>
          <p:cNvPr id="132" name="Группа 32"/>
          <p:cNvGrpSpPr/>
          <p:nvPr/>
        </p:nvGrpSpPr>
        <p:grpSpPr>
          <a:xfrm>
            <a:off x="7093080" y="4221000"/>
            <a:ext cx="1708200" cy="1400400"/>
            <a:chOff x="7093080" y="4221000"/>
            <a:chExt cx="1708200" cy="1400400"/>
          </a:xfrm>
        </p:grpSpPr>
        <p:pic>
          <p:nvPicPr>
            <p:cNvPr id="133" name="Рисунок 31" descr=""/>
            <p:cNvPicPr/>
            <p:nvPr/>
          </p:nvPicPr>
          <p:blipFill>
            <a:blip r:embed="rId4"/>
            <a:stretch/>
          </p:blipFill>
          <p:spPr>
            <a:xfrm>
              <a:off x="7093080" y="4221000"/>
              <a:ext cx="147780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30" descr=""/>
            <p:cNvPicPr/>
            <p:nvPr/>
          </p:nvPicPr>
          <p:blipFill>
            <a:blip r:embed="rId5"/>
            <a:stretch/>
          </p:blipFill>
          <p:spPr>
            <a:xfrm flipH="1" rot="1213200">
              <a:off x="7500960" y="4635360"/>
              <a:ext cx="1198080" cy="80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20"/>
          <p:cNvSpPr/>
          <p:nvPr/>
        </p:nvSpPr>
        <p:spPr>
          <a:xfrm>
            <a:off x="5221080" y="54450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конфет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7526520" y="544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ручк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Picture 23" descr="koyXre5yy4c"/>
          <p:cNvPicPr/>
          <p:nvPr/>
        </p:nvPicPr>
        <p:blipFill>
          <a:blip r:embed="rId6"/>
          <a:stretch/>
        </p:blipFill>
        <p:spPr>
          <a:xfrm>
            <a:off x="7773840" y="476280"/>
            <a:ext cx="1211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авило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1187280" y="1844640"/>
            <a:ext cx="50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мена существительные изменяются по числам: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нига - книги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ашина - машины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исьмо - письма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55640" y="4869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ри изменении числа имени существительног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зменяется его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форма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46" descr="koyXre5yy4c"/>
          <p:cNvPicPr/>
          <p:nvPr/>
        </p:nvPicPr>
        <p:blipFill>
          <a:blip r:embed="rId1"/>
          <a:stretch/>
        </p:blipFill>
        <p:spPr>
          <a:xfrm>
            <a:off x="6227640" y="170028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7" descr="koyXre5yy4c"/>
          <p:cNvPicPr/>
          <p:nvPr/>
        </p:nvPicPr>
        <p:blipFill>
          <a:blip r:embed="rId2"/>
          <a:stretch/>
        </p:blipFill>
        <p:spPr>
          <a:xfrm>
            <a:off x="6227640" y="1700280"/>
            <a:ext cx="1905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2:27:42Z</dcterms:created>
  <dc:creator>Виталий</dc:creator>
  <dc:description/>
  <dc:language>en-US</dc:language>
  <cp:lastModifiedBy>елена</cp:lastModifiedBy>
  <dcterms:modified xsi:type="dcterms:W3CDTF">2020-04-05T17:00:24Z</dcterms:modified>
  <cp:revision>18</cp:revision>
  <dc:subject/>
  <dc:title>Правописание окончаний имён существительных  в Дательном падеже.</dc:title>
</cp:coreProperties>
</file>