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BE0-9322-4043-A9F4-C2475AE2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04B-B59F-48D6-9CE0-25A32F82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1A4-A1FD-4A86-A641-5B77A995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8F7-077A-41A6-A7BE-61396439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A98A-3E2E-4831-A1C8-2372BBBF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12B4-D30D-46AF-BF72-491B6DA2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1E6C-430C-4DC9-B2D0-36907C7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2206-8DB1-4457-8E75-B79378AE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5F15-3E4E-4734-A12A-45E300F2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7DBA-D0AB-4DCE-BA92-8CA18D06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83E0-B391-4140-BB38-F8A590AC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6DB-E6FE-47A5-9381-904C297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1E7F-0005-49F3-8F8F-7DAAAA4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1C35-B488-48B3-8A1B-617D4A12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D57C-853E-4B16-B2EE-DFD6E79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2114-3F5D-4BAA-B758-D65D8645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0EFD-9312-4FC5-BC30-9ECE3B26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4B5-C3BA-458B-93A0-EA3AC265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064-10CF-4267-B127-B07D412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01B-D3A8-44A2-90CD-F0155ED2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490-2376-4AB3-AE6A-D41CDF84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DDF-07BD-476A-A179-ED9F5EC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665-973E-45E2-BA3A-42614F6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D98-09A6-4439-98DB-BDE02C72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0851-3A75-4645-9563-2635581C3A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E3C4-2A86-4E14-AD0B-6F65A80F11D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wans_001"/>
          <p:cNvPicPr/>
          <p:nvPr/>
        </p:nvPicPr>
        <p:blipFill>
          <a:blip r:embed="rId1"/>
          <a:stretch/>
        </p:blipFill>
        <p:spPr>
          <a:xfrm>
            <a:off x="4643280" y="32130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 литературного чтения в 4 кл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1476360" y="620640"/>
            <a:ext cx="61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Лебедушк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.Есени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61928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орел когтям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р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ирал ей тело нежно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летели перь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ы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но брызги во все сторо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ыхалось тихо озер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мыши, склонясь, шептали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под кочками зеле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ронились лебежатуш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539640" y="692280"/>
            <a:ext cx="777744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 солнышке тепло - при матери добро.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8" descr="20682"/>
          <p:cNvPicPr/>
          <p:nvPr/>
        </p:nvPicPr>
        <p:blipFill>
          <a:blip r:embed="rId1"/>
          <a:srcRect l="9538" t="10736" r="9364" b="8290"/>
          <a:stretch/>
        </p:blipFill>
        <p:spPr>
          <a:xfrm>
            <a:off x="1979640" y="2565360"/>
            <a:ext cx="482436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swans_001"/>
          <p:cNvPicPr/>
          <p:nvPr/>
        </p:nvPicPr>
        <p:blipFill>
          <a:blip r:embed="rId1"/>
          <a:stretch/>
        </p:blipFill>
        <p:spPr>
          <a:xfrm>
            <a:off x="611280" y="54936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9"/>
          <p:cNvSpPr txBox="1"/>
          <p:nvPr/>
        </p:nvSpPr>
        <p:spPr>
          <a:xfrm>
            <a:off x="5364000" y="5373720"/>
            <a:ext cx="316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Лебедушк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3"/>
          <p:cNvGraphicFramePr/>
          <p:nvPr/>
        </p:nvGraphicFramePr>
        <p:xfrm>
          <a:off x="744480" y="836640"/>
          <a:ext cx="57690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836640"/>
                    <a:ext cx="5769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WordArt 9"/>
          <p:cNvSpPr txBox="1"/>
          <p:nvPr/>
        </p:nvSpPr>
        <p:spPr>
          <a:xfrm>
            <a:off x="4716360" y="2565360"/>
            <a:ext cx="3257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гей Есени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895-192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27236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ачин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ачало, первые вступительные строфы или фразы, которые подготавливают слушателя к своему повествова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авяз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о конфликта, которое определяет дальнейшее развитие сюжета литературного произ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ульмин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мент наивысшего напряжения действия в произведении, когда особенно ярко выявляются сюжетный конфликт, цели героев, и их ка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Развяз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ершение конфликта художественного произведения, обычно следует за кульминаци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Поэтические средств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пите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лицетво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гров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красно-густого ц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таг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шумная тол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зорев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ветло-си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зори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охраня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блест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храбрым, отваж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нились лебежатуш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крыло ли материн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под кочками зеле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нились лебежатуш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4572000" y="1916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1" descr="b179"/>
          <p:cNvPicPr/>
          <p:nvPr/>
        </p:nvPicPr>
        <p:blipFill>
          <a:blip r:embed="rId1"/>
          <a:stretch/>
        </p:blipFill>
        <p:spPr>
          <a:xfrm>
            <a:off x="4211640" y="2997360"/>
            <a:ext cx="38098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овно зорень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снеж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бедуш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swans-03"/>
          <p:cNvPicPr/>
          <p:nvPr/>
        </p:nvPicPr>
        <p:blipFill>
          <a:blip r:embed="rId1"/>
          <a:stretch/>
        </p:blipFill>
        <p:spPr>
          <a:xfrm>
            <a:off x="3851280" y="2997360"/>
            <a:ext cx="4389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ч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как стрела на земл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инулся…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как точка черная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http://users.nnm.ru/imagez/gallery/doci/flo/flowers-1148323744_i_3607_full.jpg"/>
          <p:cNvPicPr/>
          <p:nvPr/>
        </p:nvPicPr>
        <p:blipFill>
          <a:blip r:embed="rId1"/>
          <a:stretch/>
        </p:blipFill>
        <p:spPr>
          <a:xfrm>
            <a:off x="4140360" y="2084400"/>
            <a:ext cx="4546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1:39:13Z</dcterms:created>
  <dc:creator>User</dc:creator>
  <dc:description/>
  <dc:language>en-US</dc:language>
  <cp:lastModifiedBy>Doom</cp:lastModifiedBy>
  <dcterms:modified xsi:type="dcterms:W3CDTF">2018-10-09T13:50:40Z</dcterms:modified>
  <cp:revision>11</cp:revision>
  <dc:subject/>
  <dc:title>Слайд 1</dc:title>
</cp:coreProperties>
</file>