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14D-7ABF-48B4-89F1-23B52E2D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D91-EDFB-4D56-8EE6-723E98C9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5F6F5-408D-41B5-AC2D-700BDD19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8DF73-D028-40B4-9A47-E59F0B35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971C3-B675-4AB9-93AB-D9BD6630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35860-DCB6-481A-8885-78720EFD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F73A8-2D5F-4DCC-87C4-6D5541A5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FA8D1-BCF3-4136-9787-4DB422A1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4F0FE-491C-4EF5-938A-6717FCE3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2F4D4-37E1-4500-9E40-B356AD3F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228B2-B6DD-4DAE-BE38-80596801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C8E59-D0AC-4AB2-B14A-E89D9C90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24A-7454-4429-9E2D-2F843FE3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D24ED-7CD3-4ACE-B195-F9DC3C0E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C6718-1152-4C45-BB8E-E8B8AC7C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23CE6-C6FC-48B5-A658-044C6951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89E8F-1CB6-459F-9B24-C62CF543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88F68-5811-4F6C-B9EE-C3DAF441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7F740-9423-4C38-A19F-E80BC14B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DDDFE-A077-402A-95C7-5088E77C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82B4F-B052-4ABD-81F6-F6CDD14F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4F0D5-65B5-4F9B-8107-F67C4BD0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EA414-024C-4FE8-B855-DB821BA6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86C-D188-46CA-8F39-4CF6BC05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6E125-8DBC-4464-B077-656C9776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4D488-A68A-4435-8F43-FC60F84F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47492-97AC-4670-A361-CD1DF9A6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BD2AB-80BD-4DE4-B55A-F9D8B45B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F9D3C-88D5-4019-A0B3-9885842D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DB45F-7C3A-4CC0-8056-CEBA5EB0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71C7B-0276-4C0A-843B-DE3BDAA2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C569A-F769-49A3-B8EC-D7EF8BE6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0C615-56C0-4D31-B3E1-FC634BBF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5A9E4-A5C7-4D60-A507-49AD3054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5B76-3685-47A7-B53F-75C0E458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E7DBF-8C1B-4293-983D-F3DBFF17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761C6-D6D9-489D-8502-92856700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3A58D-AA30-4709-ACF1-A41964F5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F99E7-6196-4170-95AE-7B335B43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A39F6-7D7D-4E62-8D3F-7037AD20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C9463-2B17-4D84-861F-A8DF32D6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15FF5-F7D7-4FBA-B97B-1F17283E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E69A4-6E07-43FA-AE4A-A81691DE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A309E-3694-40EF-9E8C-148EB406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E9161-FC7B-4F24-A325-6E781C19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9EF7-6DB3-4CF1-A51D-3791A16C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66F5B-0675-4A6E-B1C2-4DBE9919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E5E0B-B1AE-4E6C-ACC5-39787E25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6A19C-E117-4075-A3BA-06148EBC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70C63-40E9-40F7-AEB1-2D1A1832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97B9C-8B8B-49DA-842C-5EB183DA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AAF2A-A81C-4E56-B757-389D4315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8B76F-1941-47DB-86ED-E650DDBF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1830A-F0D6-4223-8060-349504A9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D954F-80D3-4587-AFEF-269C9763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BD5E1-2F7E-40B2-B8A8-3B256ACE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792E-20BA-4DB1-BFAE-188E2FE8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805CA-7716-488F-95D1-527A090A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E8720-EC93-43EE-9415-45D4CDB2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B92BF-058A-4812-A7C2-EA54B672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BDAED-31F7-47DF-B810-1AA76632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50F1F-17FA-44E8-B725-1605F4E3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C418C-7611-4B91-BF87-BEB0B0D0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2D0EA-E28C-4156-BE44-B6FE1854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C0A7D-F0C9-4ACA-8274-072B45C0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9F63B-A7E9-4AF3-9007-9DAAD72B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04C22-F1C3-4377-96E1-C5A3E745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8ABA-BE45-4DBF-A749-B631261D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4206B-25D3-400B-8585-D3E41FD2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8C5D0-835B-434D-961B-237B92BB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76BFC-E007-46F7-B533-FED3E059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D0CC7-D9F3-4E20-A8D7-47C80429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BD84D-AE0E-41D1-A763-81C71AFC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5189A-9D9A-45E3-9D58-CE5BAC1B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DA1D3-56D6-4847-984B-EA7DD540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21FCA-10CD-4C3B-AF9D-2C25CA28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388B1-7909-4795-8377-4F51CF20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67472-58E9-43EE-B09A-B7CAD8B1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90FF-32E4-4FD8-BF9C-252A5797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F13CF-1D33-40D3-9F2A-04F61BBA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B3AB2A-9AE7-4B3C-92C3-B40ACF59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B57397-5BA1-4F77-A2F2-84BF16B3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44E9FA-E5FD-481F-9F3A-19020F40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7181EA-888B-4A8E-8B25-509135F7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40AA6A-BD33-47BA-8E25-0D77498C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FBE35-5D82-4C81-9A57-680D7FF5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ADB95-940C-45BC-8ADF-FE705711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8113A-B6AC-4F9A-94C3-32FE2D7C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F9C359-3EC7-4840-A582-0531497C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2588-F3C1-44B6-B244-2F0DC838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F019AA-8A9A-42A1-8D98-797321D8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C5D176-2F34-4021-9CE3-4D58B5D2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B80D51-0430-497A-8659-CCB0B5A1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EEDB5-FE75-4F48-9BF0-E86C346F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C7D9E9-ED07-44C3-89CC-6A33A2D4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16B80-BA6E-466D-8CD9-E252EBD3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F782C7-DC36-411D-B2B9-9E374C3A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87F34F-83AA-4A01-A6B1-5ECCD9A8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AE87D6-CFCB-4F87-8C9A-872A554F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4C8D7-D6C1-4BE2-B89F-3E9E095A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D347-D5DF-4ACF-AB3F-9522CC35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2EB540-C9F1-42D4-AB0C-59F0A9B1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A5D81D-7A4B-46DB-9495-3E643A04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91CD0-61AF-4F5C-B419-2DEFFDD4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3F7A5-A31E-4A20-B5CF-F4A31F86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0B6BB-DEAB-42AF-B148-86B6E193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92E109-D367-419A-A742-F571C4B1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A1B636-B85C-4D09-B89B-7ED83E93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E0B6BF-037B-4FCD-B101-68977F63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BCAD2D-F8CC-4114-8728-D4C43D2F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DC541-88F5-4152-9CA0-9352B5C6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E06-7124-42A1-87BB-40ABEF7D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622F-1438-4185-9D8B-A8A3BDFE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F09A79-6F12-4C96-87D1-98A8277D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E06C01-561C-4386-A144-6EC12A0E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44F3B-68BE-45B8-A65E-1313A2E4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EA9247-0595-440A-AE6B-29F8FD9C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3C264-CC98-4987-8298-D1EEA35B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AECA-A22B-4802-AFA6-7C9B4290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92CE-C46F-443C-B25D-1962E3FD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D397-AEC4-47AD-8948-2DB6D657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726D-071A-44F1-AFF9-6754A940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2E843-90DB-421C-87CB-5B712B9B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49537-6959-4BE0-820F-FB08D5D0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B744-7515-48A2-AE1A-7412A87C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CCC51-8B7F-4D34-A849-294544A4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A3BCC-A7C4-475C-AE1E-932A80C0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759-2390-44B6-BAFE-EDD5114A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6EF19-27B1-45ED-8A97-F93A6547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7756-CF0F-4ED9-B4D3-A977AEF4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8F893-9F92-4BFD-800D-A0EC3D12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A289F-75DD-4749-B6EE-00920332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74D5-AA33-4461-83CF-D2CE43FF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8BDAF-BA49-437F-802C-36D8945F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3D153-EF05-4C90-84D4-1D7A00F0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2D404-B46F-49E1-BB26-E2D3DA76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A94E6-13B2-4CA4-9E7E-F4257A2C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A9F4E-4763-4D6C-92F0-0F209056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3C5-B376-4ED9-9646-9DA4CEEF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54151-B7D6-4C33-B163-1EF1849A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8E186-5DE5-4AEC-B3EB-CFB86B64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C8120-F49C-49F7-AFA5-748AA44C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87EB-63FA-42F7-8F91-37B12847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7EA1B-C4DD-404F-9769-DED45834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136DD-F0C5-47C5-AB43-8F61361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187F1-4CCA-4572-AE25-C511626F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9EAFE-B413-4D41-833D-904AEA8F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2D799-9F70-4DB8-B296-BF2B15AA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F0A01-4500-4052-A37A-5780E361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05D-EAEA-44F8-8153-0B12D760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B46D3-CBF5-48B2-A941-5ADAE3F6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546B2-E99A-49BA-993D-D5974A81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E54D4-A663-4DE2-B96E-DC83DF44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4CFCE-B2A7-4B4D-8E36-8ACDD6FE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73A2B-244A-48C4-8DC5-0E9EF2E9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ED5F7-BADE-47E3-AEBE-CA75A30E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88B9F-BF16-4CEC-AF33-C47F62F2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46042-08A1-45D7-A258-0BC40686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4FD7C-5DF3-4F2F-B587-8F556B55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E1762-88CD-45EF-8D8F-A0B317CA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5C6-BE7A-4C80-B36B-145F39F4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68E1E-854B-4B97-86FC-81D98DF3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A593A-AB86-42EE-B6AB-5247594B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7CBFA-7C43-4656-8502-44B47E3F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CAF6D-49D0-42D8-AD6A-E78692EC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45E53-B40B-41E5-A4E1-BE874F61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B8DF7-882E-434F-B4A2-B6611530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78CC0-22F5-4FA3-982B-BE59CA14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C1568-69E8-4D44-B0AA-1FBBD31A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4E123-A6CE-47ED-B252-0709B195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A1EB6-05DA-4F34-A256-ED8F0C98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04C-4A3C-4FD7-9F97-06D4CDDA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C5EC5-EEA7-4B5D-992A-EA730FBC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3EA8C-80AF-459C-B6F8-EB358493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A689A-ADBB-45B4-83B6-425B3D11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40345-C15B-42E0-AF3F-7B165732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9124D-B485-46AC-9150-C04031D3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C0826-01A1-47D0-B973-7D58105D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72FA2-F8C1-467E-ABB5-10EA38E8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E5CC9-7F4B-49BC-9098-03F26244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873E5-ED7A-42D6-8CCB-1F86F52B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C7D5B-C3DD-4BBC-B031-B62B1E99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7B1-1714-477F-8782-AFC00163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2536A-2F4A-4D6C-B6F5-E6737C04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0F7BF-36FC-4884-A602-2B5767CD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D6ABB-6BBE-465F-BEBD-AF37193C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51089-7790-4817-837A-52A82E40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DC38D-C588-4C01-B573-8C129B5C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C0621-F9F4-4FD8-8D11-62EB4EDA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A5CCE-28F6-4FD8-84EC-C762E7CD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C9D2F-3023-4FCE-8DE8-B10F083D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7DD07-747C-4587-82A9-95C80AA0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2D7E9-A32A-46D2-BB3E-407C14C7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66A-0E6A-4272-BBBB-923CD864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6C1B4-B5B4-4386-92F9-7AD2A70E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C73A9-C152-447F-851B-A78D98B8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9AF49-CADD-4F68-8596-012419D0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2314E-B332-47E7-8976-DF072A1F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BD40F-13B6-4885-A7AB-2434B63B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748E4-A780-4CF6-80A3-A4813539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EF037-7FD1-4A30-BEAF-B1A759BF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068F6-952F-4A82-9E6C-45B61948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CC5AE-D557-4952-A744-515362D6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57941-21B3-4B03-B75A-15C0FF15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6261-FA66-4C19-9EFC-F8D14AAA9CC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8DEF-63B6-4B47-A83A-56067B7534F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C38C-8334-4CAF-9D1A-CC8106CEE80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6C8F-BFE8-48B2-9B56-B4A8BC65D44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B1D2-C779-475C-8995-3DA66CC4F3B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5218-3173-4AE1-AF43-C3B0BDC4259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C189-6727-4149-A83A-47BC06290E1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DC7B-1B22-4C6C-929C-202DF2BC102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44B3-3ECC-4115-B46B-5D7269CCE3D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38E1-0061-4C33-AA74-B6B0CDF3772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DAD0-AE68-4BC7-94D5-AFFB8DBD349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4629-564E-4E79-BA2E-F4F89B88641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5DDE-82F3-4EF1-9F77-D58DF7F03C5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E17E-7C6F-49CB-8080-70BCE239CDB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1FEC-8283-474E-B5D5-F111EE7CFDA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3343-6508-425B-8CDE-75D2FB282B7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AF71-49FE-4F79-88DF-6B7A7BDD355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9898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Урок географии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539280" y="1915920"/>
            <a:ext cx="820908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ГОРОДСКОЕ И СЕЛЬСКОЕ 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НАСЕЛЕНИЕ РОССИИ.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Gothic"/>
              </a:rPr>
              <a:t>РАССЕЛЕНИЕ НАСЕЛЕНИЯ.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РАЗНООБРАЗИЕ СЕЛЬСКИХ НАСЕЛЕННЫХ ПУНКТОВ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еревн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ел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Хутор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таниц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ул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ереходная форма поселения- поселок городского тип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тличительные черты сельских населенных пунктов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1908000" y="2420640"/>
            <a:ext cx="65930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Село- школа, детский сад, больница, церковь, магазины, предприятия сельскохозяйственного назначения, служба быта и др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Деревня- поменьше села, нет церкви, есть ФАП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Хутор- несколько домов вдали от сел и деревень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ГТ- хорошо развита инфраструктура, есть промышленные предприятия, предприятия по переработке сельскохозяйственной продукци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Часто ПГТ являются районными центрам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ДОЛЯ ГОРОДСКОГО И СЕЛЬСКОГО НАСЕЛЕНИЯ РОССИИ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Century Gothic"/>
              </a:rPr>
              <a:t>На долю городского приходится 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3400" spc="-1" strike="noStrike">
                <a:solidFill>
                  <a:srgbClr val="404040"/>
                </a:solidFill>
                <a:latin typeface="Century Gothic"/>
              </a:rPr>
              <a:t>78% населения.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Century Gothic"/>
              </a:rPr>
              <a:t>На долю сельского приходится 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3400" spc="-1" strike="noStrike">
                <a:solidFill>
                  <a:srgbClr val="404040"/>
                </a:solidFill>
                <a:latin typeface="Century Gothic"/>
              </a:rPr>
              <a:t>22% населения</a:t>
            </a:r>
            <a:endParaRPr b="0" lang="en-US" sz="3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Размещение населен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редняя плотность населения составляет 8,6 человека на 1 кв.к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Европейской части России плотность составляет 29 человек на 1 кв.к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Сибири- 2,5 человек на 1 кв.к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ВОПРОС: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С чем связано неравномерное распределение населения на территории России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Деревни и села Росс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1" name="Picture 2" descr="http://prv1.lori-images.net/traditsionnye-derevenskie-doma-na-russkom-severe-0002205937-preview.jpg"/>
          <p:cNvPicPr/>
          <p:nvPr/>
        </p:nvPicPr>
        <p:blipFill>
          <a:blip r:embed="rId1"/>
          <a:stretch/>
        </p:blipFill>
        <p:spPr>
          <a:xfrm>
            <a:off x="611280" y="1571760"/>
            <a:ext cx="79214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Деревни бывают разные…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3" name="Picture 2" descr="Картинка 115 из 63472"/>
          <p:cNvPicPr/>
          <p:nvPr/>
        </p:nvPicPr>
        <p:blipFill>
          <a:blip r:embed="rId1"/>
          <a:stretch/>
        </p:blipFill>
        <p:spPr>
          <a:xfrm>
            <a:off x="395280" y="1143000"/>
            <a:ext cx="835344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395280" y="1557360"/>
            <a:ext cx="8291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6" name="Picture 2" descr="http://avtoshka.www.nn.ru/users/foto/304444-2011-11-18-top68.ru-svoyu-sudbu-my-tvorim-sami-1345.jpg"/>
          <p:cNvPicPr/>
          <p:nvPr/>
        </p:nvPicPr>
        <p:blipFill>
          <a:blip r:embed="rId1"/>
          <a:stretch/>
        </p:blipFill>
        <p:spPr>
          <a:xfrm>
            <a:off x="324000" y="765000"/>
            <a:ext cx="843912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Горный аул на Кавказ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8" name="Picture 2" descr="Картинка 180 из 63472"/>
          <p:cNvPicPr/>
          <p:nvPr/>
        </p:nvPicPr>
        <p:blipFill>
          <a:blip r:embed="rId1"/>
          <a:stretch/>
        </p:blipFill>
        <p:spPr>
          <a:xfrm>
            <a:off x="826920" y="1417680"/>
            <a:ext cx="698508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ело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Прямоугольник 2"/>
          <p:cNvSpPr/>
          <p:nvPr/>
        </p:nvSpPr>
        <p:spPr>
          <a:xfrm>
            <a:off x="2268360" y="314172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1" name="Picture 2" descr="Картинка 4 из 153452"/>
          <p:cNvPicPr/>
          <p:nvPr/>
        </p:nvPicPr>
        <p:blipFill>
          <a:blip r:embed="rId1"/>
          <a:stretch/>
        </p:blipFill>
        <p:spPr>
          <a:xfrm>
            <a:off x="539640" y="1511280"/>
            <a:ext cx="78487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Российский город Перм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3" name="Picture 2" descr="Картинка 25 из 355898"/>
          <p:cNvPicPr/>
          <p:nvPr/>
        </p:nvPicPr>
        <p:blipFill>
          <a:blip r:embed="rId1"/>
          <a:stretch/>
        </p:blipFill>
        <p:spPr>
          <a:xfrm>
            <a:off x="324000" y="1143000"/>
            <a:ext cx="83516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ИЗ ИСТОР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Древней Руси насчитывалось около 300 город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орода создавались на реках- торговых путей. Самыми крупными городами Древней Руси были Новгород, Смоленск, Муром, Белозерск и др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период царствования Петра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на территории России было построено много новых городов, в т.ч. Санкт-Петербург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ЛОВАР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ГОРОДСКАЯ АГЛОМЕРАЦИЯ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УРБАНИЗАЦИЯ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Задание: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Самостоятельно подготовить толкование терминов . Учебник п.41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XIX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еке были построены города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 Дальнем Востоке- Владивосток, Благовещенск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 Кавказе- Владикавказ,Грозный,Петровский пор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Южном Казахстане- Верный (Алматы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ти города были опорными государственными пунктами, эащищающими границы импери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 txBox="1"/>
          <p:nvPr/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Советское время было построено 600 городов, которые являлись промышленными центрам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ного городов было построено на Севере страны в районах Сибири и Дальнего Восток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Чем город отличается от деревни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исленностью населения (городом считается населенный пункт, где население превышает 12 тыс. человек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ункциональной особенностью населения ( городские жители заняты в различных отраслях промышленности, в науке,т.е. заняты несельскохозяйственной деятельностью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Классификация городов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1. по численности населения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952280" y="242064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АЛЫЕ -  - до 20 тыс. жител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БОЛЬШИЕ - более 100 тыс жител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РУПНЫЕ -  более 250 тыс. жител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РУПНЕЙШИЕ- более 500 тыс. жител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ОРОДА МИЛЛИОНЕРЫ- 1 млн и более жителе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2. По функциям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ЦЕНТРАЛЬНЫЕ МЕСТ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толица(Москва)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еофициальные столицы экономических районов -(Санкт-Петербург, Нижний Новгород,Новосибирск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Центры республик,краев, областей (Казань, Тверь и т.д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ТРАСЛЕВЫЕ ЦЕНТР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омышленные центры (Нижний Тагил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ранспортные центры (порты Находка,Новороссийск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укограды (Обнинск,Зеленоград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уристические центры (Суздаль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орода-курорты (Сочи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СЕЛЬСКИЕ НАСЕЛЕННЫЕ ПУНКТЫ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  </a:t>
            </a: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ельскими называют населенные пункты с населением менее 12 тыс. человек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Для жителей сельских населенных пунктов основной сферой деятельности является сельское хозяйство- земледелие,животноводство,птицевдство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Рыболовство и др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лотность заселения сельских населенных пунктов зависит от плодородия почвы, наличия пастбищ,рек,близость транспортных путей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ело хранит традиции, город распространяет новое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06:50Z</dcterms:created>
  <dc:creator>пользователь</dc:creator>
  <dc:description/>
  <dc:language>en-US</dc:language>
  <cp:lastModifiedBy>школа</cp:lastModifiedBy>
  <dcterms:modified xsi:type="dcterms:W3CDTF">2020-04-05T11:33:57Z</dcterms:modified>
  <cp:revision>14</cp:revision>
  <dc:subject/>
  <dc:title>Урок географии, 9 класс</dc:title>
</cp:coreProperties>
</file>