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645F-8829-4AD8-B0A3-AE325AEA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F9F-931E-481B-BACB-15889364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E7781-DFE4-482F-87CE-8DC2ACEC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DFBC1-4E5B-4030-805F-17FBEBFE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C98DE-2F9B-438B-B700-FE648ABD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840C8-13CD-4E03-BA7B-1F050272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BD033-4908-4A21-B4C4-AFC4CF70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3A0DA-DDFD-4845-8448-F93D5346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38CD8-10CA-4EFA-B2E4-CA98EAA8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DBC6B-7456-435D-B9A2-142AE029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C30BB-4579-4E7E-9B46-8F6DCA94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A0506-0E56-4F51-BE2A-3854DFFB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DD0-753D-4F37-856A-D589C77E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D9774-FAB1-4F75-95C4-5D47C47B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F3392-A641-4F6F-A879-DBF54C45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7D18B-07DF-4245-8F7F-8CC0A9DB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38AD7-42C1-4B78-9BB6-18FB69FA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B07C0-D440-4D8B-BE5B-39C14498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55AC0-7C38-4DDB-8006-1751CA11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1AD25-1243-4C85-A60E-9EA0DD97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B951B-1DA0-4038-97F6-072F9075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BA5D0-346D-41B3-9068-A506903E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90D20-A862-49DC-AE77-E8E0D2F1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E8C2-2C7C-4A2D-BA1B-3718172F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0D792-A4B5-4CED-93D4-FF1CB28C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3A9EB-9002-46C6-A3FB-73F74494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07829-F716-4AA9-82F8-CB673179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F7493-EB6F-41D5-9BC2-0F78C339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F7B5B-26BA-43AE-B95B-EAB4F558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68442-6EA9-49C6-9020-E2F4AE90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9DA54-2C8D-4F43-8840-4DF2786D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32C85-0D84-4DEB-B569-74F98685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E4408-AEC0-4E4C-82BF-3EAEF5D0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9FA60-AE8F-4469-A9BB-2B44B9F5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1461-3049-4660-8F9B-C2992938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F4253-7448-4917-AE2D-86153C4E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DFDB1-E3D5-43D3-9031-8E2A76EF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9A247-237B-4714-A8C9-9E4D71CE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9238A-F0C8-4C98-8B19-8CDE370C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B0380-9865-43AD-9F54-B310CB07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AF62B-3F7C-4A7E-B426-08004803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CF638-0068-40AA-B006-7DB4854F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24BB4-A3A7-4C1F-99A2-38A5A735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F12EB-E25F-49EA-9C04-D453DD4F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AC5C2-BA0F-4FD9-861C-46E9C495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86C1-048F-450D-859C-4AF2B807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18310-C6DB-4C2D-9D67-66DC0261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D2DC9-8F72-44BB-9AA3-1F39473C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E1D91-9E33-4E92-854D-C62268E2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67E36-A7CD-4982-9531-ABB52CE3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837E6-451D-4935-8F82-4DED6F2A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A6EC32-4736-46A6-B3CF-7AE09851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2DCB6F-1E63-4743-A771-5015BE32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1BB344-8F0F-4B04-97D8-C214FA46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752DF1-560D-48D7-ADB7-6C7FABF2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19A1B-045D-44C0-AA90-34541D7D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FD30-4E7B-4002-A357-651955EF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001791-8872-40A8-B2CE-09E0A85B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9CF063-7092-4E87-8F4B-822FAA09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96654-5320-4C56-AFA5-88A6D238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456BCD-9FF4-4494-8FA9-21492F1C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29E0B6-4587-4935-AD91-EF04A4E6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55D9DE-5272-49A2-A672-9779AE5F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09792B-6459-4335-A90B-CBBBAB0E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C44AC3-AFBC-4332-93B7-35AEF3C3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61D855-CEB7-4184-A7C0-117F9B36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FA51D8-C599-45F4-ADF5-2A7CDCC0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B77D-0DF8-4C0B-AB09-AF3E6A43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4EF97A-4EEA-4EA1-AFD3-76D141ED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A86810-672D-46B5-BF8B-24D6F1F9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B696F2-C9CC-460A-BABB-3CC62987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31CF2C-7E1A-41A7-A5BC-706841FE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A31BF4-B4D1-484A-8AA2-1E58F1B5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725995-ACAA-40BC-9480-937BAAB9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EC1D5-F3F7-4877-A0FF-47BFBBCF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04F352-22C7-4F1A-AA1B-00018FD3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B8E0B0-69F8-4924-8CF6-940024E5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3F0111-5663-4487-AD52-3421950D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B6D3-BC1E-4EDB-92B7-242CEB23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40EC1F-249A-4878-B21D-F0CEBFE4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00A645-E57C-4ED6-96BF-8524F22D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ED5C5A-4ACA-4E38-861F-C75057C8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09442A-3C64-4D54-B513-1C35442F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0B1D26-511A-44AD-BE2E-EF84CF36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ED1BFF-9E63-4113-BE02-06A97F92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72C405-029C-4A77-9E68-6AD20075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54D03F-0ED9-456B-98A1-D0890AE2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F4AFFA-CCA7-4EED-867C-ACAF9B0E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B6B55-4506-4388-B263-472DFD60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8520-DA7E-4D9C-964E-2AF40779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F53CEB-815F-4CEB-9FB9-6E55AD2A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3BEDA2-8AF2-491C-9647-99EA8C98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AFB013-76BF-4A74-92C7-A589A35E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14A41B-F0CE-491E-B9F3-39603FF2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C542F1-A008-4C1F-BA38-F6BB5110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AE3E96-2B56-4FB4-BE32-A047EDAB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196CD0-AF67-4BC9-B0C3-DBF44E84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D2BDCE-FA48-4055-847D-0D756B37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DA69E7-3016-417A-AB60-E077E806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F66CE2-BB54-469F-A1F5-21CA9EA5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59BF-65C6-4E94-A961-A3F65AB0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EA3AE7-74A9-4B02-81CA-683CC513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F83438-4C50-4BDD-ADA6-2F6F1B05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D86C27-031F-4D16-A329-32AEB037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784ED4-7E61-4494-A252-A9CA8F8C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EB59F9-05CB-4B59-847A-D1BCE3CB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718FEB-BE7E-40DC-BFD4-96BEE776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F117EA-48BD-4756-85C5-85FFF0AB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CB0144-D91E-45A7-B343-B8057BA4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F4AE7E-A023-45C6-9649-59B344B9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3AFB54-2230-4C47-8F53-3AC6AF26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ED40-D3CC-459D-80E1-4B028A5D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C971-3614-4755-B4F7-96C08348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9546B1-61CD-4633-98FC-93FB4CDF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7397CD-34AF-43B9-8FBE-F0CDADDB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1DD818-57E7-4681-A2C6-CAFFCD3E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C2220E-3445-4C55-8EFD-DE7429E0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BA7CEA-C8A0-4B91-B771-AB25CA8E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C08D-8010-423C-8E0C-845AE9E6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CE2A-F939-4377-B81A-542E314C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784C-6160-47CE-A9BE-537298B3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1C54-9F56-4743-B01E-21D02738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CD646-B655-4203-87D5-486B4A6B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9A762-C2EC-4AA4-977D-2DD9DF79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41CD2-DD0E-49EA-B85B-7AF371C7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CB14C-11B6-49EB-864F-5BF5F533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86B96-BE27-4475-83C0-7D58A65E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ED33-D6C8-4461-8774-A897D24A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6ABEC-12A0-40DB-8F24-A2A4B6E6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A3371-2EE5-400D-BE8B-06A7B8C8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4901C-5BE8-4379-B824-3AC21DE0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0FF31-55D3-4577-92BE-85CBEE8E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F44F6-B53B-4D5B-B1FF-B40AF9E7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6812B-A92E-470D-9C80-CD0D516B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39091-8FA1-487D-8AA9-70F6682D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63F79-BFF4-4049-80F7-28AE3EED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B3697-BAFD-464A-BB9B-80E76715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61599-833A-4502-BCC7-FB420FE9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442-2EE4-4125-BDA8-47E8C89D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684A1-0DAA-4F84-A366-BBA45B57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F14BB-E0EC-48DD-9157-2E361CDA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4FDFF-BFFF-4B1C-8E26-C37AD3D5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13AFF-21CF-4018-95F4-6B95D95B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42565-C254-4169-9877-DECBD770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236DA-6C0D-4FF5-B926-89151FA9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AC37F-E455-475D-BDD3-46E6672A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3249C-7F7F-401B-B264-2100F675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79322-76D6-4260-A7FC-E9E3E612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84E60-62C5-40D5-AC98-B6EE16A0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B85-3F5E-4392-AF75-2577BDDF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D446D-A573-45C0-B483-275E6CB9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52265-738E-46EA-BA35-DFBFC833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81DB4-9954-412A-8E0C-8B385543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D1C59-A553-411E-BB95-94C501C1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A914A-D2C7-4C18-A6DB-BB7EA6A8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C5C13-1A7A-43D8-92D9-8FAD1C9A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02D42-143D-4DB3-9D6C-5E95C516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EC24C-C4D1-441B-B0DC-39671669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32BC2-813A-488F-8825-22E8C376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E30DF-0267-44BB-87AF-33A571D5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D184-FFB4-4631-A610-408EB1E6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D34FE-8BF1-4C50-A0A0-54E3A89A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94AF2-42DA-42E9-A058-D1560D28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033E8-82DA-45EF-97C8-36993C42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00FD0-778C-4A6E-850F-164A181D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82FF3-D278-43CD-AAC3-00F75E69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6D423-C5E1-4554-84F6-12CC8C62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9C942-D767-4EFE-9D58-8F35A707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5A5F2-6C6A-4A8D-8FD4-CE27C1CC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F8A8B-C01B-4810-BAB0-E267B81D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DD71F-D87F-4F37-A9F9-7AB9FCDB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69DE-8AD6-489A-8D9E-79B9A5A9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E0F7E-8650-42F0-BB30-F39514B3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22499-4156-4ACF-8873-092BA4A5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EAE10-078B-4E7A-97BE-BB91C051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3B5F0-912C-444A-8DEF-700D7637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5965A-AB37-4BAE-91A5-979774D3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67145-349A-453B-BAA4-450B06AD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55A8E-315A-4EBA-92BA-00283899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1482C-CB0F-44ED-8AA3-C24EC9D9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3264B-1084-4C21-94A2-466C53B0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0567F-32B0-44AE-AD79-B2818120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4FA-06DB-4C5B-968C-F7E1B080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DBC10-A552-4FA9-8B90-42ADBEB5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58052-8582-452C-91BE-BB07BAB9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E97EC-749D-4D6B-945E-86CFAE9A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97681-40E5-4B83-8B15-31AAEB91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27C34-F0BC-43B4-AE15-BD60B594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30459-535D-434C-A5C3-6B994F5A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0E72F-F27F-43B0-B781-0980436A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EAE06-5B58-49C2-895F-27DE358B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98737-C407-4649-A2EB-BF2DF7EC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9B916-FE1C-4E21-A9F7-5FFC6789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FC1E-FC52-45C1-B684-8FA2F15C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A19AB-4D87-4526-BF86-800F2B9B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B486C-B0DC-436F-B645-343DABD4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22F45-7BAD-46E4-ACE8-1EDB8716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73F83-90B9-4C6B-85C6-C21F7304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127BB-E26E-4FC4-A134-13C41AC5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90A50-FF6E-44C5-8627-0C35C3DA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9C51C-44FD-4BEF-80EF-A0C83909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93E23-96B4-4CAB-9C8D-BF58DC60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84350-F147-4D0B-9E59-4FA138D3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39721-FF55-4F4B-B280-8B7B029A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E30E-1839-467A-854F-66ECEBB426B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A9C8-8990-4069-85D5-91DBA36D715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4B45-CFE7-4059-BB5C-78AF8310742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2CEB-37FE-42DE-84F8-7C9FBD24D51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A974-D180-43E1-BA6D-8074F516B50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784A-CD7A-487D-A3C0-B450E597E14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D926-C017-4437-BD05-7473D1E53AB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9C0C-05D1-45F4-8C8D-2F5B0458CE7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B358-4E59-4910-8A1C-943A000AF38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6D8D-2F95-4DA6-8C72-39C67ACC40D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6D76-CBFE-4840-B4A1-67DF88A3F20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847F-B747-49B8-A2F5-E71C3E17A49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D67E-0540-4C62-8389-032AE680EE0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3634-51EB-4BD3-9AA3-621C1A33688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DCCC-EFEA-4D4D-862D-BC7853B59B9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BC7C-D659-4039-B944-D88E09C65EE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1DD6-5148-4F03-B01F-79DFF0C2635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9898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Урок географии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539280" y="1915920"/>
            <a:ext cx="820908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ГОРОДСКОЕ И СЕЛЬСКОЕ 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НАСЕЛЕНИЕ РОССИИ.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РАССЕЛЕНИЕ НАСЕЛЕНИЯ.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РАЗНООБРАЗИЕ СЕЛЬСКИХ НАСЕЛЕННЫХ ПУНКТОВ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еревн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ел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Хутор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таницы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Аулы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ереходная форма поселения- поселок городского тип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тличительные черты сельских населенных пунктов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1908000" y="2420640"/>
            <a:ext cx="65930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Село- школа, детский сад, больница, церковь, магазины, предприятия сельскохозяйственного назначения, служба быта и др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Деревня- поменьше села, нет церкви, есть ФАП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Хутор- несколько домов вдали от сел и деревень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ГТ- хорошо развита инфраструктура, есть промышленные предприятия, предприятия по переработке сельскохозяйственной продукции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Часто ПГТ являются районными центрами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entury Gothic"/>
              </a:rPr>
              <a:t>ДОЛЯ ГОРОДСКОГО И СЕЛЬСКОГО НАСЕЛЕНИЯ РОССИИ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404040"/>
                </a:solidFill>
                <a:latin typeface="Century Gothic"/>
              </a:rPr>
              <a:t>На долю городского приходится </a:t>
            </a:r>
            <a:endParaRPr b="0" lang="en-US" sz="3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0" lang="ru-RU" sz="3400" spc="-1" strike="noStrike">
                <a:solidFill>
                  <a:srgbClr val="404040"/>
                </a:solidFill>
                <a:latin typeface="Century Gothic"/>
              </a:rPr>
              <a:t>78% населения.</a:t>
            </a:r>
            <a:endParaRPr b="0" lang="en-US" sz="3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404040"/>
                </a:solidFill>
                <a:latin typeface="Century Gothic"/>
              </a:rPr>
              <a:t>На долю сельского приходится </a:t>
            </a:r>
            <a:endParaRPr b="0" lang="en-US" sz="3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0" lang="ru-RU" sz="3400" spc="-1" strike="noStrike">
                <a:solidFill>
                  <a:srgbClr val="404040"/>
                </a:solidFill>
                <a:latin typeface="Century Gothic"/>
              </a:rPr>
              <a:t>22% населения</a:t>
            </a:r>
            <a:endParaRPr b="0" lang="en-US" sz="3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Размещение населени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редняя плотность населения составляет 8,6 человека на 1 кв.к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Европейской части России плотность составляет 29 человек на 1 кв.к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Сибири- 2,5 человек на 1 кв.к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ВОПРОС: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С чем связано неравномерное распределение населения на территории России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Деревни и села Росси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1" name="Picture 2" descr="http://prv1.lori-images.net/traditsionnye-derevenskie-doma-na-russkom-severe-0002205937-preview.jpg"/>
          <p:cNvPicPr/>
          <p:nvPr/>
        </p:nvPicPr>
        <p:blipFill>
          <a:blip r:embed="rId1"/>
          <a:stretch/>
        </p:blipFill>
        <p:spPr>
          <a:xfrm>
            <a:off x="611280" y="1571760"/>
            <a:ext cx="79214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entury Gothic"/>
              </a:rPr>
              <a:t>Деревни бывают разные…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3" name="Picture 2" descr="Картинка 115 из 63472"/>
          <p:cNvPicPr/>
          <p:nvPr/>
        </p:nvPicPr>
        <p:blipFill>
          <a:blip r:embed="rId1"/>
          <a:stretch/>
        </p:blipFill>
        <p:spPr>
          <a:xfrm>
            <a:off x="395280" y="1143000"/>
            <a:ext cx="835344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395280" y="1557360"/>
            <a:ext cx="8291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6" name="Picture 2" descr="http://avtoshka.www.nn.ru/users/foto/304444-2011-11-18-top68.ru-svoyu-sudbu-my-tvorim-sami-1345.jpg"/>
          <p:cNvPicPr/>
          <p:nvPr/>
        </p:nvPicPr>
        <p:blipFill>
          <a:blip r:embed="rId1"/>
          <a:stretch/>
        </p:blipFill>
        <p:spPr>
          <a:xfrm>
            <a:off x="324000" y="765000"/>
            <a:ext cx="843912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Горный аул на Кавказе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8" name="Picture 2" descr="Картинка 180 из 63472"/>
          <p:cNvPicPr/>
          <p:nvPr/>
        </p:nvPicPr>
        <p:blipFill>
          <a:blip r:embed="rId1"/>
          <a:stretch/>
        </p:blipFill>
        <p:spPr>
          <a:xfrm>
            <a:off x="826920" y="1417680"/>
            <a:ext cx="698508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Село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0" name="Прямоугольник 2"/>
          <p:cNvSpPr/>
          <p:nvPr/>
        </p:nvSpPr>
        <p:spPr>
          <a:xfrm>
            <a:off x="2268360" y="314172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1" name="Picture 2" descr="Картинка 4 из 153452"/>
          <p:cNvPicPr/>
          <p:nvPr/>
        </p:nvPicPr>
        <p:blipFill>
          <a:blip r:embed="rId1"/>
          <a:stretch/>
        </p:blipFill>
        <p:spPr>
          <a:xfrm>
            <a:off x="539640" y="1511280"/>
            <a:ext cx="78487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Российский город Пермь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13" name="Picture 2" descr="Картинка 25 из 355898"/>
          <p:cNvPicPr/>
          <p:nvPr/>
        </p:nvPicPr>
        <p:blipFill>
          <a:blip r:embed="rId1"/>
          <a:stretch/>
        </p:blipFill>
        <p:spPr>
          <a:xfrm>
            <a:off x="324000" y="1143000"/>
            <a:ext cx="835164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ИЗ ИСТОРИ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Древней Руси насчитывалось около 300 город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Города создавались на реках- торговых путей. Самыми крупными городами Древней Руси были Новгород, Смоленск, Муром, Белозерск и др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период царствования Петра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на территории России было построено много новых городов, в т.ч. Санкт-Петербург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СЛОВАРЬ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ГОРОДСКАЯ АГЛОМЕРАЦИЯ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УРБАНИЗАЦИЯ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Задание: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Самостоятельно подготовить толкование терминов . Учебник п.41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XIX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еке были построены города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 Дальнем Востоке- Владивосток, Благовещенск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 Кавказе- Владикавказ,Грозный,Петровский порт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Южном Казахстане- Верный (Алматы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Эти города были опорными государственными пунктами, эащищающими границы импери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"/>
          <p:cNvSpPr txBox="1"/>
          <p:nvPr/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Советское время было построено 600 городов, которые являлись промышленными центрам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ного городов было построено на Севере страны в районах Сибири и Дальнего Восток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entury Gothic"/>
              </a:rPr>
              <a:t>Чем город отличается от деревни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Численностью населения (городом считается населенный пункт, где население превышает 12 тыс. человек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Функциональной особенностью населения ( городские жители заняты в различных отраслях промышленности, в науке,т.е. заняты несельскохозяйственной деятельностью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Классификация городов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1. по численности населения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1952280" y="242064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АЛЫЕ -  - до 20 тыс. жителе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БОЛЬШИЕ - более 100 тыс жителе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РУПНЫЕ -  более 250 тыс. жителе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РУПНЕЙШИЕ- более 500 тыс. жителе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ГОРОДА МИЛЛИОНЕРЫ- 1 млн и более жителе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2. По функциям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ЦЕНТРАЛЬНЫЕ МЕСТА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толица(Москва),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еофициальные столицы экономических районов -(Санкт-Петербург, Нижний Новгород,Новосибирск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Центры республик,краев, областей (Казань, Тверь и т.д.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ОТРАСЛЕВЫЕ ЦЕНТРЫ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омышленные центры (Нижний Тагил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ранспортные центры (порты Находка,Новороссийск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укограды (Обнинск,Зеленоград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уристические центры (Суздаль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Города-курорты (Сочи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СЕЛЬСКИЕ НАСЕЛЕННЫЕ ПУНКТЫ</a:t>
            </a: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  </a:t>
            </a: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Сельскими называют населенные пункты с населением менее 12 тыс. человек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Для жителей сельских населенных пунктов основной сферой деятельности является сельское хозяйство- земледелие,животноводство,птицевдство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Рыболовство и др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Плотность заселения сельских населенных пунктов зависит от плодородия почвы, наличия пастбищ,рек,близость транспортных путей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Село хранит традиции, город распространяет новое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6:06:50Z</dcterms:created>
  <dc:creator>пользователь</dc:creator>
  <dc:description/>
  <dc:language>en-US</dc:language>
  <cp:lastModifiedBy>школа</cp:lastModifiedBy>
  <dcterms:modified xsi:type="dcterms:W3CDTF">2020-04-05T11:33:57Z</dcterms:modified>
  <cp:revision>14</cp:revision>
  <dc:subject/>
  <dc:title>Урок географии, 9 класс</dc:title>
</cp:coreProperties>
</file>