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1882-9038-4034-83DF-54E98BA4E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1553-8932-4E1F-8472-F6DB23E25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EDF8-FEED-488F-8FB8-40241B404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E14C-7D1C-40B4-8163-9DA65173A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DEF77-E6BA-4126-8D0D-6D9946BF5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708F8-6D1C-426D-AA25-264AFA05F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D396D-8192-448D-84C5-7555E5C07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F7689-D4A0-4CE2-BCD8-8CE26E34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9C87E-6D07-44B1-9BE9-351C4B435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F26A8-8EED-47B6-8C7E-DC10C0941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3E220-111D-4FAC-A9B8-68BC65BA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C2BD-38BA-43BB-ABED-C08CF13F4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D5BE1-AAD1-4C1B-A299-3FE0BB15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31AC5-0A4D-4CF1-91D2-16D7DF00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D69AF-64D1-41AB-BC97-E4D949468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09FE4-B268-4379-BFFC-D215FFC39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3A1D9-0BAA-476D-A6E2-760181970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092E-BE7A-4B2A-9E8A-3FB89A5E4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8581-D77A-47C4-91D2-92A6BC786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C105-F4CD-4F04-BA3E-A3BA73986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873D-44AC-4020-9507-71AF325A0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210E-8750-47A0-AD38-A0685E4E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B181-487D-4AC9-AC04-ED8E5CAE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D06D-BDB9-4140-B3DF-42B28BB5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F7AD2-61BD-41EC-88CF-A67811525763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B39FF-7C5B-4213-8356-0AD97F2A1C2B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7d47d"/>
                </a:solidFill>
                <a:latin typeface="Arial"/>
              </a:rPr>
              <a:t>Имя прилагательное</a:t>
            </a:r>
            <a:endParaRPr b="0" lang="en-US" sz="6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2 класс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Найдите лишнее слово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Стальной, зимняя, весна, слабый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Аккуратный, весенний, субботний, сосновый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Сладкий, кожаный, горький, солёный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Кислый, белый, оранжевый, зелёный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50920" y="549000"/>
            <a:ext cx="7386480" cy="4497480"/>
          </a:xfrm>
          <a:prstGeom prst="rect">
            <a:avLst/>
          </a:prstGeom>
          <a:noFill/>
          <a:ln w="9360">
            <a:solidFill>
              <a:srgbClr val="2f131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Для чего нужны имена прилагательные в речи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Что обозначают имена прилагательные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На какие вопросы отвечает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Молодцы!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Запиши словарные слова, вставляя нужные буквы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М_сква, к_р_ндаш, л_пата, п_льто, з_яц, д_ревня, м_дведь, с_бака, с_поги, вет_р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Проверьте словарные слова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Arial"/>
              </a:rPr>
              <a:t>Москва, карандаш, лопата, пальто, заяц, деревня, медведь, собака, сапоги, ветер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764640"/>
            <a:ext cx="751680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Прочитайте слова, найдите лишнее.Объясните , почему оно лишнее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920" y="2781360"/>
            <a:ext cx="738648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1311"/>
                </a:solidFill>
                <a:latin typeface="Arial"/>
              </a:rPr>
              <a:t>Город, городской, городок, пригород.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Отгадайте загадку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Птица  ________________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Птица  _______________,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Самая _______________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Отгадайте загадку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Птица  длиннохвостая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Птица  говорливая,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Самая болтливая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Отгадайте, что это или кто это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Холодный, белый, пушистый _____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Косолапый, бурый, большой _____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Белый, душистый, лесной _______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Хитрая, пушистая, рыжая ______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Жёлтые ,красные, осенние _______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Выпишите имена прилагательные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705636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Лес точно терем расписной,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Лиловый, золотой, багряный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Весёлой пестрою стеной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Стоит над светлою поляной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Берёзы жёлтою резьбой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Блестят в лазури голубой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ак вышки ёлочки темнею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А между клёнами синею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То там, то здесь в листве сквозной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росветы в небо, что оконц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Проверьте имена прилагательные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705636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____ _______ _____ расписной,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Лиловый, золотой, багряный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Весёлой пестрою _________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_____ ___ светлою ______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______ жёлтою _______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_______ _ ______ голубой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___ _____ ______ _______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_ _____ _______ ______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__ ___ _ ______ сквозной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________ _ ____, ___ ______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1T14:31:07Z</dcterms:created>
  <dc:creator>Андрей</dc:creator>
  <dc:description/>
  <dc:language>en-US</dc:language>
  <cp:lastModifiedBy>Андрей</cp:lastModifiedBy>
  <dcterms:modified xsi:type="dcterms:W3CDTF">2012-02-12T14:27:30Z</dcterms:modified>
  <cp:revision>3</cp:revision>
  <dc:subject/>
  <dc:title>Имя прилагательное</dc:title>
</cp:coreProperties>
</file>