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3.gif" ContentType="image/gif"/>
  <Override PartName="/ppt/media/image6.png" ContentType="image/png"/>
  <Override PartName="/ppt/media/image4.jpeg" ContentType="image/jpeg"/>
  <Override PartName="/ppt/media/image2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30-38EF-4204-9428-9DCBE767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A9C-13D7-4E15-9B4F-31E57C71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3AF-2FAD-4D20-959C-BB4FD09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EEB-DAF3-4736-BE78-2A173489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F58-C199-4B48-BC15-A22E31A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EDA-1BA3-4988-A0EE-1305D79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8E0-53D9-46D3-BB25-178C49E8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4EB-1EF3-4D2F-9DAE-4F36D054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BBD-A360-429E-BFB6-1DC1AD78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764-2024-4F34-9FD2-B720579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AD9-15C6-4E2A-A7A7-FBE003E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547-55AB-4E2E-AF90-266FEC0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D9C-C5E8-4232-923E-0D2CD0BE5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008.html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595.html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бораторная работа №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УД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 Механизация работ по возделыванию овощных культур в культивационных сооружениях различных ти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book"/>
          <p:cNvPicPr/>
          <p:nvPr/>
        </p:nvPicPr>
        <p:blipFill>
          <a:blip r:embed="rId1"/>
          <a:stretch/>
        </p:blipFill>
        <p:spPr>
          <a:xfrm>
            <a:off x="3733920" y="838080"/>
            <a:ext cx="12952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меситель торфоперегнойной смеси СГТ-3,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назначен для приготовления торфоперегнойной смеси при поделке питательных горшочков непосредственно в парни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ые узлы и механиз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57040" y="160020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МЕСИТЕЛЬ ТОРФОПЕРЕГНОЙНОЙ МАССЫ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 стационарная машина для приготовления почвенных смесей для теплиц. Осн. узлы С. т. м. —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бункера-дозаторы, загрузочный транспортёр [транспортер] с банками для минер. удобрении, грохот, смеситель, выгрузной транспортёр [транспортер], пульт управления.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Привод рабочих органов — от электродвигателя. Почвенная смесь (до трёх [трех] компонентов) из бункеров с дозирующими устройствами загрузочным транспортёром [транспортером] подаётся [подается] на грохо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портер - просеиватель ТП-5-3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ситель работает совместно с транспортером -просеивателем ТП-5-30. Через заправочный люк транспортер загружает просеянную и измельченную массу компоста в смесительную кам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48320" y="3454560"/>
            <a:ext cx="4306680" cy="294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nfocompany.biz/img/content/i1154/1154501.gif"/>
          <p:cNvPicPr/>
          <p:nvPr/>
        </p:nvPicPr>
        <p:blipFill>
          <a:blip r:embed="rId2"/>
          <a:stretch/>
        </p:blipFill>
        <p:spPr>
          <a:xfrm>
            <a:off x="152280" y="3429000"/>
            <a:ext cx="44960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а ИГТ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фоперегнойные горшочки для выращивания рассады овощных культур изготовляют на машине ИГТ-10. Ее основной рабочий орган — пресс-форма, обеспечивающая изготовление горшочков размерами 50 х 50, 60 х 60, 80 х 80 и 100 х 100 мм (производительность соответственно 9620, 7600, 6508 и 4022 горшочка в час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i?id=5cf61e28fdab8be1dfd8d4d7da7b1393&amp;n=33&amp;h=190&amp;w=281"/>
          <p:cNvPicPr/>
          <p:nvPr/>
        </p:nvPicPr>
        <p:blipFill>
          <a:blip r:embed="rId1"/>
          <a:stretch/>
        </p:blipFill>
        <p:spPr>
          <a:xfrm>
            <a:off x="5329080" y="2957400"/>
            <a:ext cx="26766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1426494"/>
          <p:cNvPicPr/>
          <p:nvPr/>
        </p:nvPicPr>
        <p:blipFill>
          <a:blip r:embed="rId2"/>
          <a:stretch/>
        </p:blipFill>
        <p:spPr>
          <a:xfrm>
            <a:off x="4800600" y="1752480"/>
            <a:ext cx="1503360" cy="155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0406154-2590-D31A-4094E3354C8E5B51"/>
          <p:cNvPicPr/>
          <p:nvPr/>
        </p:nvPicPr>
        <p:blipFill>
          <a:blip r:embed="rId3"/>
          <a:stretch/>
        </p:blipFill>
        <p:spPr>
          <a:xfrm>
            <a:off x="6858000" y="1752480"/>
            <a:ext cx="1558800" cy="110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getImage?photoId=474245184669&amp;photoType=0"/>
          <p:cNvPicPr/>
          <p:nvPr/>
        </p:nvPicPr>
        <p:blipFill>
          <a:blip r:embed="rId4"/>
          <a:stretch/>
        </p:blipFill>
        <p:spPr>
          <a:xfrm>
            <a:off x="4952880" y="4952880"/>
            <a:ext cx="1694160" cy="1694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4e53ad16bff4fb42b922ff2d2c5b8e0"/>
          <p:cNvPicPr/>
          <p:nvPr/>
        </p:nvPicPr>
        <p:blipFill>
          <a:blip r:embed="rId5"/>
          <a:stretch/>
        </p:blipFill>
        <p:spPr>
          <a:xfrm>
            <a:off x="7391520" y="4724280"/>
            <a:ext cx="1288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а ИГТ-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 машина следующим образом: смесь из бункера конвейером подается под пресс-форму во время ее движения в верхнее положение. При движении в нижнее положение методом штамповки формируются горшочки заданного размера. При рабочем ходе пресс-формы конвейер остается неподвижным. Ход ленты конвейера регулируется в зависимости от размера горшочков. Горшочки снимаются с ленты специальными лопат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agro-a-38"/>
          <p:cNvPicPr/>
          <p:nvPr/>
        </p:nvPicPr>
        <p:blipFill>
          <a:blip r:embed="rId1"/>
          <a:stretch/>
        </p:blipFill>
        <p:spPr>
          <a:xfrm>
            <a:off x="533520" y="1981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22400" y="914400"/>
            <a:ext cx="7111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д работ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нимательно изучите общие указ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Заполните таблиц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е ситуационны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a29038e3f7639887aea70b1818307a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495680"/>
            <a:ext cx="885600" cy="15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G00013_"/>
          <p:cNvPicPr/>
          <p:nvPr/>
        </p:nvPicPr>
        <p:blipFill>
          <a:blip r:embed="rId3"/>
          <a:stretch/>
        </p:blipFill>
        <p:spPr>
          <a:xfrm>
            <a:off x="7086600" y="304920"/>
            <a:ext cx="1287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Таблица №1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Машины и станки для изготовления торфоперегнойных горшочков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381880" cy="3268800"/>
        </p:xfrm>
        <a:graphic>
          <a:graphicData uri="http://schemas.openxmlformats.org/drawingml/2006/table">
            <a:tbl>
              <a:tblPr/>
              <a:tblGrid>
                <a:gridCol w="2057400"/>
                <a:gridCol w="2286000"/>
                <a:gridCol w="1828800"/>
                <a:gridCol w="2209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агрегата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Характеристика процесса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сновные узлы и механи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роизводительность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М-8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ГТ-3,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30" descr="78ce56ae5fa75ac85e3ab5e321d88a9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257800"/>
            <a:ext cx="243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читайте потребность в почвенных смесях по кубатуре и по весу в соответствии с планом выращивания расса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рассада ранней капусты в 50 парни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17"/>
          <p:cNvPicPr/>
          <p:nvPr/>
        </p:nvPicPr>
        <p:blipFill>
          <a:blip r:embed="rId1"/>
          <a:stretch/>
        </p:blipFill>
        <p:spPr>
          <a:xfrm>
            <a:off x="4114800" y="457200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Рассчитать сколько земляной смеси войдет под 1 раму при соответствующей толщине засыпки. Размер одной рамы 1,6м * 1,2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 рассаду для ранней капусты толщина засыпки 5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араметры переводим в мет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ходим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емли под одну ра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17"/>
          <p:cNvPicPr/>
          <p:nvPr/>
        </p:nvPicPr>
        <p:blipFill>
          <a:blip r:embed="rId1"/>
          <a:stretch/>
        </p:blipFill>
        <p:spPr>
          <a:xfrm>
            <a:off x="7467480" y="50292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G00021_"/>
          <p:cNvPicPr/>
          <p:nvPr/>
        </p:nvPicPr>
        <p:blipFill>
          <a:blip r:embed="rId2"/>
          <a:stretch/>
        </p:blipFill>
        <p:spPr>
          <a:xfrm>
            <a:off x="228600" y="152280"/>
            <a:ext cx="1108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Раздел 1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ханизация и автоматизация производственных процессов в овощеводстве защищенного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ема: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чет потребности механизированных производственных процессов для приготовления почвенных смесей и торфоперегнойных горшоч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04_zst"/>
          <p:cNvPicPr/>
          <p:nvPr/>
        </p:nvPicPr>
        <p:blipFill>
          <a:blip r:embed="rId1"/>
          <a:stretch/>
        </p:blipFill>
        <p:spPr>
          <a:xfrm>
            <a:off x="4191120" y="4267080"/>
            <a:ext cx="1488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Узнать сколько земли на все парники. Если каждый парник состоит из 20 парниковых р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AG00021_"/>
          <p:cNvPicPr/>
          <p:nvPr/>
        </p:nvPicPr>
        <p:blipFill>
          <a:blip r:embed="rId1"/>
          <a:stretch/>
        </p:blipFill>
        <p:spPr>
          <a:xfrm>
            <a:off x="990720" y="4419720"/>
            <a:ext cx="1245960" cy="171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7"/>
          <p:cNvPicPr/>
          <p:nvPr/>
        </p:nvPicPr>
        <p:blipFill>
          <a:blip r:embed="rId2"/>
          <a:stretch/>
        </p:blipFill>
        <p:spPr>
          <a:xfrm>
            <a:off x="7010280" y="44197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Состав смеси земли для капусты: перегной – 2 части, дерновая земля – 1 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знать сколько потребуется этих частей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AG00021_"/>
          <p:cNvPicPr/>
          <p:nvPr/>
        </p:nvPicPr>
        <p:blipFill>
          <a:blip r:embed="rId1"/>
          <a:stretch/>
        </p:blipFill>
        <p:spPr>
          <a:xfrm>
            <a:off x="838080" y="4191120"/>
            <a:ext cx="152244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7"/>
          <p:cNvPicPr/>
          <p:nvPr/>
        </p:nvPicPr>
        <p:blipFill>
          <a:blip r:embed="rId2"/>
          <a:stretch/>
        </p:blipFill>
        <p:spPr>
          <a:xfrm>
            <a:off x="6572160" y="4191120"/>
            <a:ext cx="1886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Узнать сколько тонн следует завести, если уд. вес – дерновой земли – 1,2т/м, перегноя – 0,8т/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AG00021_"/>
          <p:cNvPicPr/>
          <p:nvPr/>
        </p:nvPicPr>
        <p:blipFill>
          <a:blip r:embed="rId1"/>
          <a:stretch/>
        </p:blipFill>
        <p:spPr>
          <a:xfrm>
            <a:off x="539640" y="3886200"/>
            <a:ext cx="146844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7"/>
          <p:cNvPicPr/>
          <p:nvPr/>
        </p:nvPicPr>
        <p:blipFill>
          <a:blip r:embed="rId2"/>
          <a:stretch/>
        </p:blipFill>
        <p:spPr>
          <a:xfrm>
            <a:off x="6566040" y="3962520"/>
            <a:ext cx="1815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дание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считайте потребность в почвенных смесях по кубатуре и по весу в для изготовления торфяных горшочков в соответствии с планом выращивания рассады и овощ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хозяйстве имеется теплица площадью 3га. Необходимо высадить 3000 штук рассады огурца, для этого нужно изготовить 3000 штук торфяных горшоч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. Рассчитайте расход почвосмеси в натуральном выражении, если мы имеем контрольные цифры для изготовления 1000 штук торфяных горшоч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image690"/>
          <p:cNvPicPr/>
          <p:nvPr/>
        </p:nvPicPr>
        <p:blipFill>
          <a:blip r:embed="rId1"/>
          <a:stretch/>
        </p:blipFill>
        <p:spPr>
          <a:xfrm>
            <a:off x="7010280" y="152280"/>
            <a:ext cx="1584360" cy="137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205402"/>
          <p:cNvPicPr/>
          <p:nvPr/>
        </p:nvPicPr>
        <p:blipFill>
          <a:blip r:embed="rId2"/>
          <a:stretch/>
        </p:blipFill>
        <p:spPr>
          <a:xfrm>
            <a:off x="0" y="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2. Полученные контрольные цифры внесите в таблицу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2209680"/>
                <a:gridCol w="327672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3000 торфяных горшоч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79" descr="17"/>
          <p:cNvPicPr/>
          <p:nvPr/>
        </p:nvPicPr>
        <p:blipFill>
          <a:blip r:embed="rId1"/>
          <a:stretch/>
        </p:blipFill>
        <p:spPr>
          <a:xfrm>
            <a:off x="6477120" y="3276720"/>
            <a:ext cx="1676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лученные контрольные циф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3000 торфяных горшоч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7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7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оэффициент механизации (автоматизации) труда для изготовления 3000 торфяных горшочков по форму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м.т=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N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м+N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м – количество рабочих, занятых на механизированных (автоматизированных) работах, чел.; (4 чело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р – количество рабочих, выполняющих ручные операции; (3 чело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AG00021_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7"/>
          <p:cNvPicPr/>
          <p:nvPr/>
        </p:nvPicPr>
        <p:blipFill>
          <a:blip r:embed="rId2"/>
          <a:stretch/>
        </p:blipFill>
        <p:spPr>
          <a:xfrm>
            <a:off x="0" y="0"/>
            <a:ext cx="146700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095667"/>
          <p:cNvPicPr/>
          <p:nvPr/>
        </p:nvPicPr>
        <p:blipFill>
          <a:blip r:embed="rId3"/>
          <a:stretch/>
        </p:blipFill>
        <p:spPr>
          <a:xfrm>
            <a:off x="6095880" y="304920"/>
            <a:ext cx="892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Контрольный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сновные показатели, характеризующие уровень механизации и автомат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Рисунок9"/>
          <p:cNvPicPr/>
          <p:nvPr/>
        </p:nvPicPr>
        <p:blipFill>
          <a:blip r:embed="rId1"/>
          <a:stretch/>
        </p:blipFill>
        <p:spPr>
          <a:xfrm>
            <a:off x="914400" y="20574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Контрольный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2. Назовите машины и станки для изготовления торфоперегнойных горшоч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Рисунок9"/>
          <p:cNvPicPr/>
          <p:nvPr/>
        </p:nvPicPr>
        <p:blipFill>
          <a:blip r:embed="rId1"/>
          <a:stretch/>
        </p:blipFill>
        <p:spPr>
          <a:xfrm>
            <a:off x="609480" y="1981080"/>
            <a:ext cx="2895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бестоимость изготовл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1 000 торфяных горшоч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56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ен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7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0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энергия, квт/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Цель зан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чить практические навыки в самостоятельном производстве расчетов потребности механизированных производственных процессов в почвенных смесях и торфоперегнойных горшочков для хозяй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724280"/>
            <a:ext cx="1089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ого себестоимость изготовления 1 000 шт., руб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21,669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ые материальные издержки на изготовления 360 000 торфостаканчиков составляют 79 200 руб. (0,22 руб. * 360 000 ш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Механизация производственных процес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значает замену ручного труда машинами, механизмами и другой техни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Частичная меха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 механизированном производстве значительная часть трудовых операций выполняется машинами и механизмами, меньшая - вручну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Комплексная меха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плексная механизация возделывания овощных культур предусматривает внедрение в производство системы высокопроизводительных машин, обеспечивающей полную механизацию потребности в почвенных смесях и торфоперегнойных горшочков, посева, посадки, внесения удобрений, ухода, уборки, сортирования, погрузки, транспортировки и других работ с учетом зональных и хозяйственных условий при минимальных затратах труда и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Значение мех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ханизация процессов производства овощей дает возможность облегчить труд овощеводов, поднять его производительность и снизить себестоимость продукции. Применение машин позволяет проводить все работы в лучшие агротехнические ср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меситель СТМ-8/2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Из приспособлений специального назначения для приготовления грунтов и почвенных смесей используют смеситель СТМ-8/20 с дозирующим устройством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7" descr="Картинки по запросу смеситель СТМ-8/20"/>
          <p:cNvPicPr/>
          <p:nvPr/>
        </p:nvPicPr>
        <p:blipFill>
          <a:blip r:embed="rId1"/>
          <a:stretch/>
        </p:blipFill>
        <p:spPr>
          <a:xfrm>
            <a:off x="380880" y="1523880"/>
            <a:ext cx="426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меситель СТМ-8/2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и помощи погрузчиков ПЭ-0,8Б, ПБ-35 или ПФП-1,2 в каждый бункер (их три) загружают компоненты смеси, количество которых регулируется шиберными заслонками, установленными в бункерах. Смесь вначале поступает на грохот, где отделяются примеси. Просеянная масса поступает на роторный смеситель, из которого выгружается в транспортное средст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Картинки по запросу смеситель СТМ-8/20"/>
          <p:cNvPicPr/>
          <p:nvPr/>
        </p:nvPicPr>
        <p:blipFill>
          <a:blip r:embed="rId1"/>
          <a:stretch/>
        </p:blipFill>
        <p:spPr>
          <a:xfrm>
            <a:off x="609480" y="1600200"/>
            <a:ext cx="381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</cp:lastModifiedBy>
  <dcterms:modified xsi:type="dcterms:W3CDTF">2020-04-05T13:05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