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31.gif" ContentType="image/gif"/>
  <Override PartName="/ppt/media/image1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34.jpeg" ContentType="image/jpeg"/>
  <Override PartName="/ppt/media/image18.png" ContentType="image/png"/>
  <Override PartName="/ppt/media/image35.png" ContentType="image/png"/>
  <Override PartName="/ppt/media/image5.jpeg" ContentType="image/jpeg"/>
  <Override PartName="/ppt/media/image40.png" ContentType="image/png"/>
  <Override PartName="/ppt/media/image20.png" ContentType="image/png"/>
  <Override PartName="/ppt/media/image36.jpeg" ContentType="image/jpeg"/>
  <Override PartName="/ppt/media/image41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ECC-6A36-4F8A-8E59-D16B8FB9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521-3236-4E3D-880C-B9C3C983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8F6-5C6F-49C3-B77B-906C2493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D51-D5AA-4020-BC00-2E4EE202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3570-2334-4731-B21B-886A9F08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3340-D93E-434D-BE62-7B61C24A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A2A2-575F-4CF3-BD9B-5300D214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48D1-3E7B-4A7B-A6E4-47D2F189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8C0D-0980-4D3A-B7BD-4BCCB789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AB52-1EC7-43D8-A550-9E945AA4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2B40-7158-46A6-83BB-40C8317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40A-DDFE-47B0-B1A4-2C320656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8E5E-6068-471C-BC88-DEAFCCB7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0414-3F05-472E-849A-B26308E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4BC8-6154-4F5D-8EEC-377808BA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0EDF-2AB9-4E95-804F-1BA9990A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24B3-1723-4FE7-990A-121AACE8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BD0-12D5-4233-8352-2DCC12F0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006-7444-4B93-9BA8-46084E35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F4C-2220-4624-938B-9CBD36D2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962-D56E-4B2A-A3C5-9DFED24D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48D-8999-40CE-9B72-858949E7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436-6CE9-4D93-BBB8-9357DED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562-445C-4629-A100-11F2EF1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E901-3478-4E05-9F1D-C13070651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04F1-87A7-49A0-A8AA-389C2E9CD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1258920" y="1125360"/>
            <a:ext cx="6264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ма урока: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локо и молочные продукты. Блюда из молока и молочных проду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4582.jpg"/>
          <p:cNvPicPr/>
          <p:nvPr/>
        </p:nvPicPr>
        <p:blipFill>
          <a:blip r:embed="rId1"/>
          <a:stretch/>
        </p:blipFill>
        <p:spPr>
          <a:xfrm>
            <a:off x="1835280" y="3141720"/>
            <a:ext cx="374472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781200" y="66600"/>
            <a:ext cx="7581600" cy="1401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тдельно отварить в воде крупу, макаронные изделия или овощи до полуготовности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Развести сухое или сгущенное молоко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Вскипятить молоко, добавить в крупу, макароны или овощи и посолить, варить до готовности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Если использовать цельное (без добавления воды) молоко, то в кипящее молоко добавить соль, сахар, положить крупу, макароны или овощи и варить до готовности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7" name="Рисунок 3" descr="sup_molochnyj_s_grenkami.jpg"/>
          <p:cNvPicPr/>
          <p:nvPr/>
        </p:nvPicPr>
        <p:blipFill>
          <a:blip r:embed="rId7"/>
          <a:srcRect l="0" t="17635" r="0" b="0"/>
          <a:stretch/>
        </p:blipFill>
        <p:spPr>
          <a:xfrm>
            <a:off x="1619280" y="4365720"/>
            <a:ext cx="2016000" cy="19494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c8d6254c2632f7ab82575d55f6d9b34a.jpg"/>
          <p:cNvPicPr/>
          <p:nvPr/>
        </p:nvPicPr>
        <p:blipFill>
          <a:blip r:embed="rId8"/>
          <a:stretch/>
        </p:blipFill>
        <p:spPr>
          <a:xfrm>
            <a:off x="4427640" y="4508640"/>
            <a:ext cx="230508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652320" y="66600"/>
            <a:ext cx="8064720" cy="1401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Приготовленные блюда должны иметь соответствующую консистенцию: суп — жидкий, каша— вязкая или жидкая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Форма продуктов, входящих в суп, должна быть сохранена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Цвет молочных супа или каши — белый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Вкус супа или каши должен быть сладковатый, слабо­соленый, без привкуса и запаха подгорелого молока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31" name="Рисунок 6" descr="91468f5b7b380dbe931105e6c5ab9832_XL.jpg"/>
          <p:cNvPicPr/>
          <p:nvPr/>
        </p:nvPicPr>
        <p:blipFill>
          <a:blip r:embed="rId7"/>
          <a:stretch/>
        </p:blipFill>
        <p:spPr>
          <a:xfrm>
            <a:off x="1187280" y="3789360"/>
            <a:ext cx="3681720" cy="21924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kasha-risovaya-molochnaya-_1290554602_0.jpg"/>
          <p:cNvPicPr/>
          <p:nvPr/>
        </p:nvPicPr>
        <p:blipFill>
          <a:blip r:embed="rId8"/>
          <a:stretch/>
        </p:blipFill>
        <p:spPr>
          <a:xfrm>
            <a:off x="5724360" y="3357720"/>
            <a:ext cx="2874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5553000" y="1768320"/>
            <a:ext cx="2957760" cy="324828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3" descr="Печать0118"/>
          <p:cNvPicPr/>
          <p:nvPr/>
        </p:nvPicPr>
        <p:blipFill>
          <a:blip r:embed="rId2"/>
          <a:stretch/>
        </p:blipFill>
        <p:spPr>
          <a:xfrm>
            <a:off x="1187280" y="1700280"/>
            <a:ext cx="4464360" cy="3816360"/>
          </a:xfrm>
          <a:prstGeom prst="rect">
            <a:avLst/>
          </a:prstGeom>
          <a:ln w="0">
            <a:noFill/>
          </a:ln>
        </p:spPr>
      </p:pic>
      <p:pic>
        <p:nvPicPr>
          <p:cNvPr id="135" name="Заголовок 1" descr=""/>
          <p:cNvPicPr/>
          <p:nvPr/>
        </p:nvPicPr>
        <p:blipFill>
          <a:blip r:embed="rId3"/>
          <a:stretch/>
        </p:blipFill>
        <p:spPr>
          <a:xfrm>
            <a:off x="822240" y="371520"/>
            <a:ext cx="7358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725400" y="66600"/>
            <a:ext cx="7680240" cy="140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58560" y="1557000"/>
            <a:ext cx="3817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Йогурт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Майонез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Варенье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Творожные сырки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Крахмал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Пахта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Кисель вишнёвый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Мороженное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Масло топлённое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38" name="Picture 13" descr="C32-10"/>
          <p:cNvPicPr/>
          <p:nvPr/>
        </p:nvPicPr>
        <p:blipFill>
          <a:blip r:embed="rId11"/>
          <a:stretch/>
        </p:blipFill>
        <p:spPr>
          <a:xfrm>
            <a:off x="5364000" y="1628640"/>
            <a:ext cx="31784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758160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186920" y="1341360"/>
            <a:ext cx="2737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дукт: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олоко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метана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ыр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асло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ворог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ливки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27640" y="1413000"/>
            <a:ext cx="374472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роки хранения: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. 36 часов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Б.  24 часа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В. 15 суток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.  20 часов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Д. 72 часа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1276560" y="5084640"/>
            <a:ext cx="69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ЗАПИСИ ОТВЕТА В ТЕТРАДЬ: МОЛОКО - 20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19280" y="268200"/>
            <a:ext cx="769284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DETAIL_PICTURE_524942.jpg"/>
          <p:cNvPicPr/>
          <p:nvPr/>
        </p:nvPicPr>
        <p:blipFill>
          <a:blip r:embed="rId2"/>
          <a:stretch/>
        </p:blipFill>
        <p:spPr>
          <a:xfrm>
            <a:off x="5940360" y="2276640"/>
            <a:ext cx="2594160" cy="1944360"/>
          </a:xfrm>
          <a:prstGeom prst="rect">
            <a:avLst/>
          </a:prstGeom>
          <a:ln w="0">
            <a:noFill/>
          </a:ln>
        </p:spPr>
      </p:pic>
      <p:sp>
        <p:nvSpPr>
          <p:cNvPr id="86" name="Скругленный прямоугольник 3"/>
          <p:cNvSpPr/>
          <p:nvPr/>
        </p:nvSpPr>
        <p:spPr>
          <a:xfrm>
            <a:off x="1116000" y="1268280"/>
            <a:ext cx="4751280" cy="5763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к – 3,5 -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1116000" y="2133720"/>
            <a:ext cx="4751280" cy="574560"/>
          </a:xfrm>
          <a:prstGeom prst="roundRect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р – 4 – 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7"/>
          <p:cNvSpPr/>
          <p:nvPr/>
        </p:nvSpPr>
        <p:spPr>
          <a:xfrm>
            <a:off x="1116000" y="2924280"/>
            <a:ext cx="4751280" cy="57600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– 8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8"/>
          <p:cNvSpPr/>
          <p:nvPr/>
        </p:nvSpPr>
        <p:spPr>
          <a:xfrm>
            <a:off x="1116000" y="3645000"/>
            <a:ext cx="4751280" cy="576000"/>
          </a:xfrm>
          <a:prstGeom prst="roundRect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еральные вещества – 0,7 % (кальций, фосфор, желез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9"/>
          <p:cNvSpPr/>
          <p:nvPr/>
        </p:nvSpPr>
        <p:spPr>
          <a:xfrm>
            <a:off x="1116000" y="4437000"/>
            <a:ext cx="4751280" cy="576360"/>
          </a:xfrm>
          <a:prstGeom prst="roundRect">
            <a:avLst>
              <a:gd name="adj" fmla="val 500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тамины (А. В, С, Д и д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0"/>
          <p:cNvSpPr/>
          <p:nvPr/>
        </p:nvSpPr>
        <p:spPr>
          <a:xfrm>
            <a:off x="1116000" y="5229360"/>
            <a:ext cx="4751280" cy="60624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й сахар – 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758160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астеризованное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молоко – это молоко, нагретое до температуры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72-75°С,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убивающей болезнетворные микробы, при этом происходит минимальное изменение качества продукта. Срок хранения пастеризованного молока  при температуре 0…-6°С от 2 до 5 суток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716000" y="1268280"/>
            <a:ext cx="40388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терилизованное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молоко получают путём нагрева его до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120 - 140°С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, при такой температуре погибают все микробы и частично полезные для организма вещества. Стерилизованное молоко удобно тем, что в герметичной упаковке его можно долго хранить – до четырёх месяцев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95" name="Рисунок 4" descr="post-134-1166869825.jpg"/>
          <p:cNvPicPr/>
          <p:nvPr/>
        </p:nvPicPr>
        <p:blipFill>
          <a:blip r:embed="rId4"/>
          <a:stretch/>
        </p:blipFill>
        <p:spPr>
          <a:xfrm>
            <a:off x="1395360" y="4645080"/>
            <a:ext cx="2481480" cy="1865160"/>
          </a:xfrm>
          <a:prstGeom prst="rect">
            <a:avLst/>
          </a:prstGeom>
          <a:ln w="0">
            <a:noFill/>
          </a:ln>
        </p:spPr>
      </p:pic>
      <p:sp>
        <p:nvSpPr>
          <p:cNvPr id="96" name="Содержимое 3"/>
          <p:cNvSpPr/>
          <p:nvPr/>
        </p:nvSpPr>
        <p:spPr>
          <a:xfrm>
            <a:off x="4211640" y="4941720"/>
            <a:ext cx="4038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КОНСЕРВИРОВ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9280" y="333000"/>
            <a:ext cx="82803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Все молочные продукты принято условно подразделять на следующие группы: цельномолочные продукты, масло, сыры, молочные консервы, сухие молочные продукты, мороженое, молочный сахар и т. п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042920" y="2708280"/>
            <a:ext cx="2233800" cy="2233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3635280" y="3141720"/>
            <a:ext cx="1152720" cy="151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5076720" y="3284640"/>
            <a:ext cx="1152720" cy="136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2987640" y="508464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6"/>
          <a:stretch/>
        </p:blipFill>
        <p:spPr>
          <a:xfrm>
            <a:off x="6588000" y="3068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7"/>
          <a:stretch/>
        </p:blipFill>
        <p:spPr>
          <a:xfrm>
            <a:off x="1187280" y="5300640"/>
            <a:ext cx="1440000" cy="125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8"/>
          <a:stretch/>
        </p:blipFill>
        <p:spPr>
          <a:xfrm>
            <a:off x="4788000" y="4797360"/>
            <a:ext cx="21603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-6480" y="237960"/>
            <a:ext cx="4187880" cy="1468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28796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оз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вц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Буйволиц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обылиц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Верблюдиц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Самка як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Самка зебу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оров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У нас в России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традиционным является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оровье молоко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07" name="Picture 4" descr="k_551"/>
          <p:cNvPicPr/>
          <p:nvPr/>
        </p:nvPicPr>
        <p:blipFill>
          <a:blip r:embed="rId10"/>
          <a:srcRect l="20013" t="15393" r="0" b="0"/>
          <a:stretch/>
        </p:blipFill>
        <p:spPr>
          <a:xfrm>
            <a:off x="5435640" y="549360"/>
            <a:ext cx="1727280" cy="158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11"/>
          <a:stretch/>
        </p:blipFill>
        <p:spPr>
          <a:xfrm>
            <a:off x="6948360" y="3645000"/>
            <a:ext cx="1771920" cy="178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12"/>
          <a:stretch/>
        </p:blipFill>
        <p:spPr>
          <a:xfrm>
            <a:off x="3276720" y="371628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13"/>
          <a:srcRect l="0" t="10955" r="0" b="23316"/>
          <a:stretch/>
        </p:blipFill>
        <p:spPr>
          <a:xfrm>
            <a:off x="3564000" y="549360"/>
            <a:ext cx="177156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14"/>
          <a:stretch/>
        </p:blipFill>
        <p:spPr>
          <a:xfrm>
            <a:off x="3492360" y="1989000"/>
            <a:ext cx="1584360" cy="165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15"/>
          <a:srcRect l="0" t="14049" r="0" b="0"/>
          <a:stretch/>
        </p:blipFill>
        <p:spPr>
          <a:xfrm>
            <a:off x="5219640" y="2276640"/>
            <a:ext cx="1908360" cy="122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16"/>
          <a:stretch/>
        </p:blipFill>
        <p:spPr>
          <a:xfrm>
            <a:off x="7236000" y="1197000"/>
            <a:ext cx="1584000" cy="230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an01296_"/>
          <p:cNvPicPr/>
          <p:nvPr/>
        </p:nvPicPr>
        <p:blipFill>
          <a:blip r:embed="rId17"/>
          <a:srcRect l="0" t="0" r="13890" b="0"/>
          <a:stretch/>
        </p:blipFill>
        <p:spPr>
          <a:xfrm>
            <a:off x="4716360" y="3645000"/>
            <a:ext cx="22320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676440" y="360360"/>
            <a:ext cx="3541680" cy="1614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769752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Творог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Масло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метану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ефир                  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Йогурт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ыр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8"/>
          <a:stretch/>
        </p:blipFill>
        <p:spPr>
          <a:xfrm>
            <a:off x="4729320" y="620640"/>
            <a:ext cx="320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781200" y="66600"/>
            <a:ext cx="7581600" cy="14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116000" y="1600200"/>
          <a:ext cx="6553080" cy="3995640"/>
        </p:xfrm>
        <a:graphic>
          <a:graphicData uri="http://schemas.openxmlformats.org/drawingml/2006/table">
            <a:tbl>
              <a:tblPr/>
              <a:tblGrid>
                <a:gridCol w="3276720"/>
                <a:gridCol w="32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очн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хра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к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ета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ча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ивочное масл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-15 дн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– 15 дн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ив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ча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758160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826560" y="1484280"/>
            <a:ext cx="7859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Посуда, в которой хранят молоко и молочные продукты, должна быть чистой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Руки человека, готовящего молочные продукты и употребляющего их в пищу, должны быть хорошо вымыты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Молоко и молочные продукты необходимо хранить на холоде и в закрытой посуде, в темноте. При температуре +4…8°С молоко можно хранить 20 часов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При употреблении молока и молочных продуктов проверять срок их годности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Не употреблять в пищу сырое молоко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Запрещается употреблять творог из не пастеризованного молока в пищу без предварительной тепловой обработки его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758160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Варка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– супы, каши, ленивые вареники, кисели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Жарение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– сырники, блинчики с творогом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Запекание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– запеканки, пудинги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4" name="Рисунок 3" descr="people18.gif"/>
          <p:cNvPicPr/>
          <p:nvPr/>
        </p:nvPicPr>
        <p:blipFill>
          <a:blip r:embed="rId5"/>
          <a:stretch/>
        </p:blipFill>
        <p:spPr>
          <a:xfrm>
            <a:off x="6588000" y="2924280"/>
            <a:ext cx="2411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User PK</cp:lastModifiedBy>
  <dcterms:modified xsi:type="dcterms:W3CDTF">2020-04-05T14:38:59Z</dcterms:modified>
  <cp:revision>79</cp:revision>
  <dc:subject/>
  <dc:title>Слайд 1</dc:title>
</cp:coreProperties>
</file>