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FBC9-F9E3-4136-9F68-BDD15F692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2386E-FC96-4D4F-AE6B-15C0C2DC9E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19B-495D-414D-BCB1-9DEE2D1A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AE6-1CC0-4F19-B988-BF430D8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321-6DF6-4E5E-B528-FA89C685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6D4-87DD-4441-A0ED-1F9DC4F1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4E8-4DD1-48A1-8390-5190DC5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EDD-414A-4430-9F16-1EBF9C9D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F85-C905-403A-9216-FE02F31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9D1-72CF-45CE-B5A0-5F5CB30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812-73CC-41F0-B940-DC1B01E4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49D-4433-4E17-834A-993A550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6FA-6FBF-4D37-80C2-AD85A02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9BA-481D-4662-82CC-68C6B06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6893-2F25-4FE9-9F10-D79F1E04E2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пословицы, найдите орфограмму. Определите тему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0000" y="257148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(Не) откладывай на завтра то, что можно сделать сег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В чужом доме (не) указы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(Не) хвали сам себя, есть лучше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Лодырю всегда (не) здоро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63960" y="6875640"/>
            <a:ext cx="180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4753080" y="493560"/>
            <a:ext cx="446400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 Не с глаго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7492680" y="7020000"/>
            <a:ext cx="180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1511280"/>
            <a:ext cx="90727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2720" y="367308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314280"/>
            <a:ext cx="10080720" cy="1248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НЕ С ГЛАГ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Смотри, употребляется ли слово без 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7"/>
          <p:cNvCxnSpPr/>
          <p:nvPr/>
        </p:nvCxnSpPr>
        <p:spPr>
          <a:xfrm flipH="1">
            <a:off x="1944360" y="1619280"/>
            <a:ext cx="1722960" cy="1008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57" name="Прямая со стрелкой 8"/>
          <p:cNvCxnSpPr/>
          <p:nvPr/>
        </p:nvCxnSpPr>
        <p:spPr>
          <a:xfrm>
            <a:off x="6624720" y="1618920"/>
            <a:ext cx="1008720" cy="1081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Прямоугольник 9"/>
          <p:cNvSpPr/>
          <p:nvPr/>
        </p:nvSpPr>
        <p:spPr>
          <a:xfrm>
            <a:off x="1295280" y="2771640"/>
            <a:ext cx="1560600" cy="78120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6769080" y="2771640"/>
            <a:ext cx="1731960" cy="70812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1"/>
          <p:cNvCxnSpPr/>
          <p:nvPr/>
        </p:nvCxnSpPr>
        <p:spPr>
          <a:xfrm>
            <a:off x="1800000" y="3708000"/>
            <a:ext cx="1080" cy="702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Прямоугольник 12"/>
          <p:cNvSpPr/>
          <p:nvPr/>
        </p:nvSpPr>
        <p:spPr>
          <a:xfrm>
            <a:off x="287280" y="4500720"/>
            <a:ext cx="4392720" cy="83808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И СЛИ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8"/>
          <p:cNvCxnSpPr/>
          <p:nvPr/>
        </p:nvCxnSpPr>
        <p:spPr>
          <a:xfrm>
            <a:off x="7703640" y="3635280"/>
            <a:ext cx="108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Прямоугольник 19"/>
          <p:cNvSpPr/>
          <p:nvPr/>
        </p:nvSpPr>
        <p:spPr>
          <a:xfrm>
            <a:off x="4824360" y="4500720"/>
            <a:ext cx="4824360" cy="86328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И РАЗД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3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улируйте к предложениям задание в соответствии с темой нашего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1619280"/>
            <a:ext cx="9069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перед людей (не) забегай, и от людей (не) отста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чужом доме (не) будь приметлив, а будь приве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 учтивых слов язык (не) отсох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знайство (не) возвышает, а ун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з заботы и репу (не) вырастиш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бочие руки (не) знают ск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з труда (не) вынешь и рыбку из пру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179280"/>
            <a:ext cx="9072360" cy="161928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упражнение. К словам и фразам левого столбика надо подобрать подходящие по смыслу глаголы из правого столбика. Написать глаголы правого столбика, раскрывая скобки. Изучаемую орфограмму подчеркну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4720" y="2397240"/>
            <a:ext cx="4453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мневаться, удивл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ущаться, выражать крайнее 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ытывать чувство сильной вражды, ненав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являть безудержную ярость, бу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леть, плохо себя чув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21360" y="2410920"/>
            <a:ext cx="445608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на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доум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домо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 истов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50920"/>
            <a:ext cx="9069480" cy="100800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" y="1332000"/>
            <a:ext cx="906948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Кто  не работает, то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С ложью прав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ру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Без труд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тащишь и рыбку из п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Лень доб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л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Расстояние дружб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ме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раг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ланяйся, для друга жизни не ж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С добрым дел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озд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Крепкую дружбу и топор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руб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39640" y="4284720"/>
            <a:ext cx="705636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287280" y="1116000"/>
            <a:ext cx="9371160" cy="47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егодня мы узнали о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перь я могу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научился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я узнал нового на уроке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воей работой я 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324520" y="324000"/>
            <a:ext cx="4850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оцени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52:07Z</dcterms:created>
  <dc:creator/>
  <dc:description/>
  <dc:language>en-US</dc:language>
  <cp:lastModifiedBy>Дядя Вова</cp:lastModifiedBy>
  <dcterms:modified xsi:type="dcterms:W3CDTF">2020-04-05T18:58:21Z</dcterms:modified>
  <cp:revision>46</cp:revision>
  <dc:subject/>
  <dc:title>Слайд 1</dc:title>
</cp:coreProperties>
</file>