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982E8-B499-4F8A-B8DF-DC76614133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12768-4082-4C6F-BE2A-B0FE46DB9A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176-F4A8-4F6D-A36D-1AC1E618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C35-34C1-442C-B355-D596CCBB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A1B-1B0E-477E-BE38-59787730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3C0-9854-4B72-A96C-B14317CC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4D8-C101-42B3-9D7A-C1FC6B9C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D84-C91E-4E31-A030-595C45F4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5F3-B872-484B-9091-A0485F01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8D1-6F48-4603-A126-8C853D99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A42-734A-4895-B7D8-8AD49D0C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E60-0AB5-448E-9C1F-88C47321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AAF-2BDC-4C88-87C9-78C51F07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0FF0-24EF-402F-8FB0-EA19FFA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51618-3AFD-4223-BF93-B3F3191785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cceed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читайте пословицы, найдите орфограмму. Определите тему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60000" y="257148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22228b"/>
                </a:solidFill>
                <a:latin typeface="Arial"/>
              </a:rPr>
              <a:t>(Не) откладывай на завтра то, что можно сделать сего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22228b"/>
                </a:solidFill>
                <a:latin typeface="Arial"/>
              </a:rPr>
              <a:t>В чужом доме (не) указы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22228b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2228b"/>
                </a:solidFill>
                <a:latin typeface="Arial"/>
              </a:rPr>
              <a:t>(Не) хвали сам себя, есть лучше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22228b"/>
                </a:solidFill>
                <a:latin typeface="Arial"/>
              </a:rPr>
              <a:t>Лодырю всегда (не) здоро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63960" y="6875640"/>
            <a:ext cx="1806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4753080" y="493560"/>
            <a:ext cx="446400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исание Не с глаго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7492680" y="7020000"/>
            <a:ext cx="1806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1511280"/>
            <a:ext cx="907272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2720" y="367308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314280"/>
            <a:ext cx="10080720" cy="12488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ПИСАНИЕ НЕ С ГЛАГО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</a:rPr>
              <a:t>Смотри, употребляется ли слово без Н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7"/>
          <p:cNvCxnSpPr/>
          <p:nvPr/>
        </p:nvCxnSpPr>
        <p:spPr>
          <a:xfrm flipH="1">
            <a:off x="1944360" y="1619280"/>
            <a:ext cx="1722960" cy="1008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57" name="Прямая со стрелкой 8"/>
          <p:cNvCxnSpPr/>
          <p:nvPr/>
        </p:nvCxnSpPr>
        <p:spPr>
          <a:xfrm>
            <a:off x="6624720" y="1618920"/>
            <a:ext cx="1008720" cy="1081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Прямоугольник 9"/>
          <p:cNvSpPr/>
          <p:nvPr/>
        </p:nvSpPr>
        <p:spPr>
          <a:xfrm>
            <a:off x="1295280" y="2771640"/>
            <a:ext cx="1560600" cy="781200"/>
          </a:xfrm>
          <a:prstGeom prst="rect">
            <a:avLst/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6769080" y="2771640"/>
            <a:ext cx="1731960" cy="708120"/>
          </a:xfrm>
          <a:prstGeom prst="rect">
            <a:avLst/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1"/>
          <p:cNvCxnSpPr/>
          <p:nvPr/>
        </p:nvCxnSpPr>
        <p:spPr>
          <a:xfrm>
            <a:off x="1800000" y="3708000"/>
            <a:ext cx="1080" cy="702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Прямоугольник 12"/>
          <p:cNvSpPr/>
          <p:nvPr/>
        </p:nvSpPr>
        <p:spPr>
          <a:xfrm>
            <a:off x="287280" y="4500720"/>
            <a:ext cx="4392720" cy="838080"/>
          </a:xfrm>
          <a:prstGeom prst="rect">
            <a:avLst/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ШИ СЛИТ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8"/>
          <p:cNvCxnSpPr/>
          <p:nvPr/>
        </p:nvCxnSpPr>
        <p:spPr>
          <a:xfrm>
            <a:off x="7703640" y="3635280"/>
            <a:ext cx="1080" cy="721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Прямоугольник 19"/>
          <p:cNvSpPr/>
          <p:nvPr/>
        </p:nvSpPr>
        <p:spPr>
          <a:xfrm>
            <a:off x="4824360" y="4500720"/>
            <a:ext cx="4824360" cy="863280"/>
          </a:xfrm>
          <a:prstGeom prst="rect">
            <a:avLst/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ШИ РАЗД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3"/>
          <p:cNvSpPr/>
          <p:nvPr/>
        </p:nvSpPr>
        <p:spPr>
          <a:xfrm>
            <a:off x="7349760" y="6875640"/>
            <a:ext cx="157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формулируйте к предложениям задание в соответствии с темой нашего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" y="1619280"/>
            <a:ext cx="90694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перед людей (не) забегай, и от людей (не) отста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чужом доме (не) будь приметлив, а будь приве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 учтивых слов язык (не) отсох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знайство (не) возвышает, а уни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з заботы и репу (не) вырастиш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бочие руки (не) знают ск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з труда (не) вынешь и рыбку из пру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7349760" y="6875640"/>
            <a:ext cx="157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179280"/>
            <a:ext cx="9072360" cy="1619280"/>
          </a:xfrm>
          <a:prstGeom prst="rect">
            <a:avLst/>
          </a:prstGeom>
          <a:solidFill>
            <a:srgbClr val="cceed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упражнение. К словам и фразам левого столбика надо подобрать подходящие по смыслу глаголы из правого столбика. Написать глаголы правого столбика, раскрывая скобки. Изучаемую орфограмму подчеркну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4720" y="2397240"/>
            <a:ext cx="445320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мневаться, удивл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змущаться, выражать крайнее неудоволь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ытывать чувство сильной вражды, ненав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являть безудержную ярость, бу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леть, плохо себя чувств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21360" y="2410920"/>
            <a:ext cx="445608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Е)на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Е)год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Е)доуме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Е)домо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Е) истовств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7349760" y="6875640"/>
            <a:ext cx="157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50920"/>
            <a:ext cx="9069480" cy="1008000"/>
          </a:xfrm>
          <a:prstGeom prst="rect">
            <a:avLst/>
          </a:prstGeom>
          <a:solidFill>
            <a:srgbClr val="cceed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те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" y="1332000"/>
            <a:ext cx="906948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Кто  не работает, то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С ложью прав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ру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Без труд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ытащишь и рыбку из п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Лень добр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л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Расстояние дружб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меш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Враг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ланяйся, для друга жизни не ж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С добрым дел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озд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Крепкую дружбу и топор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азруб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349760" y="6875640"/>
            <a:ext cx="157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439640" y="4284720"/>
            <a:ext cx="705636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287280" y="1116000"/>
            <a:ext cx="9371160" cy="47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1258920" indent="-125892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5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егодня мы узнали о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1258920" indent="-125892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5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перь я могу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1258920" indent="-125892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5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 научился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1258920" indent="-125892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5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 я узнал нового на уроке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1258920" indent="-125892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5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воей работой я 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324520" y="324000"/>
            <a:ext cx="4850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оценив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7349760" y="6875640"/>
            <a:ext cx="157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ношинская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6:52:07Z</dcterms:created>
  <dc:creator/>
  <dc:description/>
  <dc:language>en-US</dc:language>
  <cp:lastModifiedBy>Дядя Вова</cp:lastModifiedBy>
  <dcterms:modified xsi:type="dcterms:W3CDTF">2020-04-05T18:58:21Z</dcterms:modified>
  <cp:revision>46</cp:revision>
  <dc:subject/>
  <dc:title>Слайд 1</dc:title>
</cp:coreProperties>
</file>