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3E1A-50C1-476F-8ADC-E3D5C0BC2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8762-1514-4C22-A59D-D3AC270725A6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520C-A0E4-4059-A9EA-14847788C064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444"/>
                </a:solidFill>
                <a:latin typeface="Microsoft Sans Serif"/>
              </a:rPr>
              <a:t>«</a:t>
            </a:r>
            <a:r>
              <a:rPr b="1" lang="ru-RU" sz="3600" spc="-1" strike="noStrike">
                <a:solidFill>
                  <a:srgbClr val="444444"/>
                </a:solidFill>
                <a:latin typeface="Microsoft Sans Serif"/>
              </a:rPr>
              <a:t>Индекс человеческого развития»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15228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44444"/>
                </a:solidFill>
                <a:latin typeface="Microsoft Sans Serif"/>
              </a:rPr>
              <a:t>«Развитие человеческого капитала в Казахстане»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46080" y="6180120"/>
            <a:ext cx="91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222222"/>
                </a:solidFill>
                <a:latin typeface="Times New Roman"/>
                <a:ea typeface="Calibri"/>
              </a:rPr>
              <a:t>Цель обучения: с дополнительным охватом казахстанского компонента определяет показатели индекса развития человеческого капитала и сравнивает по ним страны 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222222"/>
                </a:solidFill>
                <a:latin typeface="Times New Roman"/>
                <a:ea typeface="Calibri"/>
              </a:rPr>
              <a:t>разрабатывает решения по повышению качества человеческого капитала в Казахстане</a:t>
            </a:r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7777"/>
                </a:solidFill>
                <a:latin typeface="Microsoft Sans Serif"/>
              </a:rPr>
              <a:t>Направления инвестиций в человеческий капитал: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2438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7777"/>
                </a:solidFill>
                <a:latin typeface="Microsoft Sans Serif"/>
              </a:rPr>
              <a:t>Инвестиции в образование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7777"/>
                </a:solidFill>
                <a:latin typeface="Microsoft Sans Serif"/>
              </a:rPr>
              <a:t>Расходы на здравоохранение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7777"/>
                </a:solidFill>
                <a:latin typeface="Microsoft Sans Serif"/>
              </a:rPr>
              <a:t>Улучшение жилищных условий 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77"/>
                </a:solidFill>
                <a:latin typeface="Microsoft Sans Serif"/>
              </a:rPr>
              <a:t>Индекс человеческого развития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80880" y="2590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</a:rPr>
              <a:t>- это интегральный показатель, рассчитываемый ежегодно для межстранового сравнения и измерения уровня жизни, грамотности, образованности и долголетия как основных характеристик человеческого потенциала исследуемой территории.</a:t>
            </a:r>
            <a:r>
              <a:rPr b="1" lang="ru-RU" sz="24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380880" y="525600"/>
            <a:ext cx="403884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22"/>
                </a:solidFill>
                <a:latin typeface="Times New Roman"/>
              </a:rPr>
              <a:t>Концепция индекса человеческого развития (ИЧР) была разработана в 1990 году группой специалистов ООН, возглавляемая Махбубом-уль-Хаком,  которые занимались вопросами осуществления межстрановых сравнений.</a:t>
            </a:r>
            <a:r>
              <a:rPr b="0" lang="ru-RU" sz="2400" spc="-1" strike="noStrike">
                <a:solidFill>
                  <a:srgbClr val="222222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1" name="Picture 7" descr="mahbub_ul_haq"/>
          <p:cNvPicPr/>
          <p:nvPr/>
        </p:nvPicPr>
        <p:blipFill>
          <a:blip r:embed="rId2"/>
          <a:stretch/>
        </p:blipFill>
        <p:spPr>
          <a:xfrm>
            <a:off x="4876920" y="525600"/>
            <a:ext cx="40384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7777"/>
                </a:solidFill>
                <a:latin typeface="Microsoft Sans Serif"/>
              </a:rPr>
              <a:t>Человеческий капитал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23619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7777"/>
                </a:solidFill>
                <a:latin typeface="Microsoft Sans Serif"/>
              </a:rPr>
              <a:t>Совокупность интеллектуальных способностей, профессиональных навыков, знаний и умений человека, полученных в процессе образования и практической деятельности, качество жизни и здоровье, существенно повышают благосостояния людей, организаций и общества в целом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348000" y="1233360"/>
            <a:ext cx="2521080" cy="22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азвития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Человеческого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отенциала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(ИРПЧ)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08000" y="1628640"/>
            <a:ext cx="3240000" cy="14414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2" y="0"/>
                </a:lnTo>
                <a:lnTo>
                  <a:pt x="21600" y="10800"/>
                </a:lnTo>
                <a:lnTo>
                  <a:pt x="1806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Arial Narrow"/>
              </a:rPr>
              <a:t>  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родолжительность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жизн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 rot="10800000">
            <a:off x="5866920" y="1628640"/>
            <a:ext cx="3241800" cy="1441440"/>
          </a:xfrm>
          <a:custGeom>
            <a:avLst/>
            <a:gdLst>
              <a:gd name="textAreaLeft" fmla="*/ 0 w 3241800"/>
              <a:gd name="textAreaRight" fmla="*/ 3242160 w 32418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3" y="0"/>
                </a:lnTo>
                <a:lnTo>
                  <a:pt x="21600" y="10800"/>
                </a:lnTo>
                <a:lnTo>
                  <a:pt x="1806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родолжительность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бучения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627280" y="3465360"/>
            <a:ext cx="3816360" cy="2772000"/>
          </a:xfrm>
          <a:prstGeom prst="upArrowCallout">
            <a:avLst>
              <a:gd name="adj1" fmla="val 68844"/>
              <a:gd name="adj2" fmla="val 34419"/>
              <a:gd name="adj3" fmla="val 17009"/>
              <a:gd name="adj4" fmla="val 120504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аловой национальный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оход на душу населения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2556000" y="189000"/>
            <a:ext cx="4176720" cy="100800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хема расчета ИРПЧ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1"/>
          <a:stretch/>
        </p:blipFill>
        <p:spPr>
          <a:xfrm>
            <a:off x="108000" y="3164040"/>
            <a:ext cx="1942920" cy="141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7023240" y="3173400"/>
            <a:ext cx="2085840" cy="140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3"/>
          <a:stretch/>
        </p:blipFill>
        <p:spPr>
          <a:xfrm>
            <a:off x="3924360" y="3870360"/>
            <a:ext cx="11667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Индекс развития человеческого потенциала</a:t>
            </a:r>
            <a:endParaRPr b="0" lang="en-US" sz="29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533760" y="1351080"/>
            <a:ext cx="23050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Знания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6588000" y="1403280"/>
            <a:ext cx="23050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остойный уровень жизн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50920" y="1403280"/>
            <a:ext cx="23050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олгая и здоровая жизнь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142920" y="2627280"/>
            <a:ext cx="20764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жидаемая продолжительность жизни при рождении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2389320" y="2627280"/>
            <a:ext cx="20764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Уровень грамотности взрослого населения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4686480" y="2627280"/>
            <a:ext cx="207612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овой коэффициент </a:t>
            </a:r>
            <a:r>
              <a:rPr b="1" lang="ru-RU" sz="12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оступивших в учебные заведения 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(ВКПУЗ)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948360" y="2627280"/>
            <a:ext cx="20764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ВП на душу населения (ППС в долл. США)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3276720" y="4437000"/>
            <a:ext cx="23050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бразования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6588000" y="4400640"/>
            <a:ext cx="2305080" cy="8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ВВП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250920" y="4400640"/>
            <a:ext cx="249228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продолжительности жизни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870120" y="5553000"/>
            <a:ext cx="737388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развития человеческого потенциала (ИРПЧ)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150920" y="2205000"/>
            <a:ext cx="0" cy="42228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 flipH="1">
            <a:off x="3419640" y="2205000"/>
            <a:ext cx="1046160" cy="42228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4686480" y="2205000"/>
            <a:ext cx="930240" cy="42228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150920" y="3429000"/>
            <a:ext cx="0" cy="971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7993080" y="3429000"/>
            <a:ext cx="0" cy="971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3419640" y="3429000"/>
            <a:ext cx="1046160" cy="971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2160720" y="3598920"/>
            <a:ext cx="2305080" cy="51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грамотности взрослого населения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1" name="Line 31"/>
          <p:cNvSpPr/>
          <p:nvPr/>
        </p:nvSpPr>
        <p:spPr>
          <a:xfrm flipH="1">
            <a:off x="4686120" y="3429000"/>
            <a:ext cx="1037880" cy="971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4643280" y="3598920"/>
            <a:ext cx="2305080" cy="51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ндекс ВКПУЗ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1150920" y="5202360"/>
            <a:ext cx="3349800" cy="350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4" name="Line 33"/>
          <p:cNvSpPr/>
          <p:nvPr/>
        </p:nvSpPr>
        <p:spPr>
          <a:xfrm flipH="1">
            <a:off x="4642920" y="5202360"/>
            <a:ext cx="3349800" cy="350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5" name="Line 34"/>
          <p:cNvSpPr/>
          <p:nvPr/>
        </p:nvSpPr>
        <p:spPr>
          <a:xfrm>
            <a:off x="4572000" y="5202360"/>
            <a:ext cx="0" cy="350640"/>
          </a:xfrm>
          <a:prstGeom prst="line">
            <a:avLst/>
          </a:prstGeom>
          <a:ln w="1908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Гульжан\Desktop\90666708960736790dca651179ae0bb3-800x.jpg"/>
          <p:cNvPicPr/>
          <p:nvPr/>
        </p:nvPicPr>
        <p:blipFill>
          <a:blip r:embed="rId2"/>
          <a:stretch/>
        </p:blipFill>
        <p:spPr>
          <a:xfrm>
            <a:off x="214200" y="189000"/>
            <a:ext cx="875052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ИЧР в 2018 году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90" name="Picture 3" descr="C:\Users\Гульжан\Desktop\img5 (1).jpg"/>
          <p:cNvPicPr/>
          <p:nvPr/>
        </p:nvPicPr>
        <p:blipFill>
          <a:blip r:embed="rId1"/>
          <a:stretch/>
        </p:blipFill>
        <p:spPr>
          <a:xfrm>
            <a:off x="92160" y="749160"/>
            <a:ext cx="903276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695160" y="3352680"/>
            <a:ext cx="798516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Стрелка вверх 4"/>
          <p:cNvSpPr/>
          <p:nvPr/>
        </p:nvSpPr>
        <p:spPr>
          <a:xfrm>
            <a:off x="4229280" y="3197160"/>
            <a:ext cx="914400" cy="45720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3009960" y="2770200"/>
            <a:ext cx="33526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Arial"/>
              </a:rPr>
              <a:t>Особенности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4" name="Стрелка вниз 6"/>
          <p:cNvSpPr/>
          <p:nvPr/>
        </p:nvSpPr>
        <p:spPr>
          <a:xfrm>
            <a:off x="4343400" y="4076640"/>
            <a:ext cx="838080" cy="432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Скругленный прямоугольник 7"/>
          <p:cNvSpPr/>
          <p:nvPr/>
        </p:nvSpPr>
        <p:spPr>
          <a:xfrm>
            <a:off x="3232080" y="4581360"/>
            <a:ext cx="3048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Arial"/>
              </a:rPr>
              <a:t>Структура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6" name="Стрелка вниз 8"/>
          <p:cNvSpPr/>
          <p:nvPr/>
        </p:nvSpPr>
        <p:spPr>
          <a:xfrm>
            <a:off x="2766960" y="5113440"/>
            <a:ext cx="685800" cy="533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Стрелка вниз 9"/>
          <p:cNvSpPr/>
          <p:nvPr/>
        </p:nvSpPr>
        <p:spPr>
          <a:xfrm>
            <a:off x="4000680" y="5113440"/>
            <a:ext cx="685800" cy="533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8" name="Стрелка вниз 10"/>
          <p:cNvSpPr/>
          <p:nvPr/>
        </p:nvSpPr>
        <p:spPr>
          <a:xfrm>
            <a:off x="5140440" y="5113440"/>
            <a:ext cx="685800" cy="533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9" name="Стрелка вниз 11"/>
          <p:cNvSpPr/>
          <p:nvPr/>
        </p:nvSpPr>
        <p:spPr>
          <a:xfrm>
            <a:off x="6087960" y="5084640"/>
            <a:ext cx="68580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0" name="Скругленный прямоугольник 12"/>
          <p:cNvSpPr/>
          <p:nvPr/>
        </p:nvSpPr>
        <p:spPr>
          <a:xfrm>
            <a:off x="1312920" y="5649840"/>
            <a:ext cx="19191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Arial"/>
              </a:rPr>
              <a:t>личностные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1" name="Скругленный прямоугольник 13"/>
          <p:cNvSpPr/>
          <p:nvPr/>
        </p:nvSpPr>
        <p:spPr>
          <a:xfrm>
            <a:off x="3238560" y="6151680"/>
            <a:ext cx="17571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образовательные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Скругленный прямоугольник 14"/>
          <p:cNvSpPr/>
          <p:nvPr/>
        </p:nvSpPr>
        <p:spPr>
          <a:xfrm>
            <a:off x="6915240" y="5613480"/>
            <a:ext cx="18716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Arial"/>
              </a:rPr>
              <a:t>социальные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Скругленный прямоугольник 15"/>
          <p:cNvSpPr/>
          <p:nvPr/>
        </p:nvSpPr>
        <p:spPr>
          <a:xfrm>
            <a:off x="5283360" y="6178680"/>
            <a:ext cx="18046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cd"/>
              </a:gs>
              <a:gs pos="100000">
                <a:srgbClr val="444444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Экономические</a:t>
            </a:r>
            <a:r>
              <a:rPr b="0" lang="ru-RU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4" name="Скругленный прямоугольник 19"/>
          <p:cNvSpPr/>
          <p:nvPr/>
        </p:nvSpPr>
        <p:spPr>
          <a:xfrm>
            <a:off x="0" y="152280"/>
            <a:ext cx="9144000" cy="249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Капитал не отделим от его носителя-человека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Капитал на протяжении всей жизни может меняться в положительную и отрицательную 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сторону – пополняться новыми знаниями и навыками, либо устаревать морально и физически.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Функционирование и развитие человеческого капитала зависит от воли его обладателя, от 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решения человека.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Человеческий капитал дает своему обладателю в будущем более высокий доход.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Формирование человеческого капитала требует значительных затрат как от самого человека так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и от общества в целом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Инвестиции в человеческий капитал носят длительный характер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marL="285840" indent="-285840"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Arial"/>
              </a:rPr>
              <a:t>Новые знания, навыки, и опыт способствуют росту  доходов не сразу, а спустя определенное время. 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ользователь</cp:lastModifiedBy>
  <dcterms:modified xsi:type="dcterms:W3CDTF">2020-04-01T15:32:18Z</dcterms:modified>
  <cp:revision>359</cp:revision>
  <dc:subject/>
  <dc:title>Name of presentation</dc:title>
</cp:coreProperties>
</file>