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634A1-5FA0-4E27-A8AD-C105A1D58A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3532-8123-4204-AE86-61FA077F79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1BFCD-4AD7-46FC-B57F-B0D33C4D2E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DAF1B-BEFB-4B1A-B598-EBD9B61D0D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1D5D8-AD75-4F59-B544-1B681C2BF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78C49-932E-4F71-A379-6823CDF808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5BDA8-4434-4779-9E4D-E8A0710F27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9AF88-FDF9-47DA-AFAC-35EEF788E5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38C87-B96D-4887-B8D5-254E90BE97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C28E4-1B22-412F-A4D0-E4D72A2694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E0813-B718-491C-B18B-B24F2E7725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4B412-025F-42A4-8E92-5F74524B92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17141-5A0D-4AF1-92EA-04B816FA7D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B80-9327-49CD-8864-B01CADF0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62B-D8EA-47EF-8861-3C9B210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959-2BBD-4B24-BDD4-00894045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361-7249-4939-8EE0-7CE7BCF2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290A-0A87-4C1D-8186-92E6B6CA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7C4-4CAD-475B-A7D7-FBAC06FD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0F2E-734B-440D-A718-A6898BEA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3AB7-177B-4A29-B16A-61DC905E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D802-17A9-47FB-A58A-6D47AEBF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17F6-361A-42AA-ACD1-C09CADF3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3592-C660-4477-99F1-E29B0C1A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33C-74AB-4599-8C97-D59854EA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074F-1318-434B-9D57-94FFDC07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D24B-DC74-4C41-87ED-9F83A713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A932-57BD-4527-B7C3-2E1424CE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4DE6-F19D-475C-B7FC-9753985B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F7CF-17CC-465F-842A-73F327E4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8A9-5646-449F-BC9A-B04739E7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9EE-F6C7-4972-9C7A-FF9D918F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6DA-CC8C-4651-B8AF-D5A299F1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D31-3AF5-4DFC-B8EE-F61B9143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067-581B-4363-8BBD-4BABCD26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246-5552-420C-A7D5-0F6D777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F22-97F9-45AD-853E-C42FCA3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FD9A1C-80DB-4F63-B43C-B934B95D896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9A3EEE-F802-42E8-A23A-1D31F588EB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4480" y="1811160"/>
            <a:ext cx="9043920" cy="2779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Урок химии по теме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"Тепловой эффект химических реакций". </a:t>
            </a:r>
            <a:br>
              <a:rPr sz="1200"/>
            </a:br>
            <a:r>
              <a:rPr b="1" lang="ru-RU" sz="2800" spc="-1" strike="noStrike">
                <a:solidFill>
                  <a:srgbClr val="000080"/>
                </a:solidFill>
                <a:latin typeface="Arial"/>
              </a:rPr>
              <a:t>Расчёты по термохимическим уравнениям (ТХУ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407880" y="290520"/>
            <a:ext cx="9374400" cy="715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rcRect l="-615" t="0" r="0" b="8084"/>
          <a:stretch/>
        </p:blipFill>
        <p:spPr>
          <a:xfrm>
            <a:off x="684360" y="608040"/>
            <a:ext cx="8567640" cy="62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758880" y="209520"/>
            <a:ext cx="8217000" cy="699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95280" y="-192240"/>
            <a:ext cx="938844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имические явления – химические реа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03280" y="1895400"/>
            <a:ext cx="90723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Химическая реакция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процесс превращения одних веществ в други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953280" y="2970720"/>
            <a:ext cx="1842480" cy="1649520"/>
            <a:chOff x="953280" y="2970720"/>
            <a:chExt cx="1842480" cy="1649520"/>
          </a:xfrm>
        </p:grpSpPr>
        <p:sp>
          <p:nvSpPr>
            <p:cNvPr id="93" name="Oval 4"/>
            <p:cNvSpPr/>
            <p:nvPr/>
          </p:nvSpPr>
          <p:spPr>
            <a:xfrm rot="2160000">
              <a:off x="1101240" y="3105000"/>
              <a:ext cx="694440" cy="7300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5"/>
            <p:cNvSpPr/>
            <p:nvPr/>
          </p:nvSpPr>
          <p:spPr>
            <a:xfrm rot="2160000">
              <a:off x="1952640" y="3755520"/>
              <a:ext cx="694440" cy="730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731600" y="3692880"/>
              <a:ext cx="274680" cy="20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7"/>
          <p:cNvGrpSpPr/>
          <p:nvPr/>
        </p:nvGrpSpPr>
        <p:grpSpPr>
          <a:xfrm>
            <a:off x="2797920" y="3272040"/>
            <a:ext cx="2012040" cy="2707920"/>
            <a:chOff x="2797920" y="3272040"/>
            <a:chExt cx="2012040" cy="2707920"/>
          </a:xfrm>
        </p:grpSpPr>
        <p:sp>
          <p:nvSpPr>
            <p:cNvPr id="97" name="Oval 8"/>
            <p:cNvSpPr/>
            <p:nvPr/>
          </p:nvSpPr>
          <p:spPr>
            <a:xfrm flipH="1" rot="3900000">
              <a:off x="3538080" y="4638600"/>
              <a:ext cx="987480" cy="125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9"/>
            <p:cNvSpPr/>
            <p:nvPr/>
          </p:nvSpPr>
          <p:spPr>
            <a:xfrm flipH="1" rot="3900000">
              <a:off x="3081600" y="3356640"/>
              <a:ext cx="987120" cy="125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 flipH="1" flipV="1">
              <a:off x="3836520" y="4369320"/>
              <a:ext cx="13896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 flipH="1" flipV="1">
              <a:off x="3643560" y="4483800"/>
              <a:ext cx="141120" cy="38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12"/>
          <p:cNvGrpSpPr/>
          <p:nvPr/>
        </p:nvGrpSpPr>
        <p:grpSpPr>
          <a:xfrm>
            <a:off x="724680" y="4212720"/>
            <a:ext cx="1883880" cy="1686600"/>
            <a:chOff x="724680" y="4212720"/>
            <a:chExt cx="1883880" cy="1686600"/>
          </a:xfrm>
        </p:grpSpPr>
        <p:sp>
          <p:nvSpPr>
            <p:cNvPr id="102" name="Oval 13"/>
            <p:cNvSpPr/>
            <p:nvPr/>
          </p:nvSpPr>
          <p:spPr>
            <a:xfrm rot="2160000">
              <a:off x="875880" y="4349880"/>
              <a:ext cx="709200" cy="7459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 rot="2160000">
              <a:off x="1748160" y="5015880"/>
              <a:ext cx="708840" cy="7459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15"/>
            <p:cNvSpPr/>
            <p:nvPr/>
          </p:nvSpPr>
          <p:spPr>
            <a:xfrm>
              <a:off x="1522800" y="4953240"/>
              <a:ext cx="280080" cy="21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Line 16"/>
          <p:cNvSpPr/>
          <p:nvPr/>
        </p:nvSpPr>
        <p:spPr>
          <a:xfrm>
            <a:off x="4584600" y="4367160"/>
            <a:ext cx="151128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6050520" y="4040280"/>
            <a:ext cx="2521440" cy="2860920"/>
            <a:chOff x="6050520" y="4040280"/>
            <a:chExt cx="2521440" cy="2860920"/>
          </a:xfrm>
        </p:grpSpPr>
        <p:sp>
          <p:nvSpPr>
            <p:cNvPr id="107" name="Oval 18"/>
            <p:cNvSpPr/>
            <p:nvPr/>
          </p:nvSpPr>
          <p:spPr>
            <a:xfrm rot="2160000">
              <a:off x="6919920" y="4687200"/>
              <a:ext cx="1445400" cy="1171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9"/>
            <p:cNvSpPr/>
            <p:nvPr/>
          </p:nvSpPr>
          <p:spPr>
            <a:xfrm>
              <a:off x="6780240" y="4646520"/>
              <a:ext cx="340200" cy="20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20"/>
            <p:cNvSpPr/>
            <p:nvPr/>
          </p:nvSpPr>
          <p:spPr>
            <a:xfrm rot="2160000">
              <a:off x="7361640" y="6162840"/>
              <a:ext cx="720000" cy="5821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 rot="2160000">
              <a:off x="6152760" y="4195440"/>
              <a:ext cx="718200" cy="5821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7724160" y="586980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23"/>
          <p:cNvGrpSpPr/>
          <p:nvPr/>
        </p:nvGrpSpPr>
        <p:grpSpPr>
          <a:xfrm>
            <a:off x="6982560" y="2880360"/>
            <a:ext cx="2589840" cy="2937240"/>
            <a:chOff x="6982560" y="2880360"/>
            <a:chExt cx="2589840" cy="2937240"/>
          </a:xfrm>
        </p:grpSpPr>
        <p:sp>
          <p:nvSpPr>
            <p:cNvPr id="113" name="Oval 24"/>
            <p:cNvSpPr/>
            <p:nvPr/>
          </p:nvSpPr>
          <p:spPr>
            <a:xfrm rot="2160000">
              <a:off x="7875000" y="3549960"/>
              <a:ext cx="1485720" cy="1202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5"/>
            <p:cNvSpPr/>
            <p:nvPr/>
          </p:nvSpPr>
          <p:spPr>
            <a:xfrm>
              <a:off x="7729920" y="3502080"/>
              <a:ext cx="34920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 rot="2160000">
              <a:off x="8329680" y="5061240"/>
              <a:ext cx="738360" cy="5961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 rot="2160000">
              <a:off x="7087680" y="3040200"/>
              <a:ext cx="738360" cy="5983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8700840" y="4759200"/>
              <a:ext cx="0" cy="29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Text Box 29"/>
          <p:cNvSpPr/>
          <p:nvPr/>
        </p:nvSpPr>
        <p:spPr>
          <a:xfrm>
            <a:off x="2570040" y="5902200"/>
            <a:ext cx="428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=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0328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Признаки химических реакций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03280" y="1895400"/>
            <a:ext cx="90723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цв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газ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зование или растворение осад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явление или исчезновение запах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или поглощение теп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0328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лассификация  химических реакций по тепловому эффект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230480" y="1954080"/>
            <a:ext cx="6976800" cy="2692440"/>
            <a:chOff x="1230480" y="1954080"/>
            <a:chExt cx="6976800" cy="2692440"/>
          </a:xfrm>
        </p:grpSpPr>
        <p:pic>
          <p:nvPicPr>
            <p:cNvPr id="123" name="Picture 3" descr=""/>
            <p:cNvPicPr/>
            <p:nvPr/>
          </p:nvPicPr>
          <p:blipFill>
            <a:blip r:embed="rId1"/>
            <a:stretch/>
          </p:blipFill>
          <p:spPr>
            <a:xfrm>
              <a:off x="1230480" y="1954080"/>
              <a:ext cx="6976800" cy="26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4"/>
            <p:cNvSpPr/>
            <p:nvPr/>
          </p:nvSpPr>
          <p:spPr>
            <a:xfrm>
              <a:off x="1230480" y="1954080"/>
              <a:ext cx="6976800" cy="26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Rectangle 5"/>
          <p:cNvSpPr/>
          <p:nvPr/>
        </p:nvSpPr>
        <p:spPr>
          <a:xfrm>
            <a:off x="911160" y="5049720"/>
            <a:ext cx="4048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дут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 выделение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ерг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+ O2 = SO2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+ 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278320" y="5049720"/>
            <a:ext cx="3691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дут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с поглощением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энерги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+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= 2NO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–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38120" y="117900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ермохими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раздел  химии, в задачу которого входит определение и изучение 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Arial"/>
              </a:rPr>
              <a:t>тепловых эффектов реакции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ермохимические уравнения </a:t>
            </a:r>
            <a:r>
              <a:rPr b="0" lang="ru-RU" sz="3200" spc="-1" strike="noStrike">
                <a:solidFill>
                  <a:srgbClr val="280099"/>
                </a:solidFill>
                <a:latin typeface="Arial"/>
              </a:rPr>
              <a:t>– уравнения в которых указывается количество поглощенной или выделенной теплоты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2HgO —&gt; 2Hg + O</a:t>
            </a:r>
            <a:r>
              <a:rPr b="0" lang="ru-RU" sz="3200" spc="-1" strike="noStrike" baseline="-16000">
                <a:solidFill>
                  <a:srgbClr val="00008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– 180 кДж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С(тв) + O</a:t>
            </a:r>
            <a:r>
              <a:rPr b="0" lang="ru-RU" sz="3200" spc="-1" strike="noStrike" baseline="-16000">
                <a:solidFill>
                  <a:srgbClr val="00008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(г) —&gt; СO</a:t>
            </a:r>
            <a:r>
              <a:rPr b="0" lang="ru-RU" sz="3200" spc="-1" strike="noStrike" baseline="-16000">
                <a:solidFill>
                  <a:srgbClr val="00008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(г) + 394 кДж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71280" y="490680"/>
            <a:ext cx="8599320" cy="62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1000"/>
          </a:bodyPr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По термохимическим уравнениям реакций можно проводить различные расчёты.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Для решения задач по термохимическим уравнениям реакций нужно записать само уравнение и провести необходимые расчеты по нему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лгоритм решения задач по термохимическому уравнению реакци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. Кратко записать условия задачи (“дано”)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2.Записать термохимическое уравнение реакции (ТХУ), одной чертой в уравнении реакции подчеркивают то, что известно, двумя чертами подчёркивают то, что необходимо определить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3.Провести вспомогательные вычисления ( 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М</a:t>
            </a:r>
            <a:r>
              <a:rPr b="0" i="1" lang="ru-RU" sz="3200" spc="-1" strike="noStrike" baseline="-16000">
                <a:solidFill>
                  <a:srgbClr val="000080"/>
                </a:solidFill>
                <a:latin typeface="Arial"/>
              </a:rPr>
              <a:t>r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, М,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m)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4.Составить соотношение, используя вспомогательные вычисления и условия задачи; решить соотношение (пропорцию)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5.Записать ответ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662040" y="76320"/>
            <a:ext cx="9050400" cy="74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rcRect l="0" t="0" r="0" b="6249"/>
          <a:stretch/>
        </p:blipFill>
        <p:spPr>
          <a:xfrm>
            <a:off x="485640" y="441360"/>
            <a:ext cx="8921880" cy="65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479520" y="366840"/>
            <a:ext cx="9502560" cy="709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22:44:35Z</dcterms:created>
  <dc:creator/>
  <dc:description/>
  <dc:language>en-US</dc:language>
  <cp:lastModifiedBy>Admin</cp:lastModifiedBy>
  <dcterms:modified xsi:type="dcterms:W3CDTF">2017-04-18T09:43:03Z</dcterms:modified>
  <cp:revision>1</cp:revision>
  <dc:subject/>
  <dc:title>Урок химии по теме:  "Тепловой эффект химических реакций".  Расчёты по термохимическим уравнениям (ТХУ)</dc:title>
</cp:coreProperties>
</file>