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53BC6-C8EF-4E3A-B436-4597FC74D7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03E79-B792-4CCF-8BEE-950E398CBD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C0929-AAAE-4954-AB51-3A47657E1B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4FAF4-8ED5-411B-BEEB-AF986B3B14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E22E3-0553-4FA6-B8EA-AFC7433926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1BE93-5E2D-4D35-95E7-A6F98EA902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C3893-B287-48EF-99EC-E5568700D2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09BA4-AD97-450C-8CE6-D9EAE56E90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E416B-73DA-4A36-904E-DD3CFBCC29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CBBFD-D6E8-4591-BC54-C725640F59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FB32B-C352-46D8-9EF3-A979433FBE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B1A9D-5989-4085-BBB1-DC0DA6EF05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8CCE6-E77D-4CB7-AEC7-ACB28EFCC5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D54-AF7B-4E4E-8CC8-9AD5BAB8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6BF-6401-4D11-AA8D-77662315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46D-DCD6-4895-87B2-BDB8331F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E9A-592E-412D-BDED-CE6FD0D7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0FAE-B819-4DA3-84A3-AF42A8A5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43A4-83EF-4CFE-872E-527F7A4E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3B39-B189-4B01-9BBE-6A8D8199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58FC-9BC4-4DEA-BED6-3D00D1CC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41FD-0490-4899-AABC-B0BC5C28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FCE8-2B49-437E-ACEE-05DE08E9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B571-268E-4E7C-82D1-A5E14928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35C-FEF1-4ECD-8438-6D4AE797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7AED-A3FE-45EE-9C69-020321E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4C95-F434-43C6-9E36-28D0D74C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DAEE-C4CA-4DDD-92F9-98B8287E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8CFE-52CE-4B5B-A3FF-FCC0413C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4F70-972E-41B8-B3B5-6A01B935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D19-D04B-4314-B523-C194AC60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301-8584-4F89-B581-18E51092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E02-1F0E-4151-B1B9-6791B3D2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A08-5201-4414-8FED-C13A891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A76-57B0-492B-99F9-EDD37887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77B-1E58-4571-A2B4-2E8A06C6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425-6EB8-439F-A052-D5F6ED91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B1F810-96AE-47ED-B997-D62F48E6DAD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A5D402-AD07-46E3-8D97-D72911EE24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4480" y="1811160"/>
            <a:ext cx="9043920" cy="2779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Урок химии по теме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"Тепловой эффект химических реакций". </a:t>
            </a:r>
            <a:br>
              <a:rPr sz="1200"/>
            </a:br>
            <a:r>
              <a:rPr b="1" lang="ru-RU" sz="2800" spc="-1" strike="noStrike">
                <a:solidFill>
                  <a:srgbClr val="000080"/>
                </a:solidFill>
                <a:latin typeface="Arial"/>
              </a:rPr>
              <a:t>Расчёты по термохимическим уравнениям (ТХУ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407880" y="290520"/>
            <a:ext cx="9374400" cy="715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rcRect l="-615" t="0" r="0" b="8084"/>
          <a:stretch/>
        </p:blipFill>
        <p:spPr>
          <a:xfrm>
            <a:off x="684360" y="608040"/>
            <a:ext cx="8567640" cy="62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758880" y="209520"/>
            <a:ext cx="8217000" cy="699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95280" y="-192240"/>
            <a:ext cx="938844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имические явления – химические реа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03280" y="1895400"/>
            <a:ext cx="90723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Химическая реакция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процесс превращения одних веществ в други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953280" y="2970720"/>
            <a:ext cx="1842480" cy="1649520"/>
            <a:chOff x="953280" y="2970720"/>
            <a:chExt cx="1842480" cy="1649520"/>
          </a:xfrm>
        </p:grpSpPr>
        <p:sp>
          <p:nvSpPr>
            <p:cNvPr id="93" name="Oval 4"/>
            <p:cNvSpPr/>
            <p:nvPr/>
          </p:nvSpPr>
          <p:spPr>
            <a:xfrm rot="2160000">
              <a:off x="1101240" y="3105000"/>
              <a:ext cx="694440" cy="7300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5"/>
            <p:cNvSpPr/>
            <p:nvPr/>
          </p:nvSpPr>
          <p:spPr>
            <a:xfrm rot="2160000">
              <a:off x="1952640" y="3755520"/>
              <a:ext cx="694440" cy="730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731600" y="3692880"/>
              <a:ext cx="274680" cy="20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7"/>
          <p:cNvGrpSpPr/>
          <p:nvPr/>
        </p:nvGrpSpPr>
        <p:grpSpPr>
          <a:xfrm>
            <a:off x="2797920" y="3272040"/>
            <a:ext cx="2012040" cy="2707920"/>
            <a:chOff x="2797920" y="3272040"/>
            <a:chExt cx="2012040" cy="2707920"/>
          </a:xfrm>
        </p:grpSpPr>
        <p:sp>
          <p:nvSpPr>
            <p:cNvPr id="97" name="Oval 8"/>
            <p:cNvSpPr/>
            <p:nvPr/>
          </p:nvSpPr>
          <p:spPr>
            <a:xfrm flipH="1" rot="3900000">
              <a:off x="3538080" y="4638600"/>
              <a:ext cx="987480" cy="125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9"/>
            <p:cNvSpPr/>
            <p:nvPr/>
          </p:nvSpPr>
          <p:spPr>
            <a:xfrm flipH="1" rot="3900000">
              <a:off x="3081600" y="3356640"/>
              <a:ext cx="987120" cy="125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 flipH="1" flipV="1">
              <a:off x="3836520" y="4369320"/>
              <a:ext cx="13896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 flipH="1" flipV="1">
              <a:off x="3643560" y="4483800"/>
              <a:ext cx="141120" cy="38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12"/>
          <p:cNvGrpSpPr/>
          <p:nvPr/>
        </p:nvGrpSpPr>
        <p:grpSpPr>
          <a:xfrm>
            <a:off x="724680" y="4212720"/>
            <a:ext cx="1883880" cy="1686600"/>
            <a:chOff x="724680" y="4212720"/>
            <a:chExt cx="1883880" cy="1686600"/>
          </a:xfrm>
        </p:grpSpPr>
        <p:sp>
          <p:nvSpPr>
            <p:cNvPr id="102" name="Oval 13"/>
            <p:cNvSpPr/>
            <p:nvPr/>
          </p:nvSpPr>
          <p:spPr>
            <a:xfrm rot="2160000">
              <a:off x="875880" y="4349880"/>
              <a:ext cx="709200" cy="7459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 rot="2160000">
              <a:off x="1748160" y="5015880"/>
              <a:ext cx="708840" cy="7459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15"/>
            <p:cNvSpPr/>
            <p:nvPr/>
          </p:nvSpPr>
          <p:spPr>
            <a:xfrm>
              <a:off x="1522800" y="4953240"/>
              <a:ext cx="280080" cy="21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Line 16"/>
          <p:cNvSpPr/>
          <p:nvPr/>
        </p:nvSpPr>
        <p:spPr>
          <a:xfrm>
            <a:off x="4584600" y="4367160"/>
            <a:ext cx="151128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6050520" y="4040280"/>
            <a:ext cx="2521440" cy="2860920"/>
            <a:chOff x="6050520" y="4040280"/>
            <a:chExt cx="2521440" cy="2860920"/>
          </a:xfrm>
        </p:grpSpPr>
        <p:sp>
          <p:nvSpPr>
            <p:cNvPr id="107" name="Oval 18"/>
            <p:cNvSpPr/>
            <p:nvPr/>
          </p:nvSpPr>
          <p:spPr>
            <a:xfrm rot="2160000">
              <a:off x="6919920" y="4687200"/>
              <a:ext cx="1445400" cy="1171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9"/>
            <p:cNvSpPr/>
            <p:nvPr/>
          </p:nvSpPr>
          <p:spPr>
            <a:xfrm>
              <a:off x="6780240" y="4646520"/>
              <a:ext cx="340200" cy="20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20"/>
            <p:cNvSpPr/>
            <p:nvPr/>
          </p:nvSpPr>
          <p:spPr>
            <a:xfrm rot="2160000">
              <a:off x="7361640" y="6162840"/>
              <a:ext cx="720000" cy="5821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 rot="2160000">
              <a:off x="6152760" y="4195440"/>
              <a:ext cx="718200" cy="5821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7724160" y="586980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23"/>
          <p:cNvGrpSpPr/>
          <p:nvPr/>
        </p:nvGrpSpPr>
        <p:grpSpPr>
          <a:xfrm>
            <a:off x="6982560" y="2880360"/>
            <a:ext cx="2589840" cy="2937240"/>
            <a:chOff x="6982560" y="2880360"/>
            <a:chExt cx="2589840" cy="2937240"/>
          </a:xfrm>
        </p:grpSpPr>
        <p:sp>
          <p:nvSpPr>
            <p:cNvPr id="113" name="Oval 24"/>
            <p:cNvSpPr/>
            <p:nvPr/>
          </p:nvSpPr>
          <p:spPr>
            <a:xfrm rot="2160000">
              <a:off x="7875000" y="3549960"/>
              <a:ext cx="1485720" cy="1202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5"/>
            <p:cNvSpPr/>
            <p:nvPr/>
          </p:nvSpPr>
          <p:spPr>
            <a:xfrm>
              <a:off x="7729920" y="3502080"/>
              <a:ext cx="34920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 rot="2160000">
              <a:off x="8329680" y="5061240"/>
              <a:ext cx="738360" cy="5961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 rot="2160000">
              <a:off x="7087680" y="3040200"/>
              <a:ext cx="738360" cy="5983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8700840" y="4759200"/>
              <a:ext cx="0" cy="29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Text Box 29"/>
          <p:cNvSpPr/>
          <p:nvPr/>
        </p:nvSpPr>
        <p:spPr>
          <a:xfrm>
            <a:off x="2570040" y="5902200"/>
            <a:ext cx="428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=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0328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Признаки химических реакций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03280" y="1895400"/>
            <a:ext cx="90723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цв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газ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зование или растворение осад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явление или исчезновение запах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или поглощение теп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0328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лассификация  химических реакций по тепловому эффект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230480" y="1954080"/>
            <a:ext cx="6976800" cy="2692440"/>
            <a:chOff x="1230480" y="1954080"/>
            <a:chExt cx="6976800" cy="2692440"/>
          </a:xfrm>
        </p:grpSpPr>
        <p:pic>
          <p:nvPicPr>
            <p:cNvPr id="123" name="Picture 3" descr=""/>
            <p:cNvPicPr/>
            <p:nvPr/>
          </p:nvPicPr>
          <p:blipFill>
            <a:blip r:embed="rId1"/>
            <a:stretch/>
          </p:blipFill>
          <p:spPr>
            <a:xfrm>
              <a:off x="1230480" y="1954080"/>
              <a:ext cx="6976800" cy="26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4"/>
            <p:cNvSpPr/>
            <p:nvPr/>
          </p:nvSpPr>
          <p:spPr>
            <a:xfrm>
              <a:off x="1230480" y="1954080"/>
              <a:ext cx="6976800" cy="26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Rectangle 5"/>
          <p:cNvSpPr/>
          <p:nvPr/>
        </p:nvSpPr>
        <p:spPr>
          <a:xfrm>
            <a:off x="911160" y="5049720"/>
            <a:ext cx="4048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дут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 выделение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ерг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+ O2 = SO2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+ 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278320" y="5049720"/>
            <a:ext cx="3691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дут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с поглощением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энерги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+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= 2NO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–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38120" y="117900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ермохими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раздел  химии, в задачу которого входит определение и изучение 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Arial"/>
              </a:rPr>
              <a:t>тепловых эффектов реакции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ермохимические уравнения </a:t>
            </a:r>
            <a:r>
              <a:rPr b="0" lang="ru-RU" sz="3200" spc="-1" strike="noStrike">
                <a:solidFill>
                  <a:srgbClr val="280099"/>
                </a:solidFill>
                <a:latin typeface="Arial"/>
              </a:rPr>
              <a:t>– уравнения в которых указывается количество поглощенной или выделенной теплоты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2HgO —&gt; 2Hg + O</a:t>
            </a:r>
            <a:r>
              <a:rPr b="0" lang="ru-RU" sz="3200" spc="-1" strike="noStrike" baseline="-16000">
                <a:solidFill>
                  <a:srgbClr val="00008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– 180 кДж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С(тв) + O</a:t>
            </a:r>
            <a:r>
              <a:rPr b="0" lang="ru-RU" sz="3200" spc="-1" strike="noStrike" baseline="-16000">
                <a:solidFill>
                  <a:srgbClr val="00008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(г) —&gt; СO</a:t>
            </a:r>
            <a:r>
              <a:rPr b="0" lang="ru-RU" sz="3200" spc="-1" strike="noStrike" baseline="-16000">
                <a:solidFill>
                  <a:srgbClr val="00008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(г) + 394 кДж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71280" y="490680"/>
            <a:ext cx="8599320" cy="62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1000"/>
          </a:bodyPr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По термохимическим уравнениям реакций можно проводить различные расчёты.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Для решения задач по термохимическим уравнениям реакций нужно записать само уравнение и провести необходимые расчеты по нему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лгоритм решения задач по термохимическому уравнению реакци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. Кратко записать условия задачи (“дано”)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2.Записать термохимическое уравнение реакции (ТХУ), одной чертой в уравнении реакции подчеркивают то, что известно, двумя чертами подчёркивают то, что необходимо определить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3.Провести вспомогательные вычисления ( 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М</a:t>
            </a:r>
            <a:r>
              <a:rPr b="0" i="1" lang="ru-RU" sz="3200" spc="-1" strike="noStrike" baseline="-16000">
                <a:solidFill>
                  <a:srgbClr val="000080"/>
                </a:solidFill>
                <a:latin typeface="Arial"/>
              </a:rPr>
              <a:t>r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, М,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m)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4.Составить соотношение, используя вспомогательные вычисления и условия задачи; решить соотношение (пропорцию)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5.Записать ответ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662040" y="76320"/>
            <a:ext cx="9050400" cy="74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rcRect l="0" t="0" r="0" b="6249"/>
          <a:stretch/>
        </p:blipFill>
        <p:spPr>
          <a:xfrm>
            <a:off x="485640" y="441360"/>
            <a:ext cx="8921880" cy="65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479520" y="366840"/>
            <a:ext cx="9502560" cy="709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22:44:35Z</dcterms:created>
  <dc:creator/>
  <dc:description/>
  <dc:language>en-US</dc:language>
  <cp:lastModifiedBy>Admin</cp:lastModifiedBy>
  <dcterms:modified xsi:type="dcterms:W3CDTF">2017-04-18T09:43:03Z</dcterms:modified>
  <cp:revision>1</cp:revision>
  <dc:subject/>
  <dc:title>Урок химии по теме:  "Тепловой эффект химических реакций".  Расчёты по термохимическим уравнениям (ТХУ)</dc:title>
</cp:coreProperties>
</file>