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9ECA7-60BC-4087-999F-B1FACDCFCE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78D45-8A10-4388-AB9D-1E476CAD44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45823-FA53-4346-9586-0545C0413C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1ABFB-CE38-4AB2-AC43-6FD5437761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611AF-C841-4C4B-8C06-95172E40EA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E0F10-7639-4CF2-BA04-6779E2CAEA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EC7B7-8EC7-4AD6-AB94-E119A17A21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E4B2E-FEBC-4AB7-89E8-54458CD10E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B9087-B8DF-40D7-BC36-1A962E2D85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C6A2D-15A8-45A0-B6B8-95E3E196B7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11103-6973-417F-9F59-0C623DB347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5365D-3F37-4390-98FD-D45EAB9C13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90087-AC10-4697-B125-F042BCD0E1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908-6D95-482C-82C9-3E8B55DF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530712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48B9-2F86-4B18-BD2C-1FADEC8C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88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B07-18D3-4B14-A088-38333AB8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64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00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834-15A0-45EB-9354-1B3EE7DA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8EC5-4A8F-437D-B90D-BF2FAE63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E553-EA88-4310-8972-5596A0C2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D625-B8D8-4AF1-9292-74698D01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3095-59AF-40FE-9019-0A536371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3504-85F3-4FDA-9E32-CF7AB1A9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2232-94AF-4EC5-9BD3-785AEE03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5764-ADCE-4A1D-B0D2-83EEC1E2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605-6BE4-4B8A-9A78-B4E38F86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388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088E-D6BD-488E-A06B-446BB8DF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7565-A8C4-48E3-9C42-68FAF595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1640" y="530712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E6C4-492D-4DE9-8D85-84AE4253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388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F305-0791-44FD-A9DB-94BEB761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164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064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000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09F2-E0C8-4B22-A77C-21971764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C6C-2307-4849-9945-302F6815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E59-2211-4E59-A193-A3A378A2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1CE-21B7-40F1-97EB-2BE1024E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7D57-E826-4B9F-ABEA-51BACE6F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D2B-CED8-4C12-8133-89FF7C16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88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36E-D485-4C88-BD0E-964F60E9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3F5-2A0B-4485-A313-6496FA6C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0F0BB4-EEB4-43B9-86CC-25B1FA2E824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419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336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834A6E-F3B2-4514-893C-E4A290210B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4480" y="1811160"/>
            <a:ext cx="9043920" cy="2779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Урок химии по теме: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"Тепловой эффект химических реакций". </a:t>
            </a:r>
            <a:br>
              <a:rPr sz="1200"/>
            </a:br>
            <a:r>
              <a:rPr b="1" lang="ru-RU" sz="2800" spc="-1" strike="noStrike">
                <a:solidFill>
                  <a:srgbClr val="000080"/>
                </a:solidFill>
                <a:latin typeface="Arial"/>
              </a:rPr>
              <a:t>Расчёты по термохимическим уравнениям (ТХУ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407880" y="290520"/>
            <a:ext cx="9374400" cy="715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rcRect l="-615" t="0" r="0" b="8084"/>
          <a:stretch/>
        </p:blipFill>
        <p:spPr>
          <a:xfrm>
            <a:off x="684360" y="608040"/>
            <a:ext cx="8567640" cy="62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758880" y="209520"/>
            <a:ext cx="8217000" cy="699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95280" y="-192240"/>
            <a:ext cx="938844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имические явления – химические реа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503280" y="1895400"/>
            <a:ext cx="907236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Химическая реакция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процесс превращения одних веществ в други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953280" y="2970720"/>
            <a:ext cx="1842480" cy="1649520"/>
            <a:chOff x="953280" y="2970720"/>
            <a:chExt cx="1842480" cy="1649520"/>
          </a:xfrm>
        </p:grpSpPr>
        <p:sp>
          <p:nvSpPr>
            <p:cNvPr id="93" name="Oval 4"/>
            <p:cNvSpPr/>
            <p:nvPr/>
          </p:nvSpPr>
          <p:spPr>
            <a:xfrm rot="2160000">
              <a:off x="1101240" y="3105000"/>
              <a:ext cx="694440" cy="7300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5"/>
            <p:cNvSpPr/>
            <p:nvPr/>
          </p:nvSpPr>
          <p:spPr>
            <a:xfrm rot="2160000">
              <a:off x="1952640" y="3755520"/>
              <a:ext cx="694440" cy="73044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>
              <a:off x="1731600" y="3692880"/>
              <a:ext cx="274680" cy="20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Group 7"/>
          <p:cNvGrpSpPr/>
          <p:nvPr/>
        </p:nvGrpSpPr>
        <p:grpSpPr>
          <a:xfrm>
            <a:off x="2797920" y="3272040"/>
            <a:ext cx="2012040" cy="2707920"/>
            <a:chOff x="2797920" y="3272040"/>
            <a:chExt cx="2012040" cy="2707920"/>
          </a:xfrm>
        </p:grpSpPr>
        <p:sp>
          <p:nvSpPr>
            <p:cNvPr id="97" name="Oval 8"/>
            <p:cNvSpPr/>
            <p:nvPr/>
          </p:nvSpPr>
          <p:spPr>
            <a:xfrm flipH="1" rot="3900000">
              <a:off x="3538080" y="4638600"/>
              <a:ext cx="987480" cy="1256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9"/>
            <p:cNvSpPr/>
            <p:nvPr/>
          </p:nvSpPr>
          <p:spPr>
            <a:xfrm flipH="1" rot="3900000">
              <a:off x="3081600" y="3356640"/>
              <a:ext cx="987120" cy="1256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0"/>
            <p:cNvSpPr/>
            <p:nvPr/>
          </p:nvSpPr>
          <p:spPr>
            <a:xfrm flipH="1" flipV="1">
              <a:off x="3836520" y="4369320"/>
              <a:ext cx="13896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1"/>
            <p:cNvSpPr/>
            <p:nvPr/>
          </p:nvSpPr>
          <p:spPr>
            <a:xfrm flipH="1" flipV="1">
              <a:off x="3643560" y="4483800"/>
              <a:ext cx="141120" cy="38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12"/>
          <p:cNvGrpSpPr/>
          <p:nvPr/>
        </p:nvGrpSpPr>
        <p:grpSpPr>
          <a:xfrm>
            <a:off x="724680" y="4212720"/>
            <a:ext cx="1883880" cy="1686600"/>
            <a:chOff x="724680" y="4212720"/>
            <a:chExt cx="1883880" cy="1686600"/>
          </a:xfrm>
        </p:grpSpPr>
        <p:sp>
          <p:nvSpPr>
            <p:cNvPr id="102" name="Oval 13"/>
            <p:cNvSpPr/>
            <p:nvPr/>
          </p:nvSpPr>
          <p:spPr>
            <a:xfrm rot="2160000">
              <a:off x="875880" y="4349880"/>
              <a:ext cx="709200" cy="7459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4"/>
            <p:cNvSpPr/>
            <p:nvPr/>
          </p:nvSpPr>
          <p:spPr>
            <a:xfrm rot="2160000">
              <a:off x="1748160" y="5015880"/>
              <a:ext cx="708840" cy="7459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15"/>
            <p:cNvSpPr/>
            <p:nvPr/>
          </p:nvSpPr>
          <p:spPr>
            <a:xfrm>
              <a:off x="1522800" y="4953240"/>
              <a:ext cx="280080" cy="21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Line 16"/>
          <p:cNvSpPr/>
          <p:nvPr/>
        </p:nvSpPr>
        <p:spPr>
          <a:xfrm>
            <a:off x="4584600" y="4367160"/>
            <a:ext cx="151128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17"/>
          <p:cNvGrpSpPr/>
          <p:nvPr/>
        </p:nvGrpSpPr>
        <p:grpSpPr>
          <a:xfrm>
            <a:off x="6050520" y="4040280"/>
            <a:ext cx="2521440" cy="2860920"/>
            <a:chOff x="6050520" y="4040280"/>
            <a:chExt cx="2521440" cy="2860920"/>
          </a:xfrm>
        </p:grpSpPr>
        <p:sp>
          <p:nvSpPr>
            <p:cNvPr id="107" name="Oval 18"/>
            <p:cNvSpPr/>
            <p:nvPr/>
          </p:nvSpPr>
          <p:spPr>
            <a:xfrm rot="2160000">
              <a:off x="6919920" y="4687200"/>
              <a:ext cx="1445400" cy="1171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9"/>
            <p:cNvSpPr/>
            <p:nvPr/>
          </p:nvSpPr>
          <p:spPr>
            <a:xfrm>
              <a:off x="6780240" y="4646520"/>
              <a:ext cx="340200" cy="20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20"/>
            <p:cNvSpPr/>
            <p:nvPr/>
          </p:nvSpPr>
          <p:spPr>
            <a:xfrm rot="2160000">
              <a:off x="7361640" y="6162840"/>
              <a:ext cx="720000" cy="5821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21"/>
            <p:cNvSpPr/>
            <p:nvPr/>
          </p:nvSpPr>
          <p:spPr>
            <a:xfrm rot="2160000">
              <a:off x="6152760" y="4195440"/>
              <a:ext cx="718200" cy="5821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7724160" y="586980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Group 23"/>
          <p:cNvGrpSpPr/>
          <p:nvPr/>
        </p:nvGrpSpPr>
        <p:grpSpPr>
          <a:xfrm>
            <a:off x="6982560" y="2880360"/>
            <a:ext cx="2589840" cy="2937240"/>
            <a:chOff x="6982560" y="2880360"/>
            <a:chExt cx="2589840" cy="2937240"/>
          </a:xfrm>
        </p:grpSpPr>
        <p:sp>
          <p:nvSpPr>
            <p:cNvPr id="113" name="Oval 24"/>
            <p:cNvSpPr/>
            <p:nvPr/>
          </p:nvSpPr>
          <p:spPr>
            <a:xfrm rot="2160000">
              <a:off x="7875000" y="3549960"/>
              <a:ext cx="1485720" cy="1202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5"/>
            <p:cNvSpPr/>
            <p:nvPr/>
          </p:nvSpPr>
          <p:spPr>
            <a:xfrm>
              <a:off x="7729920" y="3502080"/>
              <a:ext cx="349200" cy="20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6"/>
            <p:cNvSpPr/>
            <p:nvPr/>
          </p:nvSpPr>
          <p:spPr>
            <a:xfrm rot="2160000">
              <a:off x="8329680" y="5061240"/>
              <a:ext cx="738360" cy="59616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27"/>
            <p:cNvSpPr/>
            <p:nvPr/>
          </p:nvSpPr>
          <p:spPr>
            <a:xfrm rot="2160000">
              <a:off x="7087680" y="3040200"/>
              <a:ext cx="738360" cy="5983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8"/>
            <p:cNvSpPr/>
            <p:nvPr/>
          </p:nvSpPr>
          <p:spPr>
            <a:xfrm>
              <a:off x="8700840" y="4759200"/>
              <a:ext cx="0" cy="29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Text Box 29"/>
          <p:cNvSpPr/>
          <p:nvPr/>
        </p:nvSpPr>
        <p:spPr>
          <a:xfrm>
            <a:off x="2570040" y="5902200"/>
            <a:ext cx="4284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= 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50328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Arial"/>
              </a:rPr>
              <a:t>Признаки химических реакций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503280" y="1895400"/>
            <a:ext cx="907236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нение цв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деление газ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зование или растворение осад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явление или исчезновение запах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Font typeface="Wingdings" charset="2"/>
              <a:buChar char="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деление или поглощение теп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503280" y="135000"/>
            <a:ext cx="831528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лассификация  химических реакций по тепловому эффект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1230480" y="1954080"/>
            <a:ext cx="6976800" cy="2692440"/>
            <a:chOff x="1230480" y="1954080"/>
            <a:chExt cx="6976800" cy="2692440"/>
          </a:xfrm>
        </p:grpSpPr>
        <p:pic>
          <p:nvPicPr>
            <p:cNvPr id="123" name="Picture 3" descr=""/>
            <p:cNvPicPr/>
            <p:nvPr/>
          </p:nvPicPr>
          <p:blipFill>
            <a:blip r:embed="rId1"/>
            <a:stretch/>
          </p:blipFill>
          <p:spPr>
            <a:xfrm>
              <a:off x="1230480" y="1954080"/>
              <a:ext cx="6976800" cy="26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4"/>
            <p:cNvSpPr/>
            <p:nvPr/>
          </p:nvSpPr>
          <p:spPr>
            <a:xfrm>
              <a:off x="1230480" y="1954080"/>
              <a:ext cx="6976800" cy="26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Rectangle 5"/>
          <p:cNvSpPr/>
          <p:nvPr/>
        </p:nvSpPr>
        <p:spPr>
          <a:xfrm>
            <a:off x="911160" y="5049720"/>
            <a:ext cx="4048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дут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 выделение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нерг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+ O2 = SO2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+ 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278320" y="5049720"/>
            <a:ext cx="3691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дут </a:t>
            </a:r>
            <a:r>
              <a:rPr b="1" i="1" lang="ru-RU" sz="2000" spc="-1" strike="noStrike">
                <a:solidFill>
                  <a:srgbClr val="ff0000"/>
                </a:solidFill>
                <a:latin typeface="Corbel"/>
              </a:rPr>
              <a:t>с поглощением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энергии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+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= 2NO 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–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38120" y="117900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ермохимия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раздел  химии, в задачу которого входит определение и изучение 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Arial"/>
              </a:rPr>
              <a:t>тепловых эффектов реакции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ермохимические уравнения </a:t>
            </a:r>
            <a:r>
              <a:rPr b="0" lang="ru-RU" sz="3200" spc="-1" strike="noStrike">
                <a:solidFill>
                  <a:srgbClr val="280099"/>
                </a:solidFill>
                <a:latin typeface="Arial"/>
              </a:rPr>
              <a:t>– уравнения в которых указывается количество поглощенной или выделенной теплоты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2HgO —&gt; 2Hg + O</a:t>
            </a:r>
            <a:r>
              <a:rPr b="0" lang="ru-RU" sz="3200" spc="-1" strike="noStrike" baseline="-16000">
                <a:solidFill>
                  <a:srgbClr val="00008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– 180 кДж,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С(тв) + O</a:t>
            </a:r>
            <a:r>
              <a:rPr b="0" lang="ru-RU" sz="3200" spc="-1" strike="noStrike" baseline="-16000">
                <a:solidFill>
                  <a:srgbClr val="00008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(г) —&gt; СO</a:t>
            </a:r>
            <a:r>
              <a:rPr b="0" lang="ru-RU" sz="3200" spc="-1" strike="noStrike" baseline="-16000">
                <a:solidFill>
                  <a:srgbClr val="00008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(г) + 394 кДж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71280" y="490680"/>
            <a:ext cx="8599320" cy="6264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1000"/>
          </a:bodyPr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По термохимическим уравнениям реакций можно проводить различные расчёты.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Для решения задач по термохимическим уравнениям реакций нужно записать само уравнение и провести необходимые расчеты по нему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 algn="just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лгоритм решения задач по термохимическому уравнению реакци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1. Кратко записать условия задачи (“дано”)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2.Записать термохимическое уравнение реакции (ТХУ), одной чертой в уравнении реакции подчеркивают то, что известно, двумя чертами подчёркивают то, что необходимо определить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3.Провести вспомогательные вычисления ( </a:t>
            </a:r>
            <a:r>
              <a:rPr b="0" i="1" lang="ru-RU" sz="3200" spc="-1" strike="noStrike">
                <a:solidFill>
                  <a:srgbClr val="000080"/>
                </a:solidFill>
                <a:latin typeface="Arial"/>
              </a:rPr>
              <a:t>М</a:t>
            </a:r>
            <a:r>
              <a:rPr b="0" i="1" lang="ru-RU" sz="3200" spc="-1" strike="noStrike" baseline="-16000">
                <a:solidFill>
                  <a:srgbClr val="000080"/>
                </a:solidFill>
                <a:latin typeface="Arial"/>
              </a:rPr>
              <a:t>r</a:t>
            </a:r>
            <a:r>
              <a:rPr b="0" i="1" lang="ru-RU" sz="3200" spc="-1" strike="noStrike">
                <a:solidFill>
                  <a:srgbClr val="000080"/>
                </a:solidFill>
                <a:latin typeface="Arial"/>
              </a:rPr>
              <a:t>, М,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m)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4.Составить соотношение, используя вспомогательные вычисления и условия задачи; решить соотношение (пропорцию)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5.Записать ответ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662040" y="76320"/>
            <a:ext cx="9050400" cy="74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rcRect l="0" t="0" r="0" b="6249"/>
          <a:stretch/>
        </p:blipFill>
        <p:spPr>
          <a:xfrm>
            <a:off x="485640" y="441360"/>
            <a:ext cx="8921880" cy="650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479520" y="366840"/>
            <a:ext cx="9502560" cy="709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1T22:44:35Z</dcterms:created>
  <dc:creator/>
  <dc:description/>
  <dc:language>en-US</dc:language>
  <cp:lastModifiedBy>Admin</cp:lastModifiedBy>
  <dcterms:modified xsi:type="dcterms:W3CDTF">2017-04-18T09:43:03Z</dcterms:modified>
  <cp:revision>1</cp:revision>
  <dc:subject/>
  <dc:title>Урок химии по теме:  "Тепловой эффект химических реакций".  Расчёты по термохимическим уравнениям (ТХУ)</dc:title>
</cp:coreProperties>
</file>