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40D-030D-49B7-BB5C-E6640BCE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09D-83EE-4718-B93E-1EEACB3C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69D-DE8C-4EB6-B926-05F0F7DE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4BC-1B0B-43D1-9F98-A4D697BB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1F8-AD4E-4569-BA3E-84EE5416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4A8-6C60-4437-994E-72AB536C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296-9930-47AF-963A-08D058C1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7AA-D6A9-47C5-9A90-F6FB7A68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CE9-D6F7-49BB-AA58-1425C121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6BC-2C94-4C54-B049-1587D421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FAA-F3A8-473F-8511-09A95C39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3E5-2DDF-448E-83CF-8CCCADB3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C913-E6B9-4E06-A924-4EBD95B17C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575928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Monotype Corsiva"/>
              </a:rPr>
              <a:t>«</a:t>
            </a:r>
            <a:r>
              <a:rPr b="0" lang="ru-RU" sz="8800" spc="-1" strike="noStrike">
                <a:solidFill>
                  <a:srgbClr val="c00000"/>
                </a:solidFill>
                <a:latin typeface="Monotype Corsiva"/>
              </a:rPr>
              <a:t>Насекомые</a:t>
            </a:r>
            <a:r>
              <a:rPr b="0" lang="ru-RU" sz="5400" spc="-1" strike="noStrike">
                <a:solidFill>
                  <a:srgbClr val="c00000"/>
                </a:solidFill>
                <a:latin typeface="Monotype Corsiva"/>
              </a:rPr>
              <a:t>»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404640" y="4785840"/>
            <a:ext cx="5184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оспитатель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: Карапетян К.Ш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БДОУ  ДС № 1 р.п.Тамала</a:t>
            </a:r>
            <a:r>
              <a:rPr b="1" lang="ru-RU" sz="2800" spc="-1" strike="noStrike">
                <a:solidFill>
                  <a:srgbClr val="89898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С П А С И Б 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23440" y="5589360"/>
            <a:ext cx="89154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З А   В Н И М А Н И Е 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301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Monotype Corsiva"/>
              </a:rPr>
              <a:t>Ж У 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 rot="10800000">
            <a:off x="494640" y="6788160"/>
            <a:ext cx="89154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lnSpc>
                <a:spcPct val="4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460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Monotype Corsiva"/>
              </a:rPr>
              <a:t>МУРАВЕ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 rot="10800000">
            <a:off x="494640" y="6858000"/>
            <a:ext cx="891540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4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366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Monotype Corsiva"/>
              </a:rPr>
              <a:t>М У Х 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88520" y="6858000"/>
            <a:ext cx="89154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lnSpc>
                <a:spcPct val="4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60520" y="274320"/>
            <a:ext cx="57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Monotype Corsiva"/>
              </a:rPr>
              <a:t>БАБОЧ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 rot="10800000">
            <a:off x="494640" y="6858000"/>
            <a:ext cx="891540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4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55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Monotype Corsiva"/>
              </a:rPr>
              <a:t>КУЗНЕЧИ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 rot="10800000">
            <a:off x="494640" y="6858000"/>
            <a:ext cx="891540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4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323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ff"/>
                </a:solidFill>
                <a:uFillTx/>
                <a:latin typeface="Monotype Corsiva"/>
              </a:rPr>
              <a:t>П А У 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 rot="10800000">
            <a:off x="494640" y="6858000"/>
            <a:ext cx="891540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388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Monotype Corsiva"/>
              </a:rPr>
              <a:t>П Ч Е Л 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 rot="10800000">
            <a:off x="494640" y="6742080"/>
            <a:ext cx="8915400" cy="1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668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Monotype Corsiva"/>
              </a:rPr>
              <a:t>БОЖЬЯ КОРОВ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5000" y="6788160"/>
            <a:ext cx="89154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3:24:18Z</dcterms:created>
  <dc:creator>ZAO</dc:creator>
  <dc:description/>
  <dc:language>en-US</dc:language>
  <cp:lastModifiedBy>Vlad</cp:lastModifiedBy>
  <cp:lastPrinted>2015-03-23T13:56:56Z</cp:lastPrinted>
  <dcterms:modified xsi:type="dcterms:W3CDTF">2020-04-05T17:32:55Z</dcterms:modified>
  <cp:revision>116</cp:revision>
  <dc:subject/>
  <dc:title>Текстовый редактор</dc:title>
</cp:coreProperties>
</file>