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FF55-D3EA-42A3-9AD6-ABA5D375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7949-2D6D-4E7B-99F0-C845DCD4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0831-0576-477D-BAF8-D8DC45F4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9AFD-FF26-4E61-861A-908A492E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55BD-F33F-46D2-91EE-8D141624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A437-1990-4A2D-9EF1-DB8B04F2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2035-0AD9-4FDB-8ACC-D802A304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9B55-E9F9-4C22-B694-7CFB7667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9FF1-F3BE-432C-A3FA-9FBA6656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6F86-1492-453E-B1F8-AF1D57EE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FC06-A6B8-49B8-8695-9E4C9F12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554-DE90-4A5D-AD1F-5B39A8C9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FC4C-B3BA-459B-925B-E7589771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2223-9FA1-46F2-9A19-0CE58B2D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D4B7-ACA1-4E3C-B440-F7AC6FF4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2188-A0D9-4C2B-BA6F-D1C680A0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E0FA-060A-4CED-8969-B5634DA0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D7D-1584-49B3-B228-052D0BCD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67A2-47C3-4757-AFCF-4025E9B0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5CE4-C91F-4277-9680-F77BD005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F79-ACB5-4E7B-AA76-D6FBA552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AE03-F1A1-4339-851D-48597469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2BA-0D99-4C25-95EE-2C82560C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E69-D2FE-4B4C-8F6F-8C4C6E45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706E-D5C0-4829-9AC4-302DE27977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4BB1-CACF-4412-8334-F7DA39515A10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Система игр с логическими блоками Дьенеша как средство развития мыслительных операций дошкольников</a:t>
            </a:r>
            <a:endParaRPr b="0" lang="en-US" sz="40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18920" y="4149360"/>
            <a:ext cx="7047000" cy="23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талья Вячеславовна Прохорова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тель МКДОУ №107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900000" y="333000"/>
            <a:ext cx="777240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Игры на выявление и абстрагирование свойств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Найди клад»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Угадай-ка»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Помоги муравьишкам»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Автотрасса»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Необычные фигуры»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Где чей гараж? (построй дом)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Игры на выявление и абстрагирование свойств</a:t>
            </a: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68436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Rectangle 30"/>
          <p:cNvSpPr/>
          <p:nvPr/>
        </p:nvSpPr>
        <p:spPr>
          <a:xfrm>
            <a:off x="1116000" y="198900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52" name="Picture 43" descr="100_5166"/>
          <p:cNvPicPr/>
          <p:nvPr/>
        </p:nvPicPr>
        <p:blipFill>
          <a:blip r:embed="rId1"/>
          <a:stretch/>
        </p:blipFill>
        <p:spPr>
          <a:xfrm>
            <a:off x="2195640" y="2133720"/>
            <a:ext cx="4817880" cy="3600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5"/>
          <p:cNvSpPr/>
          <p:nvPr/>
        </p:nvSpPr>
        <p:spPr>
          <a:xfrm>
            <a:off x="2700360" y="587700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Автотрасса»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971280" y="691920"/>
            <a:ext cx="78008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Игры на сравнение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Дорожки»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Домино»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Найди пару»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Две дорожки»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оймай тройку»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Игры на сравнение</a:t>
            </a: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68436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116000" y="198900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700360" y="587700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Дорожки»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60" name="Picture 11" descr="100_5363"/>
          <p:cNvPicPr/>
          <p:nvPr/>
        </p:nvPicPr>
        <p:blipFill>
          <a:blip r:embed="rId1"/>
          <a:stretch/>
        </p:blipFill>
        <p:spPr>
          <a:xfrm>
            <a:off x="2124000" y="2133720"/>
            <a:ext cx="482436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4000" y="2636640"/>
            <a:ext cx="806436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 Где чей гараж?»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Засели домики»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У кого в гостях Винни-Пух и Пятачок?»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403280" y="476280"/>
            <a:ext cx="748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Игры на классификацию и обобщение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Логические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действия и операции</a:t>
            </a: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82692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987640" y="58053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Где чей гараж?»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66" name="Picture 9" descr="100_5358"/>
          <p:cNvPicPr/>
          <p:nvPr/>
        </p:nvPicPr>
        <p:blipFill>
          <a:blip r:embed="rId1"/>
          <a:stretch/>
        </p:blipFill>
        <p:spPr>
          <a:xfrm>
            <a:off x="4859280" y="2637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100_5354"/>
          <p:cNvPicPr/>
          <p:nvPr/>
        </p:nvPicPr>
        <p:blipFill>
          <a:blip r:embed="rId2"/>
          <a:stretch/>
        </p:blipFill>
        <p:spPr>
          <a:xfrm>
            <a:off x="539640" y="263700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Игры на классификацию и обобщение</a:t>
            </a: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pic>
        <p:nvPicPr>
          <p:cNvPr id="169" name="Picture 14" descr="100_5168"/>
          <p:cNvPicPr/>
          <p:nvPr/>
        </p:nvPicPr>
        <p:blipFill>
          <a:blip r:embed="rId1"/>
          <a:stretch/>
        </p:blipFill>
        <p:spPr>
          <a:xfrm>
            <a:off x="2124000" y="2205000"/>
            <a:ext cx="5184720" cy="38275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4"/>
          <p:cNvSpPr/>
          <p:nvPr/>
        </p:nvSpPr>
        <p:spPr>
          <a:xfrm>
            <a:off x="82692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132000" y="609300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Засели домики»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187280" y="1989000"/>
            <a:ext cx="68407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«Помоги фигурам выбраться из леса»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«Загадки без слов»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«Угадай фигуру»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«Сократи слово»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«Построй дом»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«Раздели блоки-1»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«Раздели блоки-2»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«Раздели блоки-3»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332000" y="189000"/>
            <a:ext cx="714852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Логические 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действия и операции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Логические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действия и операции</a:t>
            </a: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2692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132000" y="609300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Засели домики»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77" name="Picture 7" descr="100_5356"/>
          <p:cNvPicPr/>
          <p:nvPr/>
        </p:nvPicPr>
        <p:blipFill>
          <a:blip r:embed="rId1"/>
          <a:stretch/>
        </p:blipFill>
        <p:spPr>
          <a:xfrm>
            <a:off x="2268360" y="2349360"/>
            <a:ext cx="4969080" cy="3764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Логические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действия и операции</a:t>
            </a: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68436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116000" y="198900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2" name="Picture 9" descr="100_5182"/>
          <p:cNvPicPr/>
          <p:nvPr/>
        </p:nvPicPr>
        <p:blipFill>
          <a:blip r:embed="rId1"/>
          <a:stretch/>
        </p:blipFill>
        <p:spPr>
          <a:xfrm>
            <a:off x="2195640" y="1989000"/>
            <a:ext cx="4883040" cy="38163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"/>
          <p:cNvSpPr/>
          <p:nvPr/>
        </p:nvSpPr>
        <p:spPr>
          <a:xfrm>
            <a:off x="2916360" y="587700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Построй дом»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4000" y="227664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у детей в комплексе всех важных для умственного развития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и в частности математического)  мыслительных умений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протяжении всего дошкольного обучения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Логические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действия и операции</a:t>
            </a: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476360" y="5876640"/>
            <a:ext cx="561672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68436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1116000" y="198900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26920" y="3789000"/>
            <a:ext cx="3810240" cy="19810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4"/>
          <p:cNvSpPr/>
          <p:nvPr/>
        </p:nvSpPr>
        <p:spPr>
          <a:xfrm>
            <a:off x="1476360" y="618804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пень сложности игры «Построй дом»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144760" y="2017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91" name="Picture 9" descr="C:\Users\User\Desktop\ывывывфвыфвфыывф.jpg"/>
          <p:cNvPicPr/>
          <p:nvPr/>
        </p:nvPicPr>
        <p:blipFill>
          <a:blip r:embed="rId2"/>
          <a:stretch/>
        </p:blipFill>
        <p:spPr>
          <a:xfrm>
            <a:off x="1763640" y="1727280"/>
            <a:ext cx="5256360" cy="4084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Игры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с кодовыми карточками</a:t>
            </a: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82600" y="201744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94" name="Picture 9" descr="100_5179"/>
          <p:cNvPicPr/>
          <p:nvPr/>
        </p:nvPicPr>
        <p:blipFill>
          <a:blip r:embed="rId1"/>
          <a:stretch/>
        </p:blipFill>
        <p:spPr>
          <a:xfrm>
            <a:off x="539640" y="2637000"/>
            <a:ext cx="3745080" cy="28796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2195640" y="19162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116000" y="198900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97" name="Picture 12" descr="100_5177"/>
          <p:cNvPicPr/>
          <p:nvPr/>
        </p:nvPicPr>
        <p:blipFill>
          <a:blip r:embed="rId2"/>
          <a:stretch/>
        </p:blipFill>
        <p:spPr>
          <a:xfrm>
            <a:off x="4932360" y="2637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547640" y="981000"/>
            <a:ext cx="68407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 Unicode MS"/>
              </a:rPr>
              <a:t>Диагностика на начало года</a:t>
            </a: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pic>
        <p:nvPicPr>
          <p:cNvPr id="104" name="Содержимое 5" descr=""/>
          <p:cNvPicPr/>
          <p:nvPr/>
        </p:nvPicPr>
        <p:blipFill>
          <a:blip r:embed="rId1"/>
          <a:stretch/>
        </p:blipFill>
        <p:spPr>
          <a:xfrm>
            <a:off x="928800" y="178596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 Unicode MS"/>
              </a:rPr>
              <a:t>Диагностика на конец года</a:t>
            </a: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pic>
        <p:nvPicPr>
          <p:cNvPr id="106" name="Содержимое 7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Логические блоки Дьенеша (ЛБД)</a:t>
            </a: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2276640"/>
            <a:ext cx="43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алоны форм - геометрических фигур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круг, квадрат, равносторонний треугольник, прямоугольник)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ъемные и плоскостные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09" name="Picture 9" descr="100_5351"/>
          <p:cNvPicPr/>
          <p:nvPr/>
        </p:nvPicPr>
        <p:blipFill>
          <a:blip r:embed="rId1"/>
          <a:stretch/>
        </p:blipFill>
        <p:spPr>
          <a:xfrm>
            <a:off x="5148360" y="2349360"/>
            <a:ext cx="2925720" cy="3902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Самостоятельное знакомство детей с ЛБД</a:t>
            </a: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pic>
        <p:nvPicPr>
          <p:cNvPr id="111" name="Picture 7" descr="100_5139"/>
          <p:cNvPicPr/>
          <p:nvPr/>
        </p:nvPicPr>
        <p:blipFill>
          <a:blip r:embed="rId1"/>
          <a:stretch/>
        </p:blipFill>
        <p:spPr>
          <a:xfrm>
            <a:off x="4932360" y="2637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630864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587600" y="223344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4" name="Picture 15" descr="100_5141"/>
          <p:cNvPicPr/>
          <p:nvPr/>
        </p:nvPicPr>
        <p:blipFill>
          <a:blip r:embed="rId2"/>
          <a:stretch/>
        </p:blipFill>
        <p:spPr>
          <a:xfrm>
            <a:off x="468360" y="2637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4 группы игр с ЛБД</a:t>
            </a: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2637000"/>
            <a:ext cx="849780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ление и абстрагирование  свойств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ификация и обобщение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гические действия и операции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Степени сложности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игр с ЛБД</a:t>
            </a: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спользуются только блоки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блоки и карточки-символы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- блоки и карточки-символы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Два маршрута</a:t>
            </a:r>
            <a:endParaRPr b="0" lang="en-US" sz="44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349000"/>
            <a:ext cx="900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тепень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ложности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игр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95280" y="5660640"/>
            <a:ext cx="8748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1            2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3     4                                1            2         3    4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ы игр и упражнений                              Группы игр и упражнений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Line 72"/>
          <p:cNvSpPr/>
          <p:nvPr/>
        </p:nvSpPr>
        <p:spPr>
          <a:xfrm flipV="1">
            <a:off x="1619280" y="270828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Line 73"/>
          <p:cNvSpPr/>
          <p:nvPr/>
        </p:nvSpPr>
        <p:spPr>
          <a:xfrm>
            <a:off x="1692360" y="53737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Line 103"/>
          <p:cNvSpPr/>
          <p:nvPr/>
        </p:nvSpPr>
        <p:spPr>
          <a:xfrm flipV="1">
            <a:off x="6300720" y="278100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Line 104"/>
          <p:cNvSpPr/>
          <p:nvPr/>
        </p:nvSpPr>
        <p:spPr>
          <a:xfrm>
            <a:off x="6300720" y="5445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Line 105"/>
          <p:cNvSpPr/>
          <p:nvPr/>
        </p:nvSpPr>
        <p:spPr>
          <a:xfrm>
            <a:off x="1835280" y="5013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Line 106"/>
          <p:cNvSpPr/>
          <p:nvPr/>
        </p:nvSpPr>
        <p:spPr>
          <a:xfrm>
            <a:off x="2771640" y="501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Line 107"/>
          <p:cNvSpPr/>
          <p:nvPr/>
        </p:nvSpPr>
        <p:spPr>
          <a:xfrm flipH="1" flipV="1">
            <a:off x="1763280" y="4292640"/>
            <a:ext cx="252108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Line 108"/>
          <p:cNvSpPr/>
          <p:nvPr/>
        </p:nvSpPr>
        <p:spPr>
          <a:xfrm>
            <a:off x="1835280" y="429264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Line 109"/>
          <p:cNvSpPr/>
          <p:nvPr/>
        </p:nvSpPr>
        <p:spPr>
          <a:xfrm>
            <a:off x="2771640" y="429264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Line 110"/>
          <p:cNvSpPr/>
          <p:nvPr/>
        </p:nvSpPr>
        <p:spPr>
          <a:xfrm flipH="1" flipV="1">
            <a:off x="1692360" y="3573360"/>
            <a:ext cx="2519280" cy="7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Line 111"/>
          <p:cNvSpPr/>
          <p:nvPr/>
        </p:nvSpPr>
        <p:spPr>
          <a:xfrm>
            <a:off x="1692360" y="3573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Line 112"/>
          <p:cNvSpPr/>
          <p:nvPr/>
        </p:nvSpPr>
        <p:spPr>
          <a:xfrm>
            <a:off x="255600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Line 113"/>
          <p:cNvSpPr/>
          <p:nvPr/>
        </p:nvSpPr>
        <p:spPr>
          <a:xfrm>
            <a:off x="385128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Rectangle 117"/>
          <p:cNvSpPr/>
          <p:nvPr/>
        </p:nvSpPr>
        <p:spPr>
          <a:xfrm>
            <a:off x="250920" y="2205000"/>
            <a:ext cx="5349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6" name="Rectangle 118"/>
          <p:cNvSpPr/>
          <p:nvPr/>
        </p:nvSpPr>
        <p:spPr>
          <a:xfrm>
            <a:off x="4643280" y="2349360"/>
            <a:ext cx="900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арианты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игр и 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пражнений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7" name="Line 119"/>
          <p:cNvSpPr/>
          <p:nvPr/>
        </p:nvSpPr>
        <p:spPr>
          <a:xfrm flipV="1">
            <a:off x="6732720" y="4005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Line 120"/>
          <p:cNvSpPr/>
          <p:nvPr/>
        </p:nvSpPr>
        <p:spPr>
          <a:xfrm flipV="1">
            <a:off x="6732720" y="3068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Line 121"/>
          <p:cNvSpPr/>
          <p:nvPr/>
        </p:nvSpPr>
        <p:spPr>
          <a:xfrm flipV="1">
            <a:off x="7524720" y="393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Line 122"/>
          <p:cNvSpPr/>
          <p:nvPr/>
        </p:nvSpPr>
        <p:spPr>
          <a:xfrm flipV="1">
            <a:off x="8317080" y="4005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1" name="Line 123"/>
          <p:cNvSpPr/>
          <p:nvPr/>
        </p:nvSpPr>
        <p:spPr>
          <a:xfrm flipV="1">
            <a:off x="7524720" y="3141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Line 124"/>
          <p:cNvSpPr/>
          <p:nvPr/>
        </p:nvSpPr>
        <p:spPr>
          <a:xfrm flipV="1">
            <a:off x="8317080" y="3068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Line 125"/>
          <p:cNvSpPr/>
          <p:nvPr/>
        </p:nvSpPr>
        <p:spPr>
          <a:xfrm>
            <a:off x="6732720" y="3068640"/>
            <a:ext cx="79200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Line 126"/>
          <p:cNvSpPr/>
          <p:nvPr/>
        </p:nvSpPr>
        <p:spPr>
          <a:xfrm>
            <a:off x="7524720" y="3141720"/>
            <a:ext cx="79236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5" name="Rectangle 127"/>
          <p:cNvSpPr/>
          <p:nvPr/>
        </p:nvSpPr>
        <p:spPr>
          <a:xfrm>
            <a:off x="5580000" y="2492280"/>
            <a:ext cx="684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Rectangle 128"/>
          <p:cNvSpPr/>
          <p:nvPr/>
        </p:nvSpPr>
        <p:spPr>
          <a:xfrm>
            <a:off x="826920" y="2565360"/>
            <a:ext cx="684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9:26:01Z</dcterms:created>
  <dc:creator>Ирина</dc:creator>
  <dc:description/>
  <dc:language>en-US</dc:language>
  <cp:lastModifiedBy>User</cp:lastModifiedBy>
  <dcterms:modified xsi:type="dcterms:W3CDTF">2020-04-05T13:52:19Z</dcterms:modified>
  <cp:revision>28</cp:revision>
  <dc:subject/>
  <dc:title>Логические блоки Дьенеша-универсальный дидактический материал</dc:title>
</cp:coreProperties>
</file>