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37F-5C82-47C7-8963-BC4F1EDE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0B9-AA12-480B-B7FA-FFCF79C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B1E-806D-4560-AA59-CC4314B0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487-E8FB-4733-A314-EA4697E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00E-F504-4D61-8DAF-BFD73977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799-08D4-4659-94B3-42196764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C4E-6309-40C7-9D1A-ACDDFEC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730-AA62-46DB-BD2D-C66B1E6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D0-A6BE-46B1-9250-E4B7777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FC7-BB7C-4686-8404-3FDCFF4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7DB-7516-4728-83A8-B29E87F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7DC-3FF6-4411-B585-FE0BF6A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0824-7B4C-4B4A-B4EA-78912781C7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xn--80aaaglsgkc1b.su/img/upload/Palmtop_Aquari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7e7ff"/>
                </a:solidFill>
                <a:latin typeface="Monotype Corsiva"/>
              </a:rPr>
              <a:t>Проект «Аквариум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133720" y="19810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Физкультминутка </a:t>
            </a:r>
            <a:r>
              <a:rPr b="1" i="1" lang="ru-RU" sz="2800" spc="-1" strike="noStrike">
                <a:solidFill>
                  <a:srgbClr val="47ffd1"/>
                </a:solidFill>
                <a:latin typeface="Arial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рыбки</a:t>
            </a:r>
            <a:r>
              <a:rPr b="1" i="1" lang="ru-RU" sz="2800" spc="-1" strike="noStrike">
                <a:solidFill>
                  <a:srgbClr val="47ffd1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Рыбки плавали, ныря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В тёплой, ласковой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Хвост налево, хвост напра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То зароются в пес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3520" y="4576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С помощью простого карандаша доводим нашу заготовку до конца: рисуем глаза (с двух сторон), хвост и плав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3" descr="http://nsc.1september.ru/2002/11/29.gif"/>
          <p:cNvPicPr/>
          <p:nvPr/>
        </p:nvPicPr>
        <p:blipFill>
          <a:blip r:embed="rId1"/>
          <a:stretch/>
        </p:blipFill>
        <p:spPr>
          <a:xfrm>
            <a:off x="4950000" y="1444680"/>
            <a:ext cx="2000160" cy="2450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nsc.1september.ru/2002/11/29.gif"/>
          <p:cNvPicPr/>
          <p:nvPr/>
        </p:nvPicPr>
        <p:blipFill>
          <a:blip r:embed="rId2"/>
          <a:stretch/>
        </p:blipFill>
        <p:spPr>
          <a:xfrm>
            <a:off x="1974960" y="1444680"/>
            <a:ext cx="2073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nsc.1september.ru/2002/11/30.gif"/>
          <p:cNvPicPr/>
          <p:nvPr/>
        </p:nvPicPr>
        <p:blipFill>
          <a:blip r:embed="rId1"/>
          <a:stretch/>
        </p:blipFill>
        <p:spPr>
          <a:xfrm>
            <a:off x="1292400" y="1670040"/>
            <a:ext cx="2663640" cy="2755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533520" y="48812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 Форма хвоста и плавников может быть раз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 теперь берем ножницы и по нарисованной линии отрезаем лишние эле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4" descr="http://nsc.1september.ru/2002/11/30.gif"/>
          <p:cNvPicPr/>
          <p:nvPr/>
        </p:nvPicPr>
        <p:blipFill>
          <a:blip r:embed="rId2"/>
          <a:stretch/>
        </p:blipFill>
        <p:spPr>
          <a:xfrm>
            <a:off x="5022720" y="1670040"/>
            <a:ext cx="2670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nsc.1september.ru/2002/11/30.gif"/>
          <p:cNvPicPr/>
          <p:nvPr/>
        </p:nvPicPr>
        <p:blipFill>
          <a:blip r:embed="rId1"/>
          <a:stretch/>
        </p:blipFill>
        <p:spPr>
          <a:xfrm>
            <a:off x="1292400" y="1670040"/>
            <a:ext cx="2663640" cy="2755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533520" y="5247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. Прорисовываем все элементы фломасте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4" descr="http://nsc.1september.ru/2002/11/30.gif"/>
          <p:cNvPicPr/>
          <p:nvPr/>
        </p:nvPicPr>
        <p:blipFill>
          <a:blip r:embed="rId2"/>
          <a:stretch/>
        </p:blipFill>
        <p:spPr>
          <a:xfrm>
            <a:off x="5022720" y="1670040"/>
            <a:ext cx="2670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http://nsc.1september.ru/2002/11/32.gif"/>
          <p:cNvPicPr/>
          <p:nvPr/>
        </p:nvPicPr>
        <p:blipFill>
          <a:blip r:embed="rId1"/>
          <a:stretch/>
        </p:blipFill>
        <p:spPr>
          <a:xfrm>
            <a:off x="1060560" y="378000"/>
            <a:ext cx="7559640" cy="4736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219320" y="5747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. Приклеиваем рыб  в аквари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 изделия. Работа с пла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 каким материалом будем работать на уроке? (С бумаго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ую технику будем использовать в своей работе? (Ориг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Что такое оригами? (Ответы дет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тория оригами началась с изобретением бумаги. Это произошло в Китае около 1800 лет тому назад. Появились сложенные из бумаги ширмы, ве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удожественные изделия из сложенной бумаги (оригами) впервые стали изготавливать в Японии. Бумажные фигурки и сегодня очень распространены в этой стране. Они используются и в повседневной жизни, и во время праздников, обрядов. Бумажный журавлик давно известен в Японии как талисман, приносящий счастье. Его изображают на открытках с пожеланиями здоровья. Он стал символом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акой формы должен быть ваш лист? (Квадратной). Как его изготовить из прямоугольной заготов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2743200" y="5715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бки в аквариум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а: Аквари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ование бережного отношения к окружающему миру через искусство складывания бумаги – оригами (на примере выполнения рыбки, как жителя аквариум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тельны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ать общие сведения о водной среде, рыбах; развивать мелкую моторику, координацию движений, сенсор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воспитывать бережное отношение к живым существам, способствовать новым открытиям детьми крас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УД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навательные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оводить анализ изделия по заданным критериям преобразовывать информацию из одной формы в другую, составлять ответы на вопро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чностные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нимание значения бережного отношения к окружающему ми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гулятивные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рганизовывать свое рабочее место под руководством учителя, определять и формулировать цель на уроке; планировать своё действие в соответствии с поставленной задачей; вносить необходимые коррективы в действие после его завершения на основе его оценки и учёта характера сделанных ошиб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муникативные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мение вступать в диалог, взаимодействовать, слушать и понимать речь других; оформлять свои мысли в устной форме; договариваться с одноклассниками совместно с учителем о правилах поведения и общения и следовать и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нируемы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едметны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ть общие представления о работе с бумагой; осуществлять практическую работу с использованием бумаги: создание изделия в технике ори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чностные: 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ь проводить самооцен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тапредметные: 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ь определять и формулировать цель на уроке; планировать своё действие в соответствии с поставленной задачей; вносить необходимые коррективы в действие после его завершения на основе его оценки и учёта характера сделанных ошибок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гулятивные УУ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ть слушать и понимать речь других;  оформлять свои мысли в устной форме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ммуникативные УУ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ть ориентироваться в своей системе знаний; осуществлять анализ объектов; находить ответы на вопросы в иллюстрациях;  преобразовывать информацию из одной формы в другую: составлять ответы на вопросы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Познавательные УУ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термины и понят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ыба, аквариум, оригами, план выполнения работы,  анализ издел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учител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презентация, инструменты и приспособления для выполнения изделия: цветная бумага, ножницы, ватман (с рисунком аквариума), двусторонний скот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- учащихс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цветная бумага, ножницы, простой карандаш, фломасте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- ТС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мпьютер и мультимедийный проектор с экра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ация пространства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онтальная работа, индивидуальная рабо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предметная связь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ружающий ми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тод обуче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репродуктивный, иллюстративно – объяснительный, (словесный, наглядный, практически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а организации и деятельност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фронтальный, индивидуальны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рядок изготовления рыбо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5562360"/>
            <a:ext cx="7924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Берем цветной квадрат, сгибаем по диагонал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6" descr="http://nsc.1september.ru/2002/11/25.gif"/>
          <p:cNvPicPr/>
          <p:nvPr/>
        </p:nvPicPr>
        <p:blipFill>
          <a:blip r:embed="rId1"/>
          <a:stretch/>
        </p:blipFill>
        <p:spPr>
          <a:xfrm>
            <a:off x="2584440" y="1596960"/>
            <a:ext cx="4206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14400" y="5412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Складываем квадрат пополам и хорошо проминаем все сгиб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Рисунок 5" descr="http://nsc.1september.ru/2002/11/27.gif"/>
          <p:cNvPicPr/>
          <p:nvPr/>
        </p:nvPicPr>
        <p:blipFill>
          <a:blip r:embed="rId1"/>
          <a:stretch/>
        </p:blipFill>
        <p:spPr>
          <a:xfrm>
            <a:off x="1292400" y="1292400"/>
            <a:ext cx="64134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838080" y="548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Из получившейся заготовки мы получаем основу – треуголь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Рисунок 2" descr="http://nsc.1september.ru/2002/11/28.gif"/>
          <p:cNvPicPr/>
          <p:nvPr/>
        </p:nvPicPr>
        <p:blipFill>
          <a:blip r:embed="rId1"/>
          <a:stretch/>
        </p:blipFill>
        <p:spPr>
          <a:xfrm>
            <a:off x="2127240" y="603360"/>
            <a:ext cx="5121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9:10:41Z</dcterms:created>
  <dc:creator>Admin</dc:creator>
  <dc:description/>
  <dc:language>en-US</dc:language>
  <cp:lastModifiedBy>Admin</cp:lastModifiedBy>
  <dcterms:modified xsi:type="dcterms:W3CDTF">2014-11-24T08:54:55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