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4F9-438E-4849-B6F7-E3CF13FC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D1A-EC82-4CFA-80EB-8695A38E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789-D15F-4737-91A0-950E7591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278-951C-46F2-B074-73986C8C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B30E-FC02-49BE-96FB-291ABDCF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F638-7B51-430F-B8FE-1004C7FB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332B-B493-45CE-AD42-25C7F858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540B-ECF7-42EF-85A3-DCAAA92E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0E33-4ED1-4EAE-A934-ABFEBD78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6DBA-85D5-4C27-A378-FE8189E0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6B2E-0BA0-4EAF-A0A5-25E08CC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DBF-19AA-4EDC-9998-DDE5E932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3888-6EC1-4CB1-928C-7CC842FE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66CC-7A4C-4E9D-992F-5D2C69F9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996A-F0CC-4F06-AA1D-A2D0D3D3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A774-CE64-4536-B87B-47DBABEC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DE9B-4D3A-4C75-BD91-DD587C90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EB60-801D-4C07-A1D2-110C4D30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3346-252D-438B-A5AD-88137AA7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F4550-9549-46DC-AF14-66EBE26D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1E12-85BB-4759-9F5A-88871854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DBA6-DC27-4F9C-8AA3-6E6835DE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D2F-8DC1-4EA8-B835-BB5953F2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35262-4B9E-45F4-A64D-B512BB04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C1E1-2974-40DE-894B-0BB934F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39A1-DF4C-4481-892A-84C3392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A70E-0FA0-4C64-8A68-2BD46294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E2DB-FDB9-4DB8-B9A7-51919B10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A7FC-5320-4784-98DC-93D0B0A4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078A-FD41-4727-B622-82A49F5D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7C162-C207-42AD-A7A2-1897FD8F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E1E3-D8DF-42F4-A887-70AAA429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FFB25-CF85-4688-8525-C4E3B9E7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8F1-FBA2-408E-BD80-AAA4B413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D2FC7-63E6-4487-AE34-7DD1B179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437B-4875-40E4-AFE7-43EB53F5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6316-968B-4982-A8B4-3A8E80C2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D3A00-E6F2-4195-B011-F792453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24CBE-0879-4806-8AFC-1EE36BF9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B20E3-1D3D-46D7-81DD-2D3C32B0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4793-6DEE-42F3-A8C5-D7B3F41B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1E86-03E3-4B6E-A6B2-E8677E4A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C606-E713-4864-806F-737902D7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C1695-CDFB-4944-B7D9-2FA0D6A2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BE7-67DC-44C2-A161-5244D671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15207-4127-4A27-B24F-D4C53E08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1C1BE-7A3C-43BC-920F-FC745F21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B4722-95DB-4117-BEB4-AEA4D943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5F62-2940-43C8-9CBE-E265AEE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366B8-CA34-4486-B374-C9F2777D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2022-4722-4E5F-B297-53761B94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C7D29-5DD3-45C3-B44D-0B4DEE10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2D586-AC5D-441A-AD5B-89D917D0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36AB1-27EC-4EBA-B57E-C3C4D7AD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DA05D-B21E-42A7-871F-7C317A01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B64-36D2-44C7-B506-2EE0B6CB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69BC5-E6FF-4DCF-AE1F-42AFB3EB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21E49-E848-4706-8B33-442ADF56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9A241-E067-4411-9F28-F2C73245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B1D4-EEF3-4360-9EDC-E3B1604C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C930-E7AF-4234-A342-E461DE4E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208ED-37F0-4BEB-9B2B-A622391D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E289B-CF5D-44BA-AD60-45EAD31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91B87-0558-4A9E-B98E-7516EABF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E349B-9F5B-4229-B6DC-64161EDC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3A5C0-6262-401B-B9BF-C3D82FE5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B69-3CB7-4388-97E9-0C7E02F6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FC09B-F8D6-4D8F-B68A-FC912447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E951A-DCA1-40AC-AB59-929B94AF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1607-5140-4C2E-A83C-5D26F6C1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6D6F7-78DE-4442-A854-96B1561A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A1BA4-FEF5-45A5-B821-25432850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F1458-8BE2-4C70-97E1-86057F45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D46F-B9AE-460E-84A1-A71B9A56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E6B96-3E46-4DD1-B5C0-29914181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7A498-EC9F-4EC2-80A8-2068F087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84934-E54B-4DD2-92D5-BD588AF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184-005E-408F-9B76-2DC5746C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C6406-749F-4070-8112-77106899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CC42D-28E2-475E-AEA1-1814A961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83328-D13B-4DF1-BCAB-C5E6EE1B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73E85-C86F-4642-AFAA-17452A61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10B47-9227-458D-A7DF-0F0454D8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F2873-D93B-4107-B24A-5D281CFE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FF813-90AE-4F80-B70F-C6D0F704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F6ED6-CD4D-429B-984E-35554200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3898F-BAC5-44BB-BD90-987750B5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A419-F642-43BB-9D8E-A5458FFA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BB3-675B-436E-9BA6-7ED5AFB8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8E323-D629-4E40-B47B-E827CC5D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11B50-5A2D-4F76-9A84-339C2E3B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E2A20-3BEA-4875-A5C5-2C14CB5A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89F5B-BA1A-4BEE-BC24-A0B3221C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EEBAB-3903-4906-95CD-4EE84E6D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D2B8A-780E-4D55-987E-F9648F7D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5E3D9-F327-490A-A425-94C107F9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033D-A517-4DB6-B131-F0482FA9C7FF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B229-8C4A-4C42-90B2-7CCB1799BCC8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9D84-681D-4D31-A4AA-FF6B3947186A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46CA-81DB-478C-AB06-8E6DD02F33B5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5C74-0245-4F1B-9E71-2836F8B6F2EA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85B8-E32E-459A-AE80-BD71CEDBC0F7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09E2-1B5F-42A1-BEE1-81C71B0F78CF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CCC1-D8E8-468E-A480-1FEF29A82ED4}" type="slidenum">
              <a:rPr b="0" lang="ru-RU" sz="12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8020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32d2e"/>
                </a:solidFill>
                <a:latin typeface="Times New Roman"/>
              </a:rPr>
              <a:t>ПРОСТАЯ</a:t>
            </a:r>
            <a:r>
              <a:rPr b="1" i="1" lang="ru-RU" sz="9600" spc="-1" strike="noStrike">
                <a:solidFill>
                  <a:srgbClr val="572314"/>
                </a:solidFill>
                <a:latin typeface="Times New Roman"/>
              </a:rPr>
              <a:t> </a:t>
            </a:r>
            <a:r>
              <a:rPr b="1" i="1" lang="ru-RU" sz="9600" spc="-1" strike="noStrike">
                <a:solidFill>
                  <a:srgbClr val="c32d2e"/>
                </a:solidFill>
                <a:latin typeface="Times New Roman"/>
              </a:rPr>
              <a:t>ЭТИКА ПОСТУПКА</a:t>
            </a:r>
            <a:endParaRPr b="0" lang="en-US" sz="96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7" name="WordArt 6"/>
          <p:cNvSpPr txBox="1"/>
          <p:nvPr/>
        </p:nvSpPr>
        <p:spPr>
          <a:xfrm>
            <a:off x="228600" y="1371600"/>
            <a:ext cx="87631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6b07e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c6b07e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8" name="Picture 9" descr="C:\Documents and Settings\1\Рабочий стол\Светская этика\edit_files\07NzeezA0CCpepCuGwIum0U-O1DuCc92Lz9xrUXNcH5HbV-Lqrhu2FwYjvul.jpg"/>
          <p:cNvPicPr/>
          <p:nvPr/>
        </p:nvPicPr>
        <p:blipFill>
          <a:blip r:embed="rId1"/>
          <a:stretch/>
        </p:blipFill>
        <p:spPr>
          <a:xfrm>
            <a:off x="1066680" y="4267080"/>
            <a:ext cx="3124440" cy="2590920"/>
          </a:xfrm>
          <a:prstGeom prst="rect">
            <a:avLst/>
          </a:prstGeom>
          <a:ln w="0">
            <a:noFill/>
          </a:ln>
        </p:spPr>
      </p:pic>
      <p:pic>
        <p:nvPicPr>
          <p:cNvPr id="369" name="Pesnya_kota_leopolda_-_Nepriyatnost_etu_my_perezhivem_(iPlayer.fm).mp3" descr="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560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0560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C:\Users\user\Desktop\ОРКСЭ 17г\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вильно ли поступил Буратино, согласившись пойти на Поле чудес с котом и лисой?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98" name="Picture 5" descr="C:\Users\user\Desktop\ОРКСЭ 17г\i.jpg"/>
          <p:cNvPicPr/>
          <p:nvPr/>
        </p:nvPicPr>
        <p:blipFill>
          <a:blip r:embed="rId1"/>
          <a:stretch/>
        </p:blipFill>
        <p:spPr>
          <a:xfrm>
            <a:off x="1371600" y="160020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705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икогда не поступай так, как не хочешь, чтобы поступали с тобой.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2057400"/>
            <a:ext cx="41018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и добро, чтобы любя,                                                                                                               Добро тебя нашло.                                                                                                                Зла не верши, чтоб и тебя                                                                                                                  Не погубило з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Содержимое 6" descr="C:\Documents and Settings\максимка\Рабочий стол\multik322.png"/>
          <p:cNvPicPr/>
          <p:nvPr/>
        </p:nvPicPr>
        <p:blipFill>
          <a:blip r:embed="rId1"/>
          <a:stretch/>
        </p:blipFill>
        <p:spPr>
          <a:xfrm>
            <a:off x="5257800" y="3246480"/>
            <a:ext cx="38862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2"/>
          <p:cNvSpPr/>
          <p:nvPr/>
        </p:nvSpPr>
        <p:spPr>
          <a:xfrm>
            <a:off x="1447920" y="51055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  </a:t>
            </a:r>
            <a:r>
              <a:rPr b="1" i="1" lang="ru-RU" sz="96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Прямоугольник 4"/>
          <p:cNvSpPr/>
          <p:nvPr/>
        </p:nvSpPr>
        <p:spPr>
          <a:xfrm>
            <a:off x="1371600" y="457200"/>
            <a:ext cx="7315200" cy="449568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4" descr="D:\картинки\дети-работа в парах.jpg"/>
          <p:cNvPicPr/>
          <p:nvPr/>
        </p:nvPicPr>
        <p:blipFill>
          <a:blip r:embed="rId1"/>
          <a:stretch/>
        </p:blipFill>
        <p:spPr>
          <a:xfrm>
            <a:off x="1371600" y="476280"/>
            <a:ext cx="73915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990720" y="228240"/>
            <a:ext cx="8153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964305"/>
                </a:solidFill>
                <a:latin typeface="Times New Roman"/>
              </a:rPr>
              <a:t>«</a:t>
            </a:r>
            <a:r>
              <a:rPr b="1" i="1" lang="ru-RU" sz="3000" spc="-1" strike="noStrike">
                <a:solidFill>
                  <a:srgbClr val="964305"/>
                </a:solidFill>
                <a:latin typeface="Times New Roman"/>
              </a:rPr>
              <a:t>Этика есть наука об отношениях, существующих между людьми, и об обязанностях, вытекающих из этих отношений»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Поль Анри Гольбах</a:t>
            </a:r>
            <a:r>
              <a:rPr b="0" lang="ru-RU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964305"/>
                </a:solidFill>
                <a:latin typeface="Times New Roman"/>
              </a:rPr>
              <a:t>       </a:t>
            </a:r>
            <a:r>
              <a:rPr b="1" lang="ru-RU" sz="700" spc="-1" strike="noStrike">
                <a:solidFill>
                  <a:srgbClr val="964305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964305"/>
                </a:solidFill>
                <a:latin typeface="Times New Roman"/>
              </a:rPr>
              <a:t>«</a:t>
            </a:r>
            <a:r>
              <a:rPr b="1" i="1" lang="ru-RU" sz="3000" spc="-1" strike="noStrike">
                <a:solidFill>
                  <a:srgbClr val="964305"/>
                </a:solidFill>
                <a:latin typeface="Times New Roman"/>
              </a:rPr>
              <a:t>Определение этики представляется мне таким. То, что поддерживает и продолжает жизнь, — хорошо; то, что повреждает и нарушает жизнь, — плохо</a:t>
            </a:r>
            <a:r>
              <a:rPr b="1" lang="ru-RU" sz="3000" spc="-1" strike="noStrike">
                <a:solidFill>
                  <a:srgbClr val="964305"/>
                </a:solidFill>
                <a:latin typeface="Times New Roman"/>
              </a:rPr>
              <a:t>»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Швейцер А.</a:t>
            </a:r>
            <a:r>
              <a:rPr b="0" lang="ru-RU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Рисунок 4" descr="C:\Documents and Settings\1\Рабочий стол\Светская этика\edit_files\uQyPlG2IuRGkNc4LCFY6k0Te1-iIvzV-eQU6UYFNZ9IcmZ-asqoV9J-7i0iX.jpg"/>
          <p:cNvPicPr/>
          <p:nvPr/>
        </p:nvPicPr>
        <p:blipFill>
          <a:blip r:embed="rId1"/>
          <a:stretch/>
        </p:blipFill>
        <p:spPr>
          <a:xfrm>
            <a:off x="2133720" y="205740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49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Arial"/>
              </a:rPr>
              <a:t>Цели урок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1294920"/>
            <a:ext cx="788832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формирование представления о нравственных ценностях и их значения в жиз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64305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звитие умений нравственного анализа поступков, сопоставлений моральных характеристик, этически выраженных оцен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вышение авторитета нравственных норм в поведении учащихся;  развитие способности к нравственному выбору в жизненных ситуаци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Рисунок 5" descr="книга№2.gif"/>
          <p:cNvPicPr/>
          <p:nvPr/>
        </p:nvPicPr>
        <p:blipFill>
          <a:blip r:embed="rId1"/>
          <a:stretch/>
        </p:blipFill>
        <p:spPr>
          <a:xfrm>
            <a:off x="6400800" y="4645080"/>
            <a:ext cx="221292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7" descr="aristot1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54864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143000" y="2282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Times New Roman"/>
              </a:rPr>
              <a:t>ЭТИКА –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греческое ethike, от ethos - обычай, нрав, характер),   философская наука, изучающая мораль, нравственность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5e01"/>
                </a:solidFill>
                <a:latin typeface="Times New Roman"/>
              </a:rPr>
              <a:t>Термин введен Аристотеле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5e01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835e01"/>
                </a:solidFill>
                <a:latin typeface="Times New Roman"/>
              </a:rPr>
              <a:t>(</a:t>
            </a:r>
            <a:r>
              <a:rPr b="1" lang="en-US" sz="1900" spc="-1" strike="noStrike">
                <a:solidFill>
                  <a:srgbClr val="835e01"/>
                </a:solidFill>
                <a:latin typeface="Times New Roman"/>
              </a:rPr>
              <a:t>IV </a:t>
            </a:r>
            <a:r>
              <a:rPr b="1" lang="ru-RU" sz="1900" spc="-1" strike="noStrike">
                <a:solidFill>
                  <a:srgbClr val="835e01"/>
                </a:solidFill>
                <a:latin typeface="Times New Roman"/>
              </a:rPr>
              <a:t>век до н.э.)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Times New Roman"/>
              </a:rPr>
              <a:t>ЭТИКА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наука, которая рассматривает поступки и отношения между людьми с точки зрения представлений о добре и зл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mbria"/>
                <a:ea typeface="Times New Roman"/>
              </a:rPr>
              <a:t>Решение жизненных ситуаций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78" name="Picture 6" descr="D:\картинки\школьники.png"/>
          <p:cNvPicPr/>
          <p:nvPr/>
        </p:nvPicPr>
        <p:blipFill>
          <a:blip r:embed="rId1"/>
          <a:stretch/>
        </p:blipFill>
        <p:spPr>
          <a:xfrm>
            <a:off x="2276640" y="1523880"/>
            <a:ext cx="5041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mbria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953735"/>
                </a:solidFill>
                <a:latin typeface="Cambria"/>
                <a:ea typeface="Times New Roman"/>
              </a:rPr>
              <a:t>Решение жизненных ситуаций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0" name="Скругленный прямоугольник 3"/>
          <p:cNvSpPr/>
          <p:nvPr/>
        </p:nvSpPr>
        <p:spPr>
          <a:xfrm>
            <a:off x="1332000" y="3809880"/>
            <a:ext cx="6516720" cy="24274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перемене ты случайно налетаешь на одноклассника. Как поступишь в этой ситуаци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гда пришли в буфет, на общем блюде лежали пирожки. Как ты будешь себя вести в этой ситуаци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Скругленный прямоугольник 7"/>
          <p:cNvSpPr/>
          <p:nvPr/>
        </p:nvSpPr>
        <p:spPr>
          <a:xfrm>
            <a:off x="1371600" y="1066680"/>
            <a:ext cx="6400800" cy="25146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ы вошел в раздевалку, там много ребят толпится. Рядом с тобой девочка, и ее все отталкивают. Как ты поступиш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тро, ты входишь в свой класс. В классе уже несколько твоих товарищей. Как ты войдешь в класс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7656480" y="5376960"/>
            <a:ext cx="14875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mbria"/>
                <a:ea typeface="Times New Roman"/>
              </a:rPr>
              <a:t>Решение жизненных ситуаций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4" name="Скругленный прямоугольник 2"/>
          <p:cNvSpPr/>
          <p:nvPr/>
        </p:nvSpPr>
        <p:spPr>
          <a:xfrm>
            <a:off x="1295280" y="1143000"/>
            <a:ext cx="7010640" cy="22096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тром по коридору навстречу тебе шла твоя учительница и учительница соседнего класса. Как ты поздороваешьс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ты поздоровался с учителем один раз, надо ли здороваться ещ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Скругленный прямоугольник 4"/>
          <p:cNvSpPr/>
          <p:nvPr/>
        </p:nvSpPr>
        <p:spPr>
          <a:xfrm>
            <a:off x="1447920" y="3886200"/>
            <a:ext cx="6933960" cy="23623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600200" y="41148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ы увидел, что твои одноклассники дерутся. Как ты поступиш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вочка обозвала тебя на перемене. Что ты сделаеш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7656480" y="5376960"/>
            <a:ext cx="14875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Cambria"/>
                <a:ea typeface="Times New Roman"/>
              </a:rPr>
              <a:t>Решение жизненных ситуаций</a:t>
            </a:r>
            <a:endParaRPr b="0" lang="en-US" sz="4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9" name="Прямоугольник 3"/>
          <p:cNvSpPr/>
          <p:nvPr/>
        </p:nvSpPr>
        <p:spPr>
          <a:xfrm>
            <a:off x="2588040" y="324468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mbria"/>
                <a:ea typeface="Times New Roman"/>
              </a:rPr>
              <a:t>Решение жизненных ситуац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Скругленный прямоугольник 4"/>
          <p:cNvSpPr/>
          <p:nvPr/>
        </p:nvSpPr>
        <p:spPr>
          <a:xfrm>
            <a:off x="1066680" y="1371600"/>
            <a:ext cx="7848720" cy="3429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вочка жалуется маме возмущенно: “В классе мальчишка такой невежа, зовет меня: “Ритка”. “А как ты его зовешь?” – спросила мама. “Я его вообще никак не зову”, – ответила Рита. Я ему просто кричу: Эй, ты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Прямоугольник 5"/>
          <p:cNvSpPr/>
          <p:nvPr/>
        </p:nvSpPr>
        <p:spPr>
          <a:xfrm>
            <a:off x="1066680" y="1143000"/>
            <a:ext cx="77724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жалуется маме возмущенно: “В классе мальчишка такой невежа, зовет меня: “Ритка”. “А как ты его зовешь?” – спросила мама. “Я его вообще никак не зову”, – ответила Рита. Я ему просто кричу: Эй, ты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едставьте большой  праздник людей разных национальностей. Все они в своих национальных костюмах, вместе поют, танцуют, читают сказки, веселятся.                                                                                                                                         -Захотите ли вы присоединиться к ним и отдаться общему настроению праздника?                                                                                                                           -Чем может быть интересен человек с другими традициями и почему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6172200" y="434340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C:\Users\user\Desktop\ОРКСЭ 17г\doktorom_kakih_nauk_bil_karabas_barabas.jpg"/>
          <p:cNvPicPr/>
          <p:nvPr/>
        </p:nvPicPr>
        <p:blipFill>
          <a:blip r:embed="rId1"/>
          <a:stretch/>
        </p:blipFill>
        <p:spPr>
          <a:xfrm>
            <a:off x="4648320" y="3809880"/>
            <a:ext cx="4495680" cy="30481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Arial"/>
              </a:rPr>
              <a:t>Оцените поступки героев сказки:</a:t>
            </a: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95" name="Picture 2" descr="C:\Users\user\Desktop\ОРКСЭ 17г\mart22v12.jpg"/>
          <p:cNvPicPr/>
          <p:nvPr/>
        </p:nvPicPr>
        <p:blipFill>
          <a:blip r:embed="rId2"/>
          <a:stretch/>
        </p:blipFill>
        <p:spPr>
          <a:xfrm>
            <a:off x="990720" y="1600200"/>
            <a:ext cx="4800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а</dc:creator>
  <dc:description/>
  <dc:language>en-US</dc:language>
  <cp:lastModifiedBy>Ирина</cp:lastModifiedBy>
  <dcterms:modified xsi:type="dcterms:W3CDTF">2020-04-05T16:07:1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