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CDC-0A29-4C7C-9465-641E11C6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43B-7D38-426C-96A0-6B8DF5B5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6B9B9-D5C2-4AB6-8FFB-8824F2C8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1FFC0-A397-4791-BFC5-D5DFDB39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8176D-8CEF-439C-BDE4-730CCE32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B7F0B-C43E-4A8A-8E7F-14B71873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22288-6FFB-4735-A05D-6773586B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E8DA0-15D3-4C4E-8D91-D40E3394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74500-6C19-46C1-877C-7F191412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36BD1-9690-44E6-A1A9-9B80CBAD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E85B4-73D9-4755-9D95-25279CB2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0E943-D2A6-47CD-80F7-A120FB3E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5E7-729D-4036-A79B-7F54E948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7765E-AD7F-4FBF-A6FA-D87C52E7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F576B-C692-4B97-B2A9-6DBF3D55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D38BA-0E62-43DC-8281-46A19AE3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5BB01-2F50-47BE-879D-D2D136E4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504CD-E041-44B0-A259-99167454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4C9BF-69ED-4338-B72E-670B769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15544-86A1-4077-BA3A-9A692D05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1869F-3ED5-41DE-897E-EF258DD4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747F1-702C-4788-8873-F50E1230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AA3B6-23FC-4B35-9935-5E3AB2A2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440-FA33-49BE-A7DB-5A8B4275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B3AC6-BEC7-4296-BF28-417F8860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B199-828F-41BE-BB4F-D91B5209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F4CD-01C1-4F7C-9824-8E243AEA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8A88-3209-4543-86D6-5ECDBFD0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2A1F-BCB4-44E4-99D8-86C5ACEF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889C-B99D-4F26-AF6F-D947BD7E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2B2F-18D0-4276-BBF3-2E89C620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04E4-253D-4A47-994C-43895A0C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8DE-FEBE-40AF-8D08-877254A7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B169-FAE6-4756-83C9-8E782D37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FB3F-C959-45F9-9A53-9029C5A5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1D06-612C-4F23-8A7F-7BD91133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B92E-06EE-458C-A7E3-08706555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F0B6-7E52-4E4A-B868-D2768BC9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7769-2DBC-4AD4-9DE3-29D556C1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445B-7985-4FB9-A8D3-917E3AB4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7C947-6A63-49C1-8A7D-1319C25C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2683-5DFA-47DF-9D36-DF2A5912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8DB9-753C-4695-B985-5E7C24A0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1B5-B95E-408C-9A5B-20008547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2D54-CA64-4FEC-ABC0-24616E5C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E33E-68A1-4EFA-81D7-9DF8B7A9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EBE57-4315-43D5-B71B-00DB97FF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79A81-1551-43C9-80C7-E6C3F3AA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4B9B-8DC7-4130-A2AE-4E3409BF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85D51-BDD2-450A-8792-47F87F81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21AC-363B-4A79-B6A1-C4720DAF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AD15F-6C20-47DC-AC01-EF0C9ABE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C619C-B04B-4DAC-BB79-D6DFBBE3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D3AB4-1479-45E1-9875-FF0D7868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CF8-8E8A-41D8-8AD1-8BE98624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3C01-FC29-4E75-821F-E20A065B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7E9EA-411C-4121-BCF7-ACA2DDA0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DF3C-3B56-400D-9814-982614E4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1AA03-3780-466A-BFF6-C8C1860E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9502D-F515-4E24-BFA4-8C2976CB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94BEC-3604-4947-8CCD-C2012C9F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42D0-5315-42CB-B855-D6BF3E6D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AC0D5-9CCA-4BC3-BB95-47552884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B7A7F-3F17-4AA8-A7BE-C0082E6E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14BF4-F39E-4C6F-906E-5F73D770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48D-7829-458E-94E1-E4C409D1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6446E-88DA-493C-AE84-F125CBC7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76654-8828-4EE2-A166-77070950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5DDA3-5C54-4ECD-9A0A-717994C1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5019C-ED33-4B8F-873C-FB715314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FFEE5-B650-4977-9568-901A4273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6881E-DBF1-42BF-B6B6-92C81A82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A7AF7-85C3-42E0-A67B-648F969E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67BFF-D970-4EBB-8C47-BAE62033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F4CCD-261B-4A74-8E48-4476F09A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AE7C-3E75-4222-A3D6-25E4F7D9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974-C547-4819-B2E2-D2FD2B5A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B54DD-047D-4D4E-8BD2-62429037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A2C48-846A-406E-B816-5E4490BA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E9019-8605-42FF-A5D3-6B5D214C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CF977-16E7-4327-AE5C-C9385BF9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21D26-74F7-4C6C-A58E-631D2D8C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116C6-DE02-4D3F-860B-CC6AEB68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1179C-B3E4-49DB-9B05-3E7A1DC2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3BA58-22C2-4440-A1A5-5E9DD6B6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07051-4F27-4314-B518-54F1960D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E38D4-7AE7-470D-8A52-80740920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41B-7A63-4124-9D36-5A41C176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529E8-0EAD-48F8-ADCB-23E77024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732AB-6BDD-4977-AF1F-E7902E27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03965-0D36-43A5-98D8-3279A936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4C991-B1CF-4409-960E-F321C977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62A1-4AF2-4E7D-AFB4-9A21C2E4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1ACC-E029-4633-9B8F-B49B8320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9D816-597D-48F2-8896-734C5586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36F3B-1F7C-4294-B6E6-BE8631D7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295E9-4E7E-4BDF-8365-63EA4E82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1E5C4-00D6-41CC-8D3C-15C7C43D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D0B-9739-4E02-8068-A7622016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036D7-713A-403B-BD12-7782255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2A8D7-70E9-4730-A83F-05D7B877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6FE48-EDE8-4C52-8FCB-0DEFB028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C0AD7-7ADC-4E6A-B49D-9D26D70B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236F1-51F2-4E4C-A932-2C1AC13F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5A6583-2104-4166-8337-7EDE369F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32F7E1-2478-45B0-8743-077E644D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93AF37-CF9A-4B0D-9511-836C60EB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CBB09D-56FC-4947-9B4B-BB829266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A5463-7090-4CA7-B6B5-470E546C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57C-A459-4B08-9634-84CF4373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E89457-9DAF-4469-BE68-AB78237B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D3D333-CCD3-4705-8C0E-B5DD25AF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82D45F-800B-46B8-BC42-4F218D07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45D144-CF23-4284-9074-9E346A24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B3303F-45EA-4AD9-A1B2-07C55A01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5C7DF0-5AAC-4F0B-9CF0-B3EF404B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54494E-F117-4119-B2EE-672521A0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BA9DD-787C-4BE6-9A9A-0F5DAE06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F12DF-3A9D-4C89-9E31-8294E6B5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949EF-30C6-4288-B6D9-A0174EE2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0399-4D63-49B0-BF6E-3DD7CB1B9C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55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ccff66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grpSp>
          <p:nvGrpSpPr>
            <p:cNvPr id="456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7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58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59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60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61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62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63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64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65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66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67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69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70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71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72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73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74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75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76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7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7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7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8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8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8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8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8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8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8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88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89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90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91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92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93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94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95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96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97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98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99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500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501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502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503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504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</p:grpSp>
        <p:grpSp>
          <p:nvGrpSpPr>
            <p:cNvPr id="505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06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507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508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509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510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511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512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grpSp>
            <p:nvGrpSpPr>
              <p:cNvPr id="51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1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6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66"/>
                    </a:solidFill>
                    <a:latin typeface="Arial"/>
                  </a:endParaRPr>
                </a:p>
              </p:txBody>
            </p:sp>
            <p:sp>
              <p:nvSpPr>
                <p:cNvPr id="51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ccff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66"/>
                    </a:solidFill>
                    <a:latin typeface="Arial"/>
                  </a:endParaRPr>
                </a:p>
              </p:txBody>
            </p:sp>
            <p:sp>
              <p:nvSpPr>
                <p:cNvPr id="51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6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66"/>
                    </a:solidFill>
                    <a:latin typeface="Arial"/>
                  </a:endParaRPr>
                </a:p>
              </p:txBody>
            </p:sp>
            <p:sp>
              <p:nvSpPr>
                <p:cNvPr id="51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ccff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DB4C-3FE1-486A-9E3C-DE28D67FDD4A}" type="slidenum">
              <a:rPr b="0" lang="ru-RU" sz="14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505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505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50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50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50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6DAC-D9E5-42DB-B86B-60835FCABA8B}" type="slidenum">
              <a:rPr b="1" lang="ru-RU" sz="26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BD70-3DD3-4280-BA86-6308175D87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99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99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99AD-CC4E-4F81-B11B-D697447351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90c0"/>
                </a:gs>
                <a:gs pos="100000">
                  <a:srgbClr val="ff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f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171C-9264-4C49-B60B-9CD4D84F05F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ccff66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grpSp>
          <p:nvGrpSpPr>
            <p:cNvPr id="21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2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2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2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2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2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2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2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2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2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2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3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3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3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3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3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3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3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3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4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4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4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4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4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4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4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4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4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5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5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5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5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5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5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5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5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5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6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6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6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6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6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6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6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6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7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7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7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7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sp>
            <p:nvSpPr>
              <p:cNvPr id="27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"/>
                </a:endParaRPr>
              </a:p>
            </p:txBody>
          </p:sp>
          <p:grpSp>
            <p:nvGrpSpPr>
              <p:cNvPr id="27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6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66"/>
                    </a:solidFill>
                    <a:latin typeface="Arial"/>
                  </a:endParaRPr>
                </a:p>
              </p:txBody>
            </p:sp>
            <p:sp>
              <p:nvSpPr>
                <p:cNvPr id="27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ccff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66"/>
                    </a:solidFill>
                    <a:latin typeface="Arial"/>
                  </a:endParaRPr>
                </a:p>
              </p:txBody>
            </p:sp>
            <p:sp>
              <p:nvSpPr>
                <p:cNvPr id="27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66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66"/>
                    </a:solidFill>
                    <a:latin typeface="Arial"/>
                  </a:endParaRPr>
                </a:p>
              </p:txBody>
            </p:sp>
            <p:sp>
              <p:nvSpPr>
                <p:cNvPr id="27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ccff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00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5C67-81F5-4DE4-80D4-0E4F5421A3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2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</p:grpSp>
      <p:grpSp>
        <p:nvGrpSpPr>
          <p:cNvPr id="32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2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505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505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50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50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505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505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1C09-2A0A-4C28-8A41-E5A14BB7D5CA}" type="slidenum">
              <a:rPr b="1" lang="ru-RU" sz="26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99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99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8004-FF01-4556-9921-E5897A7145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1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82ad"/>
                </a:gs>
                <a:gs pos="100000">
                  <a:srgbClr val="ff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f9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32B0-47DF-4822-9608-529121CC147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1628280" y="1247400"/>
            <a:ext cx="7259040" cy="123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5050"/>
                </a:solidFill>
                <a:latin typeface="Arial"/>
              </a:rPr>
              <a:t>Красная книга Кубани.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0" y="2971800"/>
            <a:ext cx="419112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809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ФАШНАР</a:t>
            </a:r>
            <a:r>
              <a:rPr b="0" lang="ru-RU" sz="5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598" name="Picture 4" descr="crocus_speciosus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5257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Травянистое растение. Имеет один цветок, фиолетово-лиловый. Цветет в сентябре-октябре. Листья и плоды развиваются весной. Зацветает на пятый год после прорастания. В Краснодарском крае растет в районе Майкопа, Туапсе.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0" name="WordArt 6"/>
          <p:cNvSpPr txBox="1"/>
          <p:nvPr/>
        </p:nvSpPr>
        <p:spPr>
          <a:xfrm>
            <a:off x="4495680" y="457200"/>
            <a:ext cx="4191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шафра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ahoma"/>
              </a:rPr>
              <a:t>ИТС</a:t>
            </a:r>
            <a:r>
              <a:rPr b="0" lang="ru-RU" sz="5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ahoma"/>
              </a:rPr>
              <a:t>Дерево до 20-25м высоты. Чаще встречается в кустовидной форме. Кора красновато-серая. Листья плоские, мягкие, серповидные. Цветет в марте-мае. Семена погружены в ярко-красный сочный сладкий присемянник. В Краснодарском крае растет от Анапы до восточной границы.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603" name="Picture 4" descr="flora6"/>
          <p:cNvPicPr/>
          <p:nvPr/>
        </p:nvPicPr>
        <p:blipFill>
          <a:blip r:embed="rId1"/>
          <a:stretch/>
        </p:blipFill>
        <p:spPr>
          <a:xfrm>
            <a:off x="4495680" y="1600200"/>
            <a:ext cx="4648320" cy="5257800"/>
          </a:xfrm>
          <a:prstGeom prst="rect">
            <a:avLst/>
          </a:prstGeom>
          <a:ln w="0">
            <a:noFill/>
          </a:ln>
        </p:spPr>
      </p:pic>
      <p:sp>
        <p:nvSpPr>
          <p:cNvPr id="604" name="WordArt 6"/>
          <p:cNvSpPr txBox="1"/>
          <p:nvPr/>
        </p:nvSpPr>
        <p:spPr>
          <a:xfrm>
            <a:off x="4343400" y="762120"/>
            <a:ext cx="2819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т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449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ОНИП</a:t>
            </a:r>
            <a:r>
              <a:rPr b="0" lang="ru-RU" sz="5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606" name="Picture 4" descr="paeonia"/>
          <p:cNvPicPr/>
          <p:nvPr/>
        </p:nvPicPr>
        <p:blipFill>
          <a:blip r:embed="rId1"/>
          <a:stretch/>
        </p:blipFill>
        <p:spPr>
          <a:xfrm>
            <a:off x="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Травянистое многолетнее растение высотой 10-50см. Цветки темно-красные, с 8-10 лепестками. Плод – листовка, опушенная рыжевато-бурыми волосками. Цветет в апреле-мае. Плодоносит в мае-июне. В Краснодарском крае растет преимущественно в степной зоне.</a:t>
            </a:r>
            <a:endParaRPr b="0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08" name="WordArt 7"/>
          <p:cNvSpPr txBox="1"/>
          <p:nvPr/>
        </p:nvSpPr>
        <p:spPr>
          <a:xfrm>
            <a:off x="5334120" y="6858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ио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5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66"/>
                </a:solidFill>
                <a:latin typeface="Arial"/>
              </a:rPr>
              <a:t>Цезарский гриб.</a:t>
            </a: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Молодое плодовое тело яйцевидной формы покрыто белым общим покрывалом. Мякоть под кожицей светло-оранжевая, с приятным запахом грибов. Созревает в июне-сентябре. Съедобен. Распространен в предгорном поясе Краснодарского края.</a:t>
            </a:r>
            <a:endParaRPr b="0" lang="en-US" sz="2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611" name="Picture 4" descr="amanita_caesaria"/>
          <p:cNvPicPr/>
          <p:nvPr/>
        </p:nvPicPr>
        <p:blipFill>
          <a:blip r:embed="rId1"/>
          <a:stretch/>
        </p:blipFill>
        <p:spPr>
          <a:xfrm>
            <a:off x="4495680" y="1600200"/>
            <a:ext cx="4648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sochi30"/>
          <p:cNvPicPr/>
          <p:nvPr/>
        </p:nvPicPr>
        <p:blipFill>
          <a:blip r:embed="rId1"/>
          <a:stretch/>
        </p:blipFill>
        <p:spPr>
          <a:xfrm>
            <a:off x="0" y="0"/>
            <a:ext cx="3505320" cy="32767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1Lilia"/>
          <p:cNvPicPr/>
          <p:nvPr/>
        </p:nvPicPr>
        <p:blipFill>
          <a:blip r:embed="rId2"/>
          <a:stretch/>
        </p:blipFill>
        <p:spPr>
          <a:xfrm>
            <a:off x="3505320" y="0"/>
            <a:ext cx="2819160" cy="32767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nelumbo_nucifera_pink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crocus_speciosus"/>
          <p:cNvPicPr/>
          <p:nvPr/>
        </p:nvPicPr>
        <p:blipFill>
          <a:blip r:embed="rId4"/>
          <a:stretch/>
        </p:blipFill>
        <p:spPr>
          <a:xfrm>
            <a:off x="0" y="327672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flora6"/>
          <p:cNvPicPr/>
          <p:nvPr/>
        </p:nvPicPr>
        <p:blipFill>
          <a:blip r:embed="rId5"/>
          <a:stretch/>
        </p:blipFill>
        <p:spPr>
          <a:xfrm>
            <a:off x="3429000" y="327672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9" descr="paeonia"/>
          <p:cNvPicPr/>
          <p:nvPr/>
        </p:nvPicPr>
        <p:blipFill>
          <a:blip r:embed="rId6"/>
          <a:stretch/>
        </p:blipFill>
        <p:spPr>
          <a:xfrm>
            <a:off x="6324480" y="3276720"/>
            <a:ext cx="2819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66"/>
                </a:solidFill>
                <a:latin typeface="Arial"/>
              </a:rPr>
              <a:t>Сколия-гигант.</a:t>
            </a: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619" name="Picture 4" descr="http://whitehills.narod.ru/les/scoliy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ahoma"/>
              </a:rPr>
              <a:t>Толстун степной.</a:t>
            </a:r>
            <a:r>
              <a:rPr b="0" lang="ru-RU" sz="4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621" name="Picture 4" descr="285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4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Tahoma"/>
              </a:rPr>
              <a:t>Усач альпийский.</a:t>
            </a: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623" name="Picture 4" descr="usach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Жук-олень.</a:t>
            </a: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625" name="Picture 4" descr="i?id=5045868&amp;tov=5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Arial"/>
              </a:rPr>
              <a:t>Зубр.</a:t>
            </a:r>
            <a:endParaRPr b="0" lang="en-US" sz="4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627" name="Picture 4" descr="1874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320" y="1294920"/>
            <a:ext cx="8537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Обучающие:</a:t>
            </a:r>
            <a:endParaRPr b="0" lang="en-US" sz="2000" spc="-1" strike="noStrike">
              <a:solidFill>
                <a:srgbClr val="99009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Познакомить учащихся с животными и растениями Красной книги Краснодарского края;</a:t>
            </a:r>
            <a:endParaRPr b="0" lang="en-US" sz="1600" spc="-1" strike="noStrike">
              <a:solidFill>
                <a:srgbClr val="99009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расширить знания о Красной книге как о правовом документе, представления о роли природы в жизни человека, об ответственности  людей за состояние окружающей среды;</a:t>
            </a:r>
            <a:endParaRPr b="0" lang="en-US" sz="1600" spc="-1" strike="noStrike">
              <a:solidFill>
                <a:srgbClr val="99009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накапливать экологические сведения, сведения о роли человека, его взаимодействии с природой.</a:t>
            </a:r>
            <a:endParaRPr b="0" lang="en-US" sz="1600" spc="-1" strike="noStrike">
              <a:solidFill>
                <a:srgbClr val="99009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Развивающие:</a:t>
            </a:r>
            <a:endParaRPr b="0" lang="en-US" sz="2000" spc="-1" strike="noStrike">
              <a:solidFill>
                <a:srgbClr val="99009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Развивать интерес ко всему живому, внимательность, наблюдательность;</a:t>
            </a:r>
            <a:endParaRPr b="0" lang="en-US" sz="1600" spc="-1" strike="noStrike">
              <a:solidFill>
                <a:srgbClr val="99009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развивать умение  взаимодействовать в группе.</a:t>
            </a:r>
            <a:endParaRPr b="0" lang="en-US" sz="1600" spc="-1" strike="noStrike">
              <a:solidFill>
                <a:srgbClr val="99009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Воспитывающие:</a:t>
            </a:r>
            <a:endParaRPr b="0" lang="en-US" sz="2000" spc="-1" strike="noStrike">
              <a:solidFill>
                <a:srgbClr val="99009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Воспитывать патриотизм, любовь к родному краю на основе   обогащения знаний о растительном и животном мире Кубани;</a:t>
            </a:r>
            <a:endParaRPr b="0" lang="en-US" sz="1600" spc="-1" strike="noStrike">
              <a:solidFill>
                <a:srgbClr val="99009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прививать любовь к  природе; разумно пользоваться её дарами; разбудить интерес к более глубокому изучению природы Кубани</a:t>
            </a:r>
            <a:endParaRPr b="0" lang="en-US" sz="1600" spc="-1" strike="noStrike">
              <a:solidFill>
                <a:srgbClr val="990099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99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009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990099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0099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ahoma"/>
              </a:rPr>
              <a:t>Выдра кавказская.</a:t>
            </a:r>
            <a:r>
              <a:rPr b="0" lang="ru-RU" sz="4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629" name="Picture 4" descr="049056054124052057049054049052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Перевязка.</a:t>
            </a:r>
            <a:endParaRPr b="0" lang="en-US" sz="54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631" name="Picture 4" descr="p_perev2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6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ahoma"/>
              </a:rPr>
              <a:t>Рысь.</a:t>
            </a:r>
            <a:endParaRPr b="0" lang="en-US" sz="48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633" name="Picture 4" descr="ris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ahoma"/>
              </a:rPr>
              <a:t>БЕРКУТ </a:t>
            </a:r>
            <a:endParaRPr b="0" lang="en-US" sz="5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ahoma"/>
              </a:rPr>
              <a:t>.  </a:t>
            </a:r>
            <a:r>
              <a:rPr b="1" lang="ru-RU" sz="3600" spc="-1" strike="noStrike" u="sng">
                <a:solidFill>
                  <a:srgbClr val="990099"/>
                </a:solidFill>
                <a:uFillTx/>
                <a:latin typeface="Tahoma"/>
              </a:rPr>
              <a:t>Задача:</a:t>
            </a:r>
            <a:r>
              <a:rPr b="0" lang="ru-RU" sz="3600" spc="-1" strike="noStrike">
                <a:solidFill>
                  <a:srgbClr val="990099"/>
                </a:solidFill>
                <a:latin typeface="Tahoma"/>
              </a:rPr>
              <a:t> Автомобиль двигался со скоростью 70км/ч. Какое расстояние он проделает за 8 часов?</a:t>
            </a:r>
            <a:endParaRPr b="0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636" name="Picture 8" descr="http://im2-tub.yandex.net/i?id=2918333&amp;tov=2"/>
          <p:cNvPicPr/>
          <p:nvPr/>
        </p:nvPicPr>
        <p:blipFill>
          <a:blip r:embed="rId1"/>
          <a:stretch/>
        </p:blipFill>
        <p:spPr>
          <a:xfrm>
            <a:off x="4495680" y="1600200"/>
            <a:ext cx="4648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4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ЧЕРНЫЙ АИСТ</a:t>
            </a: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Arial"/>
              </a:rPr>
              <a:t>Разберите по составу слово: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6600"/>
                </a:solidFill>
                <a:latin typeface="Arial"/>
              </a:rPr>
              <a:t>КОРМУШКА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639" name="Picture 8" descr="File0527"/>
          <p:cNvPicPr/>
          <p:nvPr/>
        </p:nvPicPr>
        <p:blipFill>
          <a:blip r:embed="rId1"/>
          <a:stretch/>
        </p:blipFill>
        <p:spPr>
          <a:xfrm>
            <a:off x="0" y="160020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9" dur="5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РОЗОВЫЕ ПЕЛИКАНЫ</a:t>
            </a: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. 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Найдите периметр и площадь прямоугольника со сторонами 6см и 8см.</a:t>
            </a:r>
            <a:endParaRPr b="0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642" name="Picture 6" descr="http://photo.knedlik.ru/data/media/46/pelikan.jpg"/>
          <p:cNvPicPr/>
          <p:nvPr/>
        </p:nvPicPr>
        <p:blipFill>
          <a:blip r:embed="rId1"/>
          <a:stretch/>
        </p:blipFill>
        <p:spPr>
          <a:xfrm>
            <a:off x="4495680" y="1600200"/>
            <a:ext cx="4648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1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Tahoma"/>
              </a:rPr>
              <a:t>КАВКАЗСКИЙ ТЕТЕРЕВ</a:t>
            </a: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ahoma"/>
              </a:rPr>
              <a:t>Определите падеж имен существительных:</a:t>
            </a: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9933"/>
                </a:solidFill>
                <a:latin typeface="Tahoma"/>
              </a:rPr>
              <a:t>подъехал к деревне, расцвели на окраине, висит на стене, улыбнулся от радости.</a:t>
            </a:r>
            <a:endParaRPr b="0" lang="en-US" sz="4000" spc="-1" strike="noStrike">
              <a:solidFill>
                <a:srgbClr val="339933"/>
              </a:solidFill>
              <a:latin typeface="Tahoma"/>
            </a:endParaRPr>
          </a:p>
        </p:txBody>
      </p:sp>
      <p:pic>
        <p:nvPicPr>
          <p:cNvPr id="645" name="Picture 8" descr="16"/>
          <p:cNvPicPr/>
          <p:nvPr/>
        </p:nvPicPr>
        <p:blipFill>
          <a:blip r:embed="rId1"/>
          <a:stretch/>
        </p:blipFill>
        <p:spPr>
          <a:xfrm>
            <a:off x="0" y="160020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9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Arial"/>
              </a:rPr>
              <a:t>БЕРЕГИТЕ ПРИРОДУ!</a:t>
            </a:r>
            <a:endParaRPr b="0" lang="en-US" sz="5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155520" y="46080"/>
            <a:ext cx="952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49" name="AutoShape 9"/>
          <p:cNvSpPr/>
          <p:nvPr/>
        </p:nvSpPr>
        <p:spPr>
          <a:xfrm>
            <a:off x="155520" y="46080"/>
            <a:ext cx="952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650" name="Picture 19" descr="подснежники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4" descr="fialk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Кресс-кросс.</a:t>
            </a:r>
            <a:endParaRPr b="0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57200" y="1219320"/>
          <a:ext cx="8229600" cy="421956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Ю 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Ч 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БЕЙСУГ          ЕЯ               ПШАДА</a:t>
            </a:r>
            <a:endParaRPr b="0" lang="en-US" sz="2400" spc="-1" strike="noStrike">
              <a:solidFill>
                <a:srgbClr val="99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КУБАНЬ           УРУП</a:t>
            </a:r>
            <a:endParaRPr b="0" lang="en-US" sz="2400" spc="-1" strike="noStrike">
              <a:solidFill>
                <a:srgbClr val="99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БЕЛАЯ             ЛАБА</a:t>
            </a:r>
            <a:endParaRPr b="0" lang="en-US" sz="2400" spc="-1" strike="noStrike">
              <a:solidFill>
                <a:srgbClr val="99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4" descr="i?id=28166175&amp;tov=3"/>
          <p:cNvPicPr/>
          <p:nvPr/>
        </p:nvPicPr>
        <p:blipFill>
          <a:blip r:embed="rId1"/>
          <a:stretch/>
        </p:blipFill>
        <p:spPr>
          <a:xfrm>
            <a:off x="228600" y="152280"/>
            <a:ext cx="2438280" cy="22100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i?id=23094135&amp;tov=8"/>
          <p:cNvPicPr/>
          <p:nvPr/>
        </p:nvPicPr>
        <p:blipFill>
          <a:blip r:embed="rId2"/>
          <a:stretch/>
        </p:blipFill>
        <p:spPr>
          <a:xfrm>
            <a:off x="3048120" y="152280"/>
            <a:ext cx="2590560" cy="22100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i?id=20816032&amp;tov=4"/>
          <p:cNvPicPr/>
          <p:nvPr/>
        </p:nvPicPr>
        <p:blipFill>
          <a:blip r:embed="rId3"/>
          <a:stretch/>
        </p:blipFill>
        <p:spPr>
          <a:xfrm>
            <a:off x="6172200" y="152280"/>
            <a:ext cx="2438280" cy="221004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7"/>
          <p:cNvSpPr/>
          <p:nvPr/>
        </p:nvSpPr>
        <p:spPr>
          <a:xfrm>
            <a:off x="0" y="2557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1" name="Rectangle 8"/>
          <p:cNvSpPr/>
          <p:nvPr/>
        </p:nvSpPr>
        <p:spPr>
          <a:xfrm>
            <a:off x="228600" y="23770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хранять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2971800" y="2568960"/>
            <a:ext cx="19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3" name="Rectangle 10"/>
          <p:cNvSpPr/>
          <p:nvPr/>
        </p:nvSpPr>
        <p:spPr>
          <a:xfrm flipV="1" rot="10779600">
            <a:off x="3117600" y="2373120"/>
            <a:ext cx="25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природу 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6248520" y="25898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5" name="Rectangle 12"/>
          <p:cNvSpPr/>
          <p:nvPr/>
        </p:nvSpPr>
        <p:spPr>
          <a:xfrm>
            <a:off x="6248520" y="23630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значит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76" name="Picture 13" descr="i?id=8141599&amp;tov=5"/>
          <p:cNvPicPr/>
          <p:nvPr/>
        </p:nvPicPr>
        <p:blipFill>
          <a:blip r:embed="rId4"/>
          <a:stretch/>
        </p:blipFill>
        <p:spPr>
          <a:xfrm>
            <a:off x="914400" y="3276720"/>
            <a:ext cx="2666880" cy="23619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i?id=16356989&amp;tov=6"/>
          <p:cNvPicPr/>
          <p:nvPr/>
        </p:nvPicPr>
        <p:blipFill>
          <a:blip r:embed="rId5"/>
          <a:stretch/>
        </p:blipFill>
        <p:spPr>
          <a:xfrm>
            <a:off x="5334120" y="3276720"/>
            <a:ext cx="2590560" cy="220968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5"/>
          <p:cNvSpPr/>
          <p:nvPr/>
        </p:nvSpPr>
        <p:spPr>
          <a:xfrm>
            <a:off x="685800" y="5639400"/>
            <a:ext cx="41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9" name="Rectangle 16"/>
          <p:cNvSpPr/>
          <p:nvPr/>
        </p:nvSpPr>
        <p:spPr>
          <a:xfrm>
            <a:off x="609480" y="55411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хранять 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0" name="Rectangle 17"/>
          <p:cNvSpPr/>
          <p:nvPr/>
        </p:nvSpPr>
        <p:spPr>
          <a:xfrm>
            <a:off x="5562720" y="5685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1" name="Rectangle 18"/>
          <p:cNvSpPr/>
          <p:nvPr/>
        </p:nvSpPr>
        <p:spPr>
          <a:xfrm>
            <a:off x="5334120" y="554904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Родину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83" name="Picture 4" descr="http://school87.kubannet.ru/kavkaz/pic/new4/rboo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ahoma"/>
              </a:rPr>
              <a:t>СИПЖЕКНОДН</a:t>
            </a:r>
            <a:r>
              <a:rPr b="0" lang="ru-RU" sz="4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ahoma"/>
              </a:rPr>
              <a:t>Травянистый многолетник до 20см высоты. На стебле один поникающий цветок до 25мм длины, из 6 белых листочков с надрезом наверху и зеленым пятном в верхней части. Плодоносит в мае. Размножается семенами. Растет на опушках, в зарослях кустарников, лиственных лесах.</a:t>
            </a:r>
            <a:endParaRPr b="0" lang="en-US" sz="24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586" name="Picture 4" descr="sochi30"/>
          <p:cNvPicPr/>
          <p:nvPr/>
        </p:nvPicPr>
        <p:blipFill>
          <a:blip r:embed="rId1"/>
          <a:stretch/>
        </p:blipFill>
        <p:spPr>
          <a:xfrm>
            <a:off x="4648320" y="14479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6"/>
          <p:cNvSpPr/>
          <p:nvPr/>
        </p:nvSpPr>
        <p:spPr>
          <a:xfrm>
            <a:off x="4952880" y="3337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8" name="WordArt 7"/>
          <p:cNvSpPr txBox="1"/>
          <p:nvPr/>
        </p:nvSpPr>
        <p:spPr>
          <a:xfrm>
            <a:off x="5334120" y="380880"/>
            <a:ext cx="3581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подснежни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Tahoma"/>
              </a:rPr>
              <a:t>ЯЛИЛИ</a:t>
            </a:r>
            <a:r>
              <a:rPr b="0" lang="ru-RU" sz="54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590" name="Picture 4" descr="1Lilia"/>
          <p:cNvPicPr/>
          <p:nvPr/>
        </p:nvPicPr>
        <p:blipFill>
          <a:blip r:embed="rId1"/>
          <a:stretch/>
        </p:blipFill>
        <p:spPr>
          <a:xfrm>
            <a:off x="0" y="1600200"/>
            <a:ext cx="4876920" cy="5257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4648320" y="15235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33"/>
                </a:solidFill>
                <a:latin typeface="Tahoma"/>
              </a:rPr>
              <a:t>Многолетнее растение высотой до 70-200см. В соцветии 3-20 цветков. Цветки трубчато-колокольчатые, светло-соломенно-желтые, с неприятным запахом. Цветет в мае-июне. Размножается семенами. Растет на открытых полянах в лесном поясе. </a:t>
            </a:r>
            <a:endParaRPr b="0" lang="en-US" sz="2800" spc="-1" strike="noStrike">
              <a:solidFill>
                <a:srgbClr val="339933"/>
              </a:solidFill>
              <a:latin typeface="Tahoma"/>
            </a:endParaRPr>
          </a:p>
        </p:txBody>
      </p:sp>
      <p:sp>
        <p:nvSpPr>
          <p:cNvPr id="592" name="WordArt 6"/>
          <p:cNvSpPr txBox="1"/>
          <p:nvPr/>
        </p:nvSpPr>
        <p:spPr>
          <a:xfrm>
            <a:off x="4952880" y="685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лил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432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cc0066"/>
                </a:solidFill>
                <a:latin typeface="Arial"/>
              </a:rPr>
              <a:t>СОТЛО</a:t>
            </a: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Травянистое земноводное многолетнее растение с ползучим корневищем. Листья двух типов: подводные – сидячие и надводные – плавающие и стоячие. Цветет в июне-августе. Цветок на высокой стройной ножке, ярко-розовый, с приятным запахом. Распространен в дельте Кубани.</a:t>
            </a:r>
            <a:endParaRPr b="0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595" name="Picture 4" descr="nelumbo_nucifera_pink"/>
          <p:cNvPicPr/>
          <p:nvPr/>
        </p:nvPicPr>
        <p:blipFill>
          <a:blip r:embed="rId1"/>
          <a:stretch/>
        </p:blipFill>
        <p:spPr>
          <a:xfrm>
            <a:off x="4572000" y="1523880"/>
            <a:ext cx="4572000" cy="5334120"/>
          </a:xfrm>
          <a:prstGeom prst="rect">
            <a:avLst/>
          </a:prstGeom>
          <a:ln w="0">
            <a:noFill/>
          </a:ln>
        </p:spPr>
      </p:pic>
      <p:sp>
        <p:nvSpPr>
          <p:cNvPr id="596" name="WordArt 7"/>
          <p:cNvSpPr txBox="1"/>
          <p:nvPr/>
        </p:nvSpPr>
        <p:spPr>
          <a:xfrm>
            <a:off x="4495680" y="68580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лото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4-05T15:09:51Z</dcterms:modified>
  <cp:revision>18</cp:revision>
  <dc:subject/>
  <dc:title>Красная книга Куба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