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31.png" ContentType="image/png"/>
  <Override PartName="/ppt/media/image29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40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2.jpeg" ContentType="image/jpeg"/>
  <Override PartName="/ppt/media/image32.png" ContentType="image/png"/>
  <Override PartName="/ppt/media/image4.gif" ContentType="image/gif"/>
  <Override PartName="/ppt/media/image9.png" ContentType="image/png"/>
  <Override PartName="/ppt/media/image39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43.wmf" ContentType="image/x-wmf"/>
  <Override PartName="/ppt/media/image34.jpeg" ContentType="image/jpeg"/>
  <Override PartName="/ppt/media/image37.png" ContentType="image/png"/>
  <Override PartName="/ppt/media/image3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8.png" ContentType="image/png"/>
  <Override PartName="/ppt/media/image3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055-AD1A-438F-B3D2-82E50C6A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E99-A293-4E8E-80E2-0DE0EADC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9C1-2EA5-491D-9705-A4C21579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A15-5562-4243-984E-28E2A195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AAA-805B-46F8-A621-0E51C91F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C5F-514D-4E6D-8960-000A9EB1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A29-E9B0-4F3D-88D1-613F1B58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941-8044-4C15-8713-CE40648D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42A-E726-46ED-ABB1-93C719CC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AA4-2723-400A-9846-8A19304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5E5-995B-4FA9-8A27-CA5A2AE7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534-3D28-4FF6-B780-37B6550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9B61-3AC9-4997-9DCC-E0C3C6866B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ms.24open.ru/images/ff1011e50fda61da5123574b0e4596df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hyperlink" Target="http://smiles.33b.ru/smile.106335.html" TargetMode="External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hyperlink" Target="http://www.clker.com/cliparts/5/b/f/4/11949855221461346840elefante02_architetto_fr_01.svg.hi.png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ХОЧУ ВСЁ ЗНАТЬ»   3  класс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27" descr=""/>
          <p:cNvPicPr/>
          <p:nvPr/>
        </p:nvPicPr>
        <p:blipFill>
          <a:blip r:embed="rId1"/>
          <a:stretch/>
        </p:blipFill>
        <p:spPr>
          <a:xfrm>
            <a:off x="3767040" y="4033800"/>
            <a:ext cx="1609920" cy="14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мама\Мои рисунки\люди,цветы,солнце анимации\0d7bfbb42edcbbc148491e5164e3ef67.gif"/>
          <p:cNvPicPr/>
          <p:nvPr/>
        </p:nvPicPr>
        <p:blipFill>
          <a:blip r:embed="rId2"/>
          <a:stretch/>
        </p:blipFill>
        <p:spPr>
          <a:xfrm>
            <a:off x="6248520" y="4038480"/>
            <a:ext cx="264312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457200" y="160164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Тема  :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Вычислительный поезд. Математические   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    головоломки</a:t>
            </a:r>
            <a:r>
              <a:rPr b="1" i="1" lang="ru-RU" sz="3600" spc="-1" strike="noStrike">
                <a:solidFill>
                  <a:srgbClr val="e5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http://www.topglobus.ru/skin/smile/s2884.gif"/>
          <p:cNvPicPr/>
          <p:nvPr/>
        </p:nvPicPr>
        <p:blipFill>
          <a:blip r:embed="rId3"/>
          <a:stretch/>
        </p:blipFill>
        <p:spPr>
          <a:xfrm>
            <a:off x="311040" y="3430440"/>
            <a:ext cx="25894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 ) Лежали конфеты в кучке. Две матери, две дочки да бабушка с внучкой взяли конфет по одной штучке, и не стало этой куч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олько конфет  было в куч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Картинка 5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5181480"/>
            <a:ext cx="2543040" cy="1676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380880" y="228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) Яйцо  всмятку  варится  4   мину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ольк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арятся  5  яи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648320" y="1219320"/>
            <a:ext cx="3960720" cy="574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4  минуты.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600200" y="5638680"/>
            <a:ext cx="3960720" cy="57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3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конфеты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5"/>
          <p:cNvSpPr/>
          <p:nvPr/>
        </p:nvSpPr>
        <p:spPr>
          <a:xfrm flipV="1">
            <a:off x="6019920" y="2209680"/>
            <a:ext cx="0" cy="152424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V="1">
            <a:off x="7924680" y="2209680"/>
            <a:ext cx="0" cy="152424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6172200" y="3733920"/>
            <a:ext cx="160020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7010280" y="3733920"/>
            <a:ext cx="0" cy="167616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9" descr="079513_337"/>
          <p:cNvPicPr/>
          <p:nvPr/>
        </p:nvPicPr>
        <p:blipFill>
          <a:blip r:embed="rId1"/>
          <a:stretch/>
        </p:blipFill>
        <p:spPr>
          <a:xfrm rot="16780800">
            <a:off x="6955200" y="2416680"/>
            <a:ext cx="652680" cy="69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079513_337"/>
          <p:cNvPicPr/>
          <p:nvPr/>
        </p:nvPicPr>
        <p:blipFill>
          <a:blip r:embed="rId2"/>
          <a:stretch/>
        </p:blipFill>
        <p:spPr>
          <a:xfrm rot="13648200">
            <a:off x="6650640" y="2950200"/>
            <a:ext cx="652320" cy="69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079513_337"/>
          <p:cNvPicPr/>
          <p:nvPr/>
        </p:nvPicPr>
        <p:blipFill>
          <a:blip r:embed="rId3"/>
          <a:stretch/>
        </p:blipFill>
        <p:spPr>
          <a:xfrm>
            <a:off x="6400800" y="2362320"/>
            <a:ext cx="609480" cy="69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152280" y="1522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могите  Незнайке  переложить  две  счетные палочки  так, чтобы листики оказались  вне  «лопат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D:\Каталог картинок\Насекомые\незнайка 1.gif"/>
          <p:cNvPicPr/>
          <p:nvPr/>
        </p:nvPicPr>
        <p:blipFill>
          <a:blip r:embed="rId4"/>
          <a:stretch/>
        </p:blipFill>
        <p:spPr>
          <a:xfrm>
            <a:off x="304920" y="1066680"/>
            <a:ext cx="489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9" descr="079513_337"/>
          <p:cNvPicPr/>
          <p:nvPr/>
        </p:nvPicPr>
        <p:blipFill>
          <a:blip r:embed="rId1"/>
          <a:stretch/>
        </p:blipFill>
        <p:spPr>
          <a:xfrm rot="16780800">
            <a:off x="3831120" y="2721600"/>
            <a:ext cx="652320" cy="695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15228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V="1">
            <a:off x="4343400" y="3657240"/>
            <a:ext cx="0" cy="167652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H="1">
            <a:off x="3505320" y="3657600"/>
            <a:ext cx="175248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5334120" y="1980720"/>
            <a:ext cx="0" cy="160020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3429000" y="2057040"/>
            <a:ext cx="0" cy="160020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079513_337"/>
          <p:cNvPicPr/>
          <p:nvPr/>
        </p:nvPicPr>
        <p:blipFill>
          <a:blip r:embed="rId2"/>
          <a:stretch/>
        </p:blipFill>
        <p:spPr>
          <a:xfrm>
            <a:off x="4343400" y="2514600"/>
            <a:ext cx="609480" cy="69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079513_337"/>
          <p:cNvPicPr/>
          <p:nvPr/>
        </p:nvPicPr>
        <p:blipFill>
          <a:blip r:embed="rId3"/>
          <a:stretch/>
        </p:blipFill>
        <p:spPr>
          <a:xfrm rot="13648200">
            <a:off x="3831480" y="2112120"/>
            <a:ext cx="6523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3.33333E-006 L 0.1 -3.33333E-006 E">
                                      <p:cBhvr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11111 L 0.30833 0.23334 E">
                                      <p:cBhvr>
                                        <p:cTn id="22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e5ffff"/>
                </a:solidFill>
                <a:latin typeface="Arial"/>
              </a:rPr>
              <a:t>Постройте  из  счетных палочек  такой  домик. Поверните  его  к нам  другой  стороной, передвинув  только  две  палочк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Line 5"/>
          <p:cNvSpPr/>
          <p:nvPr/>
        </p:nvSpPr>
        <p:spPr>
          <a:xfrm flipV="1">
            <a:off x="2057400" y="3886200"/>
            <a:ext cx="0" cy="17524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 flipH="1">
            <a:off x="2133720" y="5715000"/>
            <a:ext cx="175248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3962520" y="3886200"/>
            <a:ext cx="0" cy="182880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2057400" y="2285640"/>
            <a:ext cx="838080" cy="15238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 flipV="1">
            <a:off x="2971800" y="2438280"/>
            <a:ext cx="990720" cy="144792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4038480" y="5715000"/>
            <a:ext cx="182880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962160" y="3809880"/>
            <a:ext cx="190476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4800600" y="2361960"/>
            <a:ext cx="990720" cy="144756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895480" y="2362320"/>
            <a:ext cx="198144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5867280" y="3886200"/>
            <a:ext cx="0" cy="17524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Провер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057400" y="3886200"/>
            <a:ext cx="0" cy="17524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 flipH="1">
            <a:off x="2133720" y="5715000"/>
            <a:ext cx="175248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3962520" y="3886200"/>
            <a:ext cx="0" cy="182880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2057400" y="2285640"/>
            <a:ext cx="838080" cy="15238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H="1">
            <a:off x="4038480" y="5715000"/>
            <a:ext cx="182880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 flipV="1">
            <a:off x="4800600" y="2361960"/>
            <a:ext cx="990720" cy="144756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895480" y="2362320"/>
            <a:ext cx="198144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5867280" y="3886200"/>
            <a:ext cx="0" cy="17524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 flipV="1">
            <a:off x="2971440" y="2438280"/>
            <a:ext cx="1066680" cy="144792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>
            <a:off x="3962160" y="3809880"/>
            <a:ext cx="190476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24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10834 -0.00556 E">
                                      <p:cBhvr>
                                        <p:cTn id="25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20417 4.44444E-006 E">
                                      <p:cBhvr>
                                        <p:cTn id="2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Arial"/>
              </a:rPr>
              <a:t>Расставьте  знаки  действий и  скобки  так, чтобы  равенства  были  верными</a:t>
            </a:r>
            <a:r>
              <a:rPr b="0" i="1" lang="ru-RU" sz="2800" spc="-1" strike="noStrike">
                <a:solidFill>
                  <a:srgbClr val="e5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4    4   4   4   =    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2   2   2   2   =    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5   5   5   5   =    26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9   9   9   9   =    6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616360" cy="35654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4"/>
          <p:cNvSpPr txBox="1"/>
          <p:nvPr/>
        </p:nvSpPr>
        <p:spPr>
          <a:xfrm>
            <a:off x="609480" y="620640"/>
            <a:ext cx="79232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лодцы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Каталог картинок\Насекомые\незнайка 1.gif"/>
          <p:cNvPicPr/>
          <p:nvPr/>
        </p:nvPicPr>
        <p:blipFill>
          <a:blip r:embed="rId1"/>
          <a:stretch/>
        </p:blipFill>
        <p:spPr>
          <a:xfrm>
            <a:off x="2209680" y="1295280"/>
            <a:ext cx="4892760" cy="579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Arial"/>
              </a:rPr>
              <a:t>Помогите  Незнайке  разгадать  математические  ребусы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3962520" y="2666880"/>
            <a:ext cx="43480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no Pro Display"/>
              </a:rPr>
              <a:t>Ребусы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no Pro Display"/>
              <a:ea typeface="Arno Pro Displ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6" descr=""/>
          <p:cNvPicPr/>
          <p:nvPr/>
        </p:nvPicPr>
        <p:blipFill>
          <a:blip r:embed="rId1"/>
          <a:stretch/>
        </p:blipFill>
        <p:spPr>
          <a:xfrm>
            <a:off x="4191120" y="1143000"/>
            <a:ext cx="5054400" cy="204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snap0525"/>
          <p:cNvPicPr/>
          <p:nvPr/>
        </p:nvPicPr>
        <p:blipFill>
          <a:blip r:embed="rId2"/>
          <a:stretch/>
        </p:blipFill>
        <p:spPr>
          <a:xfrm>
            <a:off x="5105520" y="228600"/>
            <a:ext cx="3187440" cy="16495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1" name="TextBox 7" descr=""/>
          <p:cNvPicPr/>
          <p:nvPr/>
        </p:nvPicPr>
        <p:blipFill>
          <a:blip r:embed="rId3"/>
          <a:stretch/>
        </p:blipFill>
        <p:spPr>
          <a:xfrm>
            <a:off x="-609480" y="1219320"/>
            <a:ext cx="5284800" cy="20476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8" descr=""/>
          <p:cNvPicPr/>
          <p:nvPr/>
        </p:nvPicPr>
        <p:blipFill>
          <a:blip r:embed="rId4"/>
          <a:stretch/>
        </p:blipFill>
        <p:spPr>
          <a:xfrm>
            <a:off x="2133720" y="4809960"/>
            <a:ext cx="484668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609480" y="304920"/>
            <a:ext cx="2857680" cy="1428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4" name="Picture 3" descr=""/>
          <p:cNvPicPr/>
          <p:nvPr/>
        </p:nvPicPr>
        <p:blipFill>
          <a:blip r:embed="rId6"/>
          <a:stretch/>
        </p:blipFill>
        <p:spPr>
          <a:xfrm>
            <a:off x="2819520" y="3886200"/>
            <a:ext cx="321444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nap0545"/>
          <p:cNvPicPr/>
          <p:nvPr/>
        </p:nvPicPr>
        <p:blipFill>
          <a:blip r:embed="rId1"/>
          <a:stretch/>
        </p:blipFill>
        <p:spPr>
          <a:xfrm>
            <a:off x="914400" y="152280"/>
            <a:ext cx="2514600" cy="17528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6" name="TextBox 9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4" descr="http://dob.1september.ru/2001/04/vkl/14.gif"/>
          <p:cNvPicPr/>
          <p:nvPr/>
        </p:nvPicPr>
        <p:blipFill>
          <a:blip r:embed="rId3"/>
          <a:srcRect l="0" t="6149" r="-1560" b="4588"/>
          <a:stretch/>
        </p:blipFill>
        <p:spPr>
          <a:xfrm>
            <a:off x="5791320" y="152280"/>
            <a:ext cx="1571400" cy="16891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8" name="TextBox 13" descr=""/>
          <p:cNvPicPr/>
          <p:nvPr/>
        </p:nvPicPr>
        <p:blipFill>
          <a:blip r:embed="rId4"/>
          <a:stretch/>
        </p:blipFill>
        <p:spPr>
          <a:xfrm>
            <a:off x="5334120" y="144792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5" descr=""/>
          <p:cNvPicPr/>
          <p:nvPr/>
        </p:nvPicPr>
        <p:blipFill>
          <a:blip r:embed="rId5"/>
          <a:stretch/>
        </p:blipFill>
        <p:spPr>
          <a:xfrm>
            <a:off x="2209680" y="4809960"/>
            <a:ext cx="3988080" cy="20480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0" descr=""/>
          <p:cNvPicPr/>
          <p:nvPr/>
        </p:nvPicPr>
        <p:blipFill>
          <a:blip r:embed="rId6"/>
          <a:stretch/>
        </p:blipFill>
        <p:spPr>
          <a:xfrm>
            <a:off x="533520" y="3352680"/>
            <a:ext cx="5973480" cy="2170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"/>
          <p:cNvPicPr/>
          <p:nvPr/>
        </p:nvPicPr>
        <p:blipFill>
          <a:blip r:embed="rId7"/>
          <a:stretch/>
        </p:blipFill>
        <p:spPr>
          <a:xfrm>
            <a:off x="5715000" y="3733920"/>
            <a:ext cx="157176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home2\Desktop\анимации\5874_html_52ef48aa.png"/>
          <p:cNvPicPr/>
          <p:nvPr/>
        </p:nvPicPr>
        <p:blipFill>
          <a:blip r:embed="rId1"/>
          <a:stretch/>
        </p:blipFill>
        <p:spPr>
          <a:xfrm>
            <a:off x="3389400" y="4332240"/>
            <a:ext cx="5726160" cy="26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home2\Desktop\анимации\262746611.gif"/>
          <p:cNvPicPr/>
          <p:nvPr/>
        </p:nvPicPr>
        <p:blipFill>
          <a:blip r:embed="rId2"/>
          <a:stretch/>
        </p:blipFill>
        <p:spPr>
          <a:xfrm>
            <a:off x="495360" y="5105520"/>
            <a:ext cx="15080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52042d5317de347c3fa3dcb18c9fd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27080"/>
            <a:ext cx="1295640" cy="22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home2\Desktop\анимации\pic_40083.jpg"/>
          <p:cNvPicPr/>
          <p:nvPr/>
        </p:nvPicPr>
        <p:blipFill>
          <a:blip r:embed="rId5"/>
          <a:stretch/>
        </p:blipFill>
        <p:spPr>
          <a:xfrm>
            <a:off x="380880" y="304920"/>
            <a:ext cx="487692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q2"/>
          <p:cNvPicPr/>
          <p:nvPr/>
        </p:nvPicPr>
        <p:blipFill>
          <a:blip r:embed="rId1"/>
          <a:stretch/>
        </p:blipFill>
        <p:spPr>
          <a:xfrm>
            <a:off x="1066680" y="228600"/>
            <a:ext cx="306720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7" name="TextBox 7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5936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2619360" cy="1785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9" name="TextBox 10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27672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snap0543"/>
          <p:cNvPicPr/>
          <p:nvPr/>
        </p:nvPicPr>
        <p:blipFill>
          <a:blip r:embed="rId5"/>
          <a:stretch/>
        </p:blipFill>
        <p:spPr>
          <a:xfrm>
            <a:off x="1066680" y="3276720"/>
            <a:ext cx="2928960" cy="1699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Picture 5" descr="snap0547"/>
          <p:cNvPicPr/>
          <p:nvPr/>
        </p:nvPicPr>
        <p:blipFill>
          <a:blip r:embed="rId6"/>
          <a:stretch/>
        </p:blipFill>
        <p:spPr>
          <a:xfrm>
            <a:off x="4724280" y="3352680"/>
            <a:ext cx="322920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2" name="TextBox 11" descr=""/>
          <p:cNvPicPr/>
          <p:nvPr/>
        </p:nvPicPr>
        <p:blipFill>
          <a:blip r:embed="rId7"/>
          <a:stretch/>
        </p:blipFill>
        <p:spPr>
          <a:xfrm>
            <a:off x="1295280" y="4815000"/>
            <a:ext cx="2292480" cy="20430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2" descr=""/>
          <p:cNvPicPr/>
          <p:nvPr/>
        </p:nvPicPr>
        <p:blipFill>
          <a:blip r:embed="rId8"/>
          <a:stretch/>
        </p:blipFill>
        <p:spPr>
          <a:xfrm>
            <a:off x="5334120" y="4815000"/>
            <a:ext cx="22921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6" descr=""/>
          <p:cNvPicPr/>
          <p:nvPr/>
        </p:nvPicPr>
        <p:blipFill>
          <a:blip r:embed="rId1"/>
          <a:stretch/>
        </p:blipFill>
        <p:spPr>
          <a:xfrm>
            <a:off x="-838080" y="0"/>
            <a:ext cx="379548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14" descr=""/>
          <p:cNvPicPr/>
          <p:nvPr/>
        </p:nvPicPr>
        <p:blipFill>
          <a:blip r:embed="rId2"/>
          <a:stretch/>
        </p:blipFill>
        <p:spPr>
          <a:xfrm>
            <a:off x="-457200" y="1447920"/>
            <a:ext cx="5443560" cy="2047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rcRect l="9083" t="0" r="13654" b="8686"/>
          <a:stretch/>
        </p:blipFill>
        <p:spPr>
          <a:xfrm>
            <a:off x="2438280" y="380880"/>
            <a:ext cx="1357560" cy="1785960"/>
          </a:xfrm>
          <a:prstGeom prst="rect">
            <a:avLst/>
          </a:prstGeom>
          <a:ln w="9360">
            <a:solidFill>
              <a:srgbClr val="e5ffff"/>
            </a:solidFill>
            <a:miter/>
          </a:ln>
        </p:spPr>
      </p:pic>
      <p:pic>
        <p:nvPicPr>
          <p:cNvPr id="77" name="Picture 2" descr="snap0502"/>
          <p:cNvPicPr/>
          <p:nvPr/>
        </p:nvPicPr>
        <p:blipFill>
          <a:blip r:embed="rId4"/>
          <a:stretch/>
        </p:blipFill>
        <p:spPr>
          <a:xfrm>
            <a:off x="4724280" y="457200"/>
            <a:ext cx="314352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8" name="TextBox 12" descr=""/>
          <p:cNvPicPr/>
          <p:nvPr/>
        </p:nvPicPr>
        <p:blipFill>
          <a:blip r:embed="rId5"/>
          <a:stretch/>
        </p:blipFill>
        <p:spPr>
          <a:xfrm>
            <a:off x="3809880" y="1523880"/>
            <a:ext cx="5627880" cy="204804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3" descr=""/>
          <p:cNvPicPr/>
          <p:nvPr/>
        </p:nvPicPr>
        <p:blipFill>
          <a:blip r:embed="rId6"/>
          <a:stretch/>
        </p:blipFill>
        <p:spPr>
          <a:xfrm>
            <a:off x="2209680" y="4952880"/>
            <a:ext cx="5564160" cy="2048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8" descr=""/>
          <p:cNvPicPr/>
          <p:nvPr/>
        </p:nvPicPr>
        <p:blipFill>
          <a:blip r:embed="rId7"/>
          <a:stretch/>
        </p:blipFill>
        <p:spPr>
          <a:xfrm>
            <a:off x="-228600" y="3657600"/>
            <a:ext cx="5272200" cy="2170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"/>
          <p:cNvPicPr/>
          <p:nvPr/>
        </p:nvPicPr>
        <p:blipFill>
          <a:blip r:embed="rId8"/>
          <a:srcRect l="4678" t="0" r="0" b="0"/>
          <a:stretch/>
        </p:blipFill>
        <p:spPr>
          <a:xfrm>
            <a:off x="5486400" y="4038480"/>
            <a:ext cx="130968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2" name="Рисунок 7" descr=""/>
          <p:cNvPicPr/>
          <p:nvPr/>
        </p:nvPicPr>
        <p:blipFill>
          <a:blip r:embed="rId9"/>
          <a:stretch/>
        </p:blipFill>
        <p:spPr>
          <a:xfrm>
            <a:off x="4267080" y="4038480"/>
            <a:ext cx="121464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228600" y="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Arial"/>
              </a:rPr>
              <a:t>Задачи  на  смекал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9" descr="shkola"/>
          <p:cNvPicPr/>
          <p:nvPr/>
        </p:nvPicPr>
        <p:blipFill>
          <a:blip r:embed="rId1"/>
          <a:stretch/>
        </p:blipFill>
        <p:spPr>
          <a:xfrm>
            <a:off x="838080" y="2286000"/>
            <a:ext cx="7417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457200" y="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до  разделить  поровну  4 яблока  между  13  деть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 лучше  всего  это  с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828800" y="1828800"/>
            <a:ext cx="7315200" cy="574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Лучше  всего  сделать  яблочный  сок.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80880" y="3124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 ) Температура  тела  у  человека  меньше  температуры тела  голубя, но  больше  температуры  тела  слона. У кого  из  них  термометр покажет  самую  высокую температур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5183280" y="5867280"/>
            <a:ext cx="3960720" cy="57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  голубя.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67" descr="Frukti i jagodi (22)"/>
          <p:cNvPicPr/>
          <p:nvPr/>
        </p:nvPicPr>
        <p:blipFill>
          <a:blip r:embed="rId1"/>
          <a:stretch/>
        </p:blipFill>
        <p:spPr>
          <a:xfrm>
            <a:off x="304920" y="1523880"/>
            <a:ext cx="1071360" cy="633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7" descr="Frukti i jagodi (22)"/>
          <p:cNvPicPr/>
          <p:nvPr/>
        </p:nvPicPr>
        <p:blipFill>
          <a:blip r:embed="rId2"/>
          <a:stretch/>
        </p:blipFill>
        <p:spPr>
          <a:xfrm>
            <a:off x="380880" y="2057400"/>
            <a:ext cx="1071720" cy="633240"/>
          </a:xfrm>
          <a:prstGeom prst="rect">
            <a:avLst/>
          </a:prstGeom>
          <a:ln w="0">
            <a:noFill/>
          </a:ln>
        </p:spPr>
      </p:pic>
      <p:pic>
        <p:nvPicPr>
          <p:cNvPr id="91" name="i-main-pic" descr="Картинка 73 из 1261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14600" y="5397480"/>
            <a:ext cx="1886040" cy="146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J0304861"/>
          <p:cNvPicPr/>
          <p:nvPr/>
        </p:nvPicPr>
        <p:blipFill>
          <a:blip r:embed="rId5"/>
          <a:stretch/>
        </p:blipFill>
        <p:spPr>
          <a:xfrm>
            <a:off x="380880" y="5038560"/>
            <a:ext cx="1257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Админ</cp:lastModifiedBy>
  <dcterms:modified xsi:type="dcterms:W3CDTF">2020-04-05T13:37:5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