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D16-A649-4446-854E-5B842234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0D6-CFE1-49F3-85BB-2845A3C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714-C76B-43F8-924C-E4E56521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602-1F3A-4AF4-93D3-B4CE8F33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733-B0A8-430D-AE51-534F8C75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5EB-3756-48D3-8F51-9C429B3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8A0-F035-44F3-AD8C-4767787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1B8-1261-41F7-819E-6CE7220A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132-30C1-4EAA-8D8C-8ABB23B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0FA-F8DE-4091-B769-0B45DF7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7E5-6843-4719-A633-BDEA014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39F-A6E1-425E-9A52-7E9E86C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35E-5AE2-49C7-8784-84FC08E23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Admin</cp:lastModifiedBy>
  <dcterms:modified xsi:type="dcterms:W3CDTF">2013-09-17T17:39:48Z</dcterms:modified>
  <cp:revision>89</cp:revision>
  <dc:subject/>
  <dc:title>Слайд 1</dc:title>
</cp:coreProperties>
</file>