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97A-04E4-41D9-A3D5-8ADEAA37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2D92-A372-4A34-B5D9-CF21981C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FD49-0685-4A0D-B93F-567E3984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64E6-9024-4A7F-A3EA-3E4DF66C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18FF-AC11-4866-996C-5147F88A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C6A-B2FA-4793-AD91-B712437B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3ADE-1E68-4E90-B411-DB42F7EC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99A6-4E17-4269-BCBF-0ED227C4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9FF-4272-4782-8E27-AB7F6CA6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779-9889-4071-AC08-95954AD8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228-64F4-412A-AE29-07066F10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946E-692C-463A-B28E-230F6BE6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8B43-939B-40CA-BC77-27A6AE5174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773360"/>
            <a:ext cx="830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403280" y="18900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сочетание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79280" y="162864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сочетание двух слов самостоятельных частей речи, связанных друг с другом по смыслу и грамматиче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50920" y="3500280"/>
            <a:ext cx="851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вонкого гол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ел л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ворить невня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книги"/>
          <p:cNvPicPr/>
          <p:nvPr/>
        </p:nvPicPr>
        <p:blipFill>
          <a:blip r:embed="rId1"/>
          <a:stretch/>
        </p:blipFill>
        <p:spPr>
          <a:xfrm>
            <a:off x="6732720" y="4508640"/>
            <a:ext cx="200484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50920" y="11592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согласование на словосочетания со связью у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24000" y="1773360"/>
            <a:ext cx="48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писал без ошибок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чез без след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кончил до сро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ворил с улыбкой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ить без забот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4716360" y="1773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писать безошиб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716360" y="2492280"/>
            <a:ext cx="42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чезнуть бессле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327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716360" y="31417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ончить доср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788000" y="3933720"/>
            <a:ext cx="39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ворил улыбая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716360" y="4869000"/>
            <a:ext cx="426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716360" y="458136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ить беззабо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00" y="1413000"/>
            <a:ext cx="86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1125360"/>
            <a:ext cx="95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Times New Roman"/>
              </a:rPr>
              <a:t>Виды словосочет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826920" y="342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012000" y="33577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е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76720" y="4365720"/>
            <a:ext cx="28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лаг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 flipH="1">
            <a:off x="1835280" y="2276640"/>
            <a:ext cx="2665440" cy="13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4500720" y="2276640"/>
            <a:ext cx="2950920" cy="129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>
            <a:off x="4500720" y="2276640"/>
            <a:ext cx="0" cy="23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324000" y="1413000"/>
            <a:ext cx="8640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уществует три способа подчинительной связи между словами в  словосочетани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24000" y="189000"/>
            <a:ext cx="87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Способы подчинитель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связи между слов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39640" y="342900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гла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012000" y="33577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276720" y="4365720"/>
            <a:ext cx="28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ык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1835280" y="2276640"/>
            <a:ext cx="2665440" cy="13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4500720" y="2276640"/>
            <a:ext cx="2950920" cy="129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4500720" y="2276640"/>
            <a:ext cx="0" cy="23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684360" y="189000"/>
            <a:ext cx="7796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огласов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зависимое слово ставится в тех же формах, что и гла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яркий пол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 rot="5400000">
            <a:off x="1799640" y="1665000"/>
            <a:ext cx="936720" cy="2737080"/>
          </a:xfrm>
          <a:prstGeom prst="rightArrowCallout">
            <a:avLst>
              <a:gd name="adj1" fmla="val 73056"/>
              <a:gd name="adj2" fmla="val 7305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лавн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 rot="5400000">
            <a:off x="6299640" y="1629000"/>
            <a:ext cx="865080" cy="2737080"/>
          </a:xfrm>
          <a:prstGeom prst="rightArrowCallout">
            <a:avLst>
              <a:gd name="adj1" fmla="val 79106"/>
              <a:gd name="adj2" fmla="val 79099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висим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5580000" y="3645000"/>
            <a:ext cx="295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лагатель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част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естоим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рядковое числ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4211640" y="2492280"/>
            <a:ext cx="59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116000" y="18900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Управлени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зависимое слово ставится при главном в определённом паде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написать дру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 rot="5400000">
            <a:off x="6228360" y="1197720"/>
            <a:ext cx="865080" cy="2736720"/>
          </a:xfrm>
          <a:prstGeom prst="rightArrowCallout">
            <a:avLst>
              <a:gd name="adj1" fmla="val 79096"/>
              <a:gd name="adj2" fmla="val 79089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висим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 rot="5400000">
            <a:off x="1799640" y="1160280"/>
            <a:ext cx="936720" cy="2737080"/>
          </a:xfrm>
          <a:prstGeom prst="rightArrowCallout">
            <a:avLst>
              <a:gd name="adj1" fmla="val 73056"/>
              <a:gd name="adj2" fmla="val 7305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лавн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5148360" y="328464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уществитель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естоим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числ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067280" y="2060640"/>
            <a:ext cx="59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755640" y="1159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имыкани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зависимое неизменяемое слово связано с главным по смыс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ушёл гу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 rot="5400000">
            <a:off x="6371280" y="1269000"/>
            <a:ext cx="865080" cy="2736720"/>
          </a:xfrm>
          <a:prstGeom prst="rightArrowCallout">
            <a:avLst>
              <a:gd name="adj1" fmla="val 79096"/>
              <a:gd name="adj2" fmla="val 79089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висим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 rot="5400000">
            <a:off x="1871640" y="1304640"/>
            <a:ext cx="936720" cy="2736720"/>
          </a:xfrm>
          <a:prstGeom prst="rightArrowCallout">
            <a:avLst>
              <a:gd name="adj1" fmla="val 73047"/>
              <a:gd name="adj2" fmla="val 7304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лавн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500720" y="3284640"/>
            <a:ext cx="450036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юбое неизменяемое знаменательное сло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наречие, деепричастие, неопределенная форма глагола, сравнительная фор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211640" y="2205000"/>
            <a:ext cx="45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250920" y="11592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согласование на словосочетания со связью у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24000" y="1773360"/>
            <a:ext cx="48099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емляничная полян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лубничное варень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ыбный суп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мин платок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сья нор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716360" y="17733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яна с землян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716360" y="2492280"/>
            <a:ext cx="42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аренье из клуб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327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788000" y="3141720"/>
            <a:ext cx="27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п из ры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4408560" y="4745160"/>
            <a:ext cx="426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4716360" y="4005360"/>
            <a:ext cx="31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латок ма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4788000" y="4653000"/>
            <a:ext cx="29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ра ли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24000" y="189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управление на словосочетания со связью согла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50920" y="2349360"/>
            <a:ext cx="406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да со льдо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стья клён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нь осени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уда из дерев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ы с землёй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500720" y="2349360"/>
            <a:ext cx="28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едяная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356000" y="2852640"/>
            <a:ext cx="37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леновые лис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4356000" y="3357720"/>
            <a:ext cx="32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енни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356000" y="386064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ревянная пос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427640" y="4292640"/>
            <a:ext cx="35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емляны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24000" y="189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примыкание на словосочетания со связью согла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79280" y="2421000"/>
            <a:ext cx="406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говаривать тих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годня вечером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ёт громко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упить по-чест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-настоящему вес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572000" y="2421000"/>
            <a:ext cx="28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хий раз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27640" y="285264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годняшний веч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427640" y="3213000"/>
            <a:ext cx="32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омкое п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356000" y="3645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стный поступ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427640" y="4149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стоящее весе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8:34:50Z</dcterms:created>
  <dc:creator>Евгения</dc:creator>
  <dc:description/>
  <dc:language>en-US</dc:language>
  <cp:lastModifiedBy>Admin</cp:lastModifiedBy>
  <dcterms:modified xsi:type="dcterms:W3CDTF">2013-09-17T17:39:48Z</dcterms:modified>
  <cp:revision>89</cp:revision>
  <dc:subject/>
  <dc:title>Слайд 1</dc:title>
</cp:coreProperties>
</file>