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5.jpeg" ContentType="image/jpeg"/>
  <Override PartName="/ppt/media/image22.png" ContentType="image/png"/>
  <Override PartName="/ppt/media/image17.gif" ContentType="image/gif"/>
  <Override PartName="/ppt/media/image3.jpeg" ContentType="image/jpeg"/>
  <Override PartName="/ppt/media/image21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2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3D9-CEE9-4EBF-BCBF-DF2BD286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CC8-A76B-4906-8E6A-6F62197B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C50-8FF6-4F2B-BC9F-7302B2ED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778-C9D8-417A-B9E3-BF8288DB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36C-4069-4E36-B9AB-431C93AF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E9B-D60E-4107-8302-F9FF0DEE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B94-CA2E-4A1B-A3E0-FD43A562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60F-EDE5-4C59-B727-199FEB4B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F5B-195E-41C4-B14E-12282994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6CF-CB97-4008-A4EF-622AB5D9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079-6A9E-4A7A-90D9-F9E27F5C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8BB-BA26-4E9F-8F80-36CE84F2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7448-A58B-47EF-9718-233DDC419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________________4.jpg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2997360"/>
            <a:ext cx="6048360" cy="46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50000">
                      <a:srgbClr val="ffcc00"/>
                    </a:gs>
                    <a:gs pos="100000">
                      <a:srgbClr val="6600ff"/>
                    </a:gs>
                  </a:gsLst>
                  <a:lin ang="13500000"/>
                </a:gradFill>
                <a:latin typeface="Book Antiqua"/>
              </a:rPr>
              <a:t>Там, на неведомых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50000">
                    <a:srgbClr val="ffcc00"/>
                  </a:gs>
                  <a:gs pos="100000">
                    <a:srgbClr val="6600ff"/>
                  </a:gs>
                </a:gsLst>
                <a:lin ang="13500000"/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50000">
                      <a:srgbClr val="ffcc00"/>
                    </a:gs>
                    <a:gs pos="100000">
                      <a:srgbClr val="6600ff"/>
                    </a:gs>
                  </a:gsLst>
                  <a:lin ang="13500000"/>
                </a:gradFill>
                <a:latin typeface="Book Antiqua"/>
              </a:rPr>
              <a:t> </a:t>
            </a: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50000">
                      <a:srgbClr val="ffcc00"/>
                    </a:gs>
                    <a:gs pos="100000">
                      <a:srgbClr val="6600ff"/>
                    </a:gs>
                  </a:gsLst>
                  <a:lin ang="13500000"/>
                </a:gradFill>
                <a:latin typeface="Book Antiqua"/>
              </a:rPr>
              <a:t>дорожках..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50000">
                    <a:srgbClr val="ffcc00"/>
                  </a:gs>
                  <a:gs pos="100000">
                    <a:srgbClr val="6600ff"/>
                  </a:gs>
                </a:gsLst>
                <a:lin ang="13500000"/>
              </a:gradFill>
              <a:latin typeface="Book Antiqua"/>
              <a:ea typeface="Book Antiqu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17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9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2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348000" y="549360"/>
            <a:ext cx="4969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 хозяйки плохо быть,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она им обещала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х не пачкать и не бить...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го обещала хозяйка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дой ключевою помыть!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1280" y="3251160"/>
            <a:ext cx="33130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348000" y="549360"/>
            <a:ext cx="4969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азки помните из книг любимых,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, конечно, мне ответите сейчас: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то охотился за юным Буратино?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у, конечно, злой разбойник...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2797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348000" y="549360"/>
            <a:ext cx="4969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двери он глядит в тревоге,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ывальник хромоногий,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х мочалок командир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чудесной сказке...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11280" y="3236760"/>
            <a:ext cx="3816360" cy="30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5" descr="24045.jpg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3943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611280" y="1700280"/>
            <a:ext cx="504036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2 тур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1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25" dur="50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26" dur="50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27" dur="50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84360" y="692280"/>
            <a:ext cx="755964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6600"/>
                    </a:gs>
                    <a:gs pos="50000">
                      <a:srgbClr val="008000"/>
                    </a:gs>
                    <a:gs pos="100000">
                      <a:srgbClr val="996600"/>
                    </a:gs>
                  </a:gsLst>
                  <a:lin ang="8100000"/>
                </a:gradFill>
                <a:latin typeface="Georgia"/>
              </a:rPr>
              <a:t>Лучший в мире крокодил?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6600"/>
                  </a:gs>
                  <a:gs pos="50000">
                    <a:srgbClr val="008000"/>
                  </a:gs>
                  <a:gs pos="100000">
                    <a:srgbClr val="996600"/>
                  </a:gs>
                </a:gsLst>
                <a:lin ang="8100000"/>
              </a:gradFill>
              <a:latin typeface="Georgia"/>
              <a:ea typeface="Georg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360" y="1773360"/>
            <a:ext cx="755964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6600"/>
                    </a:gs>
                    <a:gs pos="50000">
                      <a:srgbClr val="008000"/>
                    </a:gs>
                    <a:gs pos="100000">
                      <a:srgbClr val="996600"/>
                    </a:gs>
                  </a:gsLst>
                  <a:lin ang="8100000"/>
                </a:gradFill>
                <a:latin typeface="Georgia"/>
              </a:rPr>
              <a:t>Сколько козлят у многодетной козы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6600"/>
                  </a:gs>
                  <a:gs pos="50000">
                    <a:srgbClr val="008000"/>
                  </a:gs>
                  <a:gs pos="100000">
                    <a:srgbClr val="996600"/>
                  </a:gs>
                </a:gsLst>
                <a:lin ang="8100000"/>
              </a:gradFill>
              <a:latin typeface="Georgia"/>
              <a:ea typeface="Georg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4360" y="2854440"/>
            <a:ext cx="770544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6600"/>
                    </a:gs>
                    <a:gs pos="50000">
                      <a:srgbClr val="008000"/>
                    </a:gs>
                    <a:gs pos="100000">
                      <a:srgbClr val="996600"/>
                    </a:gs>
                  </a:gsLst>
                  <a:lin ang="8100000"/>
                </a:gradFill>
                <a:latin typeface="Georgia"/>
              </a:rPr>
              <a:t>Гордость Варвары-красы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6600"/>
                  </a:gs>
                  <a:gs pos="50000">
                    <a:srgbClr val="008000"/>
                  </a:gs>
                  <a:gs pos="100000">
                    <a:srgbClr val="996600"/>
                  </a:gs>
                </a:gsLst>
                <a:lin ang="8100000"/>
              </a:gradFill>
              <a:latin typeface="Georgia"/>
              <a:ea typeface="Georg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1280" y="4005360"/>
            <a:ext cx="74898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6600"/>
                    </a:gs>
                    <a:gs pos="50000">
                      <a:srgbClr val="008000"/>
                    </a:gs>
                    <a:gs pos="100000">
                      <a:srgbClr val="996600"/>
                    </a:gs>
                  </a:gsLst>
                  <a:lin ang="8100000"/>
                </a:gradFill>
                <a:latin typeface="Georgia"/>
              </a:rPr>
              <a:t>Самая известная курочк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6600"/>
                  </a:gs>
                  <a:gs pos="50000">
                    <a:srgbClr val="008000"/>
                  </a:gs>
                  <a:gs pos="100000">
                    <a:srgbClr val="996600"/>
                  </a:gs>
                </a:gsLst>
                <a:lin ang="8100000"/>
              </a:gradFill>
              <a:latin typeface="Georgia"/>
              <a:ea typeface="Georg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5157720"/>
            <a:ext cx="76327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6600"/>
                    </a:gs>
                    <a:gs pos="50000">
                      <a:srgbClr val="008000"/>
                    </a:gs>
                    <a:gs pos="100000">
                      <a:srgbClr val="996600"/>
                    </a:gs>
                  </a:gsLst>
                  <a:lin ang="8100000"/>
                </a:gradFill>
                <a:latin typeface="Georgia"/>
              </a:rPr>
              <a:t>Кто тянул репку перед Жучкой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6600"/>
                  </a:gs>
                  <a:gs pos="50000">
                    <a:srgbClr val="008000"/>
                  </a:gs>
                  <a:gs pos="100000">
                    <a:srgbClr val="996600"/>
                  </a:gs>
                </a:gsLst>
                <a:lin ang="81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84360" y="692280"/>
            <a:ext cx="755964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6600"/>
                    </a:gs>
                    <a:gs pos="50000">
                      <a:srgbClr val="008000"/>
                    </a:gs>
                    <a:gs pos="100000">
                      <a:srgbClr val="996600"/>
                    </a:gs>
                  </a:gsLst>
                  <a:lin ang="8100000"/>
                </a:gradFill>
                <a:latin typeface="Georgia"/>
              </a:rPr>
              <a:t>Мальчик - луковк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6600"/>
                  </a:gs>
                  <a:gs pos="50000">
                    <a:srgbClr val="008000"/>
                  </a:gs>
                  <a:gs pos="100000">
                    <a:srgbClr val="996600"/>
                  </a:gs>
                </a:gsLst>
                <a:lin ang="8100000"/>
              </a:gradFill>
              <a:latin typeface="Georgia"/>
              <a:ea typeface="Georg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4360" y="1773360"/>
            <a:ext cx="755964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6600"/>
                    </a:gs>
                    <a:gs pos="50000">
                      <a:srgbClr val="008000"/>
                    </a:gs>
                    <a:gs pos="100000">
                      <a:srgbClr val="996600"/>
                    </a:gs>
                  </a:gsLst>
                  <a:lin ang="8100000"/>
                </a:gradFill>
                <a:latin typeface="Georgia"/>
              </a:rPr>
              <a:t>Крокодиловая река в Африке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6600"/>
                  </a:gs>
                  <a:gs pos="50000">
                    <a:srgbClr val="008000"/>
                  </a:gs>
                  <a:gs pos="100000">
                    <a:srgbClr val="996600"/>
                  </a:gs>
                </a:gsLst>
                <a:lin ang="8100000"/>
              </a:gradFill>
              <a:latin typeface="Georgia"/>
              <a:ea typeface="Georg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4360" y="2854440"/>
            <a:ext cx="770544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6600"/>
                    </a:gs>
                    <a:gs pos="50000">
                      <a:srgbClr val="008000"/>
                    </a:gs>
                    <a:gs pos="100000">
                      <a:srgbClr val="996600"/>
                    </a:gs>
                  </a:gsLst>
                  <a:lin ang="8100000"/>
                </a:gradFill>
                <a:latin typeface="Georgia"/>
              </a:rPr>
              <a:t>Сказочная скатерть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6600"/>
                  </a:gs>
                  <a:gs pos="50000">
                    <a:srgbClr val="008000"/>
                  </a:gs>
                  <a:gs pos="100000">
                    <a:srgbClr val="996600"/>
                  </a:gs>
                </a:gsLst>
                <a:lin ang="8100000"/>
              </a:gradFill>
              <a:latin typeface="Georgia"/>
              <a:ea typeface="Georg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1280" y="4005360"/>
            <a:ext cx="74898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6600"/>
                    </a:gs>
                    <a:gs pos="50000">
                      <a:srgbClr val="008000"/>
                    </a:gs>
                    <a:gs pos="100000">
                      <a:srgbClr val="996600"/>
                    </a:gs>
                  </a:gsLst>
                  <a:lin ang="8100000"/>
                </a:gradFill>
                <a:latin typeface="Georgia"/>
              </a:rPr>
              <a:t>Назовите братьев - Чук и 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6600"/>
                  </a:gs>
                  <a:gs pos="50000">
                    <a:srgbClr val="008000"/>
                  </a:gs>
                  <a:gs pos="100000">
                    <a:srgbClr val="996600"/>
                  </a:gs>
                </a:gsLst>
                <a:lin ang="8100000"/>
              </a:gradFill>
              <a:latin typeface="Georgia"/>
              <a:ea typeface="Georg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4360" y="5084640"/>
            <a:ext cx="763272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6600"/>
                    </a:gs>
                    <a:gs pos="50000">
                      <a:srgbClr val="008000"/>
                    </a:gs>
                    <a:gs pos="100000">
                      <a:srgbClr val="996600"/>
                    </a:gs>
                  </a:gsLst>
                  <a:lin ang="8100000"/>
                </a:gradFill>
                <a:latin typeface="Georgia"/>
              </a:rPr>
              <a:t>Снежная баба в детстве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6600"/>
                  </a:gs>
                  <a:gs pos="50000">
                    <a:srgbClr val="008000"/>
                  </a:gs>
                  <a:gs pos="100000">
                    <a:srgbClr val="996600"/>
                  </a:gs>
                </a:gsLst>
                <a:lin ang="81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5" descr="24045.jpg"/>
          <p:cNvPicPr/>
          <p:nvPr/>
        </p:nvPicPr>
        <p:blipFill>
          <a:blip r:embed="rId1"/>
          <a:stretch/>
        </p:blipFill>
        <p:spPr>
          <a:xfrm>
            <a:off x="2771640" y="0"/>
            <a:ext cx="3810240" cy="3943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187280" y="1844640"/>
            <a:ext cx="6913800" cy="479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Garamond"/>
              </a:rPr>
              <a:t>3 тур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68360" y="2205000"/>
          <a:ext cx="8218440" cy="1973160"/>
        </p:xfrm>
        <a:graphic>
          <a:graphicData uri="http://schemas.openxmlformats.org/drawingml/2006/table">
            <a:tbl>
              <a:tblPr/>
              <a:tblGrid>
                <a:gridCol w="4248000"/>
                <a:gridCol w="797040"/>
                <a:gridCol w="790560"/>
                <a:gridCol w="790560"/>
                <a:gridCol w="792360"/>
                <a:gridCol w="79992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Bookman Old Style"/>
                        </a:rPr>
                        <a:t>Волшебное сре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cc"/>
                          </a:solidFill>
                          <a:latin typeface="Bookman Old Style"/>
                        </a:rPr>
                        <a:t>Пута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8000"/>
                          </a:solidFill>
                          <a:uFillTx/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c0504d"/>
                          </a:solidFill>
                          <a:uFillTx/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993300"/>
                          </a:solidFill>
                          <a:uFillTx/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6600ff"/>
                          </a:solidFill>
                          <a:uFillTx/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800000"/>
                          </a:solidFill>
                          <a:uFillTx/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Bookman Old Style"/>
                        </a:rPr>
                        <a:t>Как меня зову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8000"/>
                          </a:solidFill>
                          <a:uFillTx/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c0504d"/>
                          </a:solidFill>
                          <a:uFillTx/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993300"/>
                          </a:solidFill>
                          <a:uFillTx/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6600ff"/>
                          </a:solidFill>
                          <a:uFillTx/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800000"/>
                          </a:solidFill>
                          <a:uFillTx/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667640" y="5734080"/>
            <a:ext cx="1225440" cy="934920"/>
          </a:xfrm>
          <a:custGeom>
            <a:avLst/>
            <a:gdLst>
              <a:gd name="textAreaLeft" fmla="*/ 60480 w 1225440"/>
              <a:gd name="textAreaRight" fmla="*/ 1164960 w 12254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8309" h="21600">
                <a:moveTo>
                  <a:pt x="0" y="0"/>
                </a:moveTo>
                <a:lnTo>
                  <a:pt x="28309" y="0"/>
                </a:lnTo>
                <a:lnTo>
                  <a:pt x="28309" y="21600"/>
                </a:lnTo>
                <a:lnTo>
                  <a:pt x="0" y="21600"/>
                </a:lnTo>
                <a:close/>
              </a:path>
              <a:path fill="lightenLess" w="28309" h="21600">
                <a:moveTo>
                  <a:pt x="0" y="0"/>
                </a:moveTo>
                <a:lnTo>
                  <a:pt x="28309" y="0"/>
                </a:lnTo>
                <a:lnTo>
                  <a:pt x="26909" y="1400"/>
                </a:lnTo>
                <a:lnTo>
                  <a:pt x="1400" y="1400"/>
                </a:lnTo>
                <a:close/>
              </a:path>
              <a:path fill="darken" w="28309" h="21600">
                <a:moveTo>
                  <a:pt x="28309" y="0"/>
                </a:moveTo>
                <a:lnTo>
                  <a:pt x="28309" y="21600"/>
                </a:lnTo>
                <a:lnTo>
                  <a:pt x="26909" y="20200"/>
                </a:lnTo>
                <a:lnTo>
                  <a:pt x="26909" y="1400"/>
                </a:lnTo>
                <a:close/>
              </a:path>
              <a:path fill="darkenLess" w="28309" h="21600">
                <a:moveTo>
                  <a:pt x="28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09" y="20200"/>
                </a:lnTo>
                <a:close/>
              </a:path>
              <a:path fill="lighten" w="28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09" h="21600">
                <a:moveTo>
                  <a:pt x="7148" y="3794"/>
                </a:moveTo>
                <a:lnTo>
                  <a:pt x="21161" y="10800"/>
                </a:lnTo>
                <a:lnTo>
                  <a:pt x="714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403280" y="981000"/>
            <a:ext cx="4681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ое волшеб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ство бы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 Золушк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19280" y="4941720"/>
            <a:ext cx="4991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хрустальная туфельк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403280" y="981000"/>
            <a:ext cx="4681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ое волшеб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ство бы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 Буратино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19280" y="4797360"/>
            <a:ext cx="4991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золотой ключик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5" descr="24045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94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419640" y="1844640"/>
            <a:ext cx="50400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1 тур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4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25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403280" y="981000"/>
            <a:ext cx="4681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ое волшеб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ство было 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вочки Жени и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азки Катаев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19280" y="4797360"/>
            <a:ext cx="4991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цветик-семицветик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403280" y="981000"/>
            <a:ext cx="4681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ое волшеб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ство бы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 Оле-Лукой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19280" y="4797360"/>
            <a:ext cx="4991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зонтик со снам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403280" y="981000"/>
            <a:ext cx="4681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ое волшеб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ство бы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 солдата и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азки Андерсен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19280" y="4797360"/>
            <a:ext cx="4991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огнив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403280" y="981000"/>
            <a:ext cx="4681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а Маша громк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чет, уронила 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чку мячик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19280" y="4797360"/>
            <a:ext cx="4991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не Маша, а Тан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8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403280" y="981000"/>
            <a:ext cx="46814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дет медвед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чается, вздыхае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ходу: "Ой досточ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чается, сейчас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упаду"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19280" y="4797360"/>
            <a:ext cx="4991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не медведь, а бычок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403280" y="981000"/>
            <a:ext cx="46814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йку броси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нтяйка. Под дожде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ался зайка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скамейки слез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мог. Весь д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очки промок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19280" y="4797360"/>
            <a:ext cx="4991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не лентяйка, а хозяйк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403280" y="981000"/>
            <a:ext cx="4681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л старик с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ею женою, 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го синего мор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19280" y="4797360"/>
            <a:ext cx="4991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не жена, а старух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403280" y="981000"/>
            <a:ext cx="4681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утовка к дерев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цыпочках подходит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тит хвостом, с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ягушки глаз не сводит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9280" y="4797360"/>
            <a:ext cx="4991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не лягушка, а воро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34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403280" y="981000"/>
            <a:ext cx="4681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явилась в чашечк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ветка, а была чу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больше ноготк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19280" y="4653000"/>
            <a:ext cx="49910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Дюймовочк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38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403280" y="981000"/>
            <a:ext cx="4681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большой дру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бурашк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19280" y="4797360"/>
            <a:ext cx="4991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Крокодил Ге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195640" y="692280"/>
            <a:ext cx="6238800" cy="20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бушка девочку очень любила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почку красную ей подарила.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вочка имя забыла своё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ну, подскажите, как звали её?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2104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403280" y="981000"/>
            <a:ext cx="46814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в 4 года чита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учился, в 6 - са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бе кашу варил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ехал в деревню жить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говорящим котом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19280" y="4797360"/>
            <a:ext cx="4991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Дядя Фёдо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46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403280" y="981000"/>
            <a:ext cx="46814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кла с голубым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осами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ниц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ратино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619280" y="4797360"/>
            <a:ext cx="4991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Мальви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50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042920" y="981000"/>
            <a:ext cx="5616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жилой, добрый человек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которым встречаем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чень редко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19280" y="4797360"/>
            <a:ext cx="4991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Дед Мороз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54" name="">
            <a:hlinkClick r:id="rId4" action="ppaction://hlinksldjump"/>
          </p:cNvPr>
          <p:cNvSpPr/>
          <p:nvPr/>
        </p:nvSpPr>
        <p:spPr>
          <a:xfrm>
            <a:off x="7885080" y="580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" descr="________________4.jpg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050920" y="2852640"/>
            <a:ext cx="1008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О</a:t>
            </a:r>
            <a:endParaRPr b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42920" y="2205000"/>
            <a:ext cx="100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</a:t>
            </a:r>
            <a:endParaRPr b="1" lang="en-US" sz="6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916360" y="1773360"/>
            <a:ext cx="100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Л</a:t>
            </a:r>
            <a:endParaRPr b="1" lang="en-US" sz="6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708360" y="2637000"/>
            <a:ext cx="100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О</a:t>
            </a:r>
            <a:endParaRPr b="1" lang="en-US" sz="6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3280" y="1844640"/>
            <a:ext cx="1008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</a:t>
            </a:r>
            <a:endParaRPr b="1" lang="en-US" sz="66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508720" y="2781360"/>
            <a:ext cx="1079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Ц</a:t>
            </a:r>
            <a:endParaRPr b="1" lang="en-US" sz="66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588000" y="2349360"/>
            <a:ext cx="107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Ы</a:t>
            </a:r>
            <a:endParaRPr b="1" lang="en-US" sz="66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6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remove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55" dur="50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animClr clrSpc="rgb">
                                      <p:cBhvr>
                                        <p:cTn id="356" dur="50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357" dur="50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60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361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62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65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66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67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70" dur="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66"/>
                                      </p:to>
                                    </p:animClr>
                                    <p:animClr clrSpc="rgb">
                                      <p:cBhvr>
                                        <p:cTn id="371" dur="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66"/>
                                      </p:to>
                                    </p:animClr>
                                    <p:set>
                                      <p:cBhvr>
                                        <p:cTn id="372" dur="50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75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376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7" dur="50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80" dur="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381" dur="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382" dur="50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85" dur="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cc"/>
                                      </p:to>
                                    </p:animClr>
                                    <p:animClr clrSpc="rgb">
                                      <p:cBhvr>
                                        <p:cTn id="386" dur="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cc"/>
                                      </p:to>
                                    </p:animClr>
                                    <p:set>
                                      <p:cBhvr>
                                        <p:cTn id="387" dur="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01.0)">
                                      <p:cBhvr>
                                        <p:cTn id="390" dur="97172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195640" y="692280"/>
            <a:ext cx="6238800" cy="20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чит маленьких детей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чит маленьких зверей.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возь очки на всех глядит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брый доктор ...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28875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195640" y="692280"/>
            <a:ext cx="62388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зле леса на опушке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ое их живет в избушке.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м три стула, три подушки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 кровати и три кружки.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адайте без подсказки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то герои этой сказки?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280" y="3403440"/>
            <a:ext cx="4465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95640" y="692280"/>
            <a:ext cx="62388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сметане мешан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окошке стужен.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углый бок, румяный бок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катился ...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1280" y="3487680"/>
            <a:ext cx="36003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195640" y="692280"/>
            <a:ext cx="62388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букварем шагает в школу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ревянный мальчуган.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падает вместо школы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полотнянный балаган.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зовётся эта книжка?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зовётся тот мальчишка?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1280" y="3284640"/>
            <a:ext cx="24238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276720" y="549360"/>
            <a:ext cx="4324320" cy="46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то-то за кого-то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хватился крепко: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Ой, никак не вытянуть!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Ой, засела крепко.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 еще помощники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оро прибегут ...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бедит упрямицу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ужный, общий труд.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то засел так крепко?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жет, это...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353376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348000" y="549360"/>
            <a:ext cx="4969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орей бы близился вечер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час долгожданный настал,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 мне в золоченой карете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ехать на сказочный бал.</a:t>
            </a:r>
            <a:endParaRPr b="0" lang="en-US" sz="32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11280" y="3422520"/>
            <a:ext cx="38163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2:34:12Z</dcterms:created>
  <dc:creator>Valued Acer Customer</dc:creator>
  <dc:description/>
  <dc:language>en-US</dc:language>
  <cp:lastModifiedBy>Я</cp:lastModifiedBy>
  <dcterms:modified xsi:type="dcterms:W3CDTF">2014-02-20T03:09:01Z</dcterms:modified>
  <cp:revision>5</cp:revision>
  <dc:subject/>
  <dc:title>Слайд 1</dc:title>
</cp:coreProperties>
</file>