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3984-61F2-43D6-BF48-5DB1BC62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96D0-3461-4208-959A-B29A2565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FA5-068A-43D5-A506-1E90F13D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D4F3-890F-4368-BEA0-8618AB7D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DC9-2A6A-4A2B-8DBE-5E8C8524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0191-CDB9-4701-B0C6-34964416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838A-7521-4F6C-AA8D-519111F3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A4C7-39D6-4E61-BDBD-296526C4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2D9-9900-4E81-A85F-C93C1916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A7F1-9ED6-4DEE-AC4C-191FFE29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379-C02B-4EA6-A7F2-E40BFE11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79E7-4F66-4BC9-AD6B-F74F5858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0FBE-BB52-40E6-ACD3-E87A67D375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е «Весна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1986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уточнить характерные признаки весны, знания о свойствах снега и льд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тренировать логическое мышление, мыслительные операции анализ и сравнение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азвивать воображение, творческие способности; вариативность мышления, слуховое внимание, реч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Тема недели: ЗИМА (30.11-04.12). Новости 3 &quot;Старшая группа&quot;. ГУО ..."/>
          <p:cNvPicPr/>
          <p:nvPr/>
        </p:nvPicPr>
        <p:blipFill>
          <a:blip r:embed="rId1"/>
          <a:stretch/>
        </p:blipFill>
        <p:spPr>
          <a:xfrm>
            <a:off x="198360" y="1116000"/>
            <a:ext cx="4816440" cy="47512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5257800" y="2476440"/>
            <a:ext cx="6095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те детям, что Таня вместе с Ваней во дворе дома слепили снегови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какое время года это случилось? (Зимой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чему вы думаете, что снеговик был сделан зимой? Дайте детям высказаться, после чего уточните: снеговика слепили зимой, потому что снеговик делается из снега, а снег бывает только зим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Презентация внеклассного мероприятия &quot;Прощание с зимой&quot;"/>
          <p:cNvPicPr/>
          <p:nvPr/>
        </p:nvPicPr>
        <p:blipFill>
          <a:blip r:embed="rId1"/>
          <a:srcRect l="0" t="0" r="-198" b="10899"/>
          <a:stretch/>
        </p:blipFill>
        <p:spPr>
          <a:xfrm>
            <a:off x="6999120" y="3960720"/>
            <a:ext cx="3821400" cy="25495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4876920" y="596880"/>
            <a:ext cx="6095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– то утром мама надела на Таню не шубу, а куртку, не валенки, а сапожки и повела дочку в сади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чером Таня подошла к снегови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вы думаете, что увидела Таня? Если дети не догадаются, что снеговик начал таять, воспитатель задает детям вопро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почему мама одела Таню не так, как одевала ее зимой? (Потому что стало теплее)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стало со снеговиком во дворе? (Он начал таять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сной становится теплее, поэтому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нег и лед весной начинают таять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92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Детские картинки: весна пришла | Иллюстрации, Ретро картинки ..."/>
          <p:cNvPicPr/>
          <p:nvPr/>
        </p:nvPicPr>
        <p:blipFill>
          <a:blip r:embed="rId2"/>
          <a:stretch/>
        </p:blipFill>
        <p:spPr>
          <a:xfrm>
            <a:off x="182520" y="596880"/>
            <a:ext cx="396864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765000" y="1214280"/>
            <a:ext cx="11199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Зима. Весн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ледующем слайде  - два альбома, «Зима» и «Весна», и набор картин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е детям рассмотреть картинки. Что изображено на картинках? (Зима и весн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сите детей убрать в альбом «Зима» зимние картинки. (Выделить картинку и, удерживая левую кнопку мыши, перетянуть картинку в нужный альбом). Не пугайтесь, в альбоме картинок не будет видно. Так над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 рассмотрите оставшиеся картин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ите: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с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лнце греет сильнее, становится тепло, люди одеваются в более легкую одежду, тает снег и лед, поэтому на улицах появляются лужи и ручь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ите весенние картинки в альб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Открытие сезона &quot;Зимние забавы&quot; в Кемерово - расписание"/>
          <p:cNvPicPr/>
          <p:nvPr/>
        </p:nvPicPr>
        <p:blipFill>
          <a:blip r:embed="rId1"/>
          <a:stretch/>
        </p:blipFill>
        <p:spPr>
          <a:xfrm>
            <a:off x="3948120" y="2671920"/>
            <a:ext cx="2459160" cy="147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Зимние забавы. Художница Любовь Новосёлова. | Рождественское ..."/>
          <p:cNvPicPr/>
          <p:nvPr/>
        </p:nvPicPr>
        <p:blipFill>
          <a:blip r:embed="rId2"/>
          <a:stretch/>
        </p:blipFill>
        <p:spPr>
          <a:xfrm>
            <a:off x="4152960" y="290520"/>
            <a:ext cx="1490760" cy="2165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Новогодние песенки и стишки"/>
          <p:cNvPicPr/>
          <p:nvPr/>
        </p:nvPicPr>
        <p:blipFill>
          <a:blip r:embed="rId3"/>
          <a:stretch/>
        </p:blipFill>
        <p:spPr>
          <a:xfrm>
            <a:off x="6559560" y="2671920"/>
            <a:ext cx="1671480" cy="21650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262080" y="1822320"/>
            <a:ext cx="3598560" cy="4930920"/>
          </a:xfrm>
          <a:prstGeom prst="rect">
            <a:avLst/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262080" y="177840"/>
            <a:ext cx="3598560" cy="1584360"/>
          </a:xfrm>
          <a:prstGeom prst="rect">
            <a:avLst/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8424720" y="1832040"/>
            <a:ext cx="3600720" cy="4930560"/>
          </a:xfrm>
          <a:prstGeom prst="rect">
            <a:avLst/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8404200" y="182520"/>
            <a:ext cx="3598920" cy="1582920"/>
          </a:xfrm>
          <a:prstGeom prst="rect">
            <a:avLst/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Конспект интегрированного занятия в старшей группе «В поисках Весны»"/>
          <p:cNvPicPr/>
          <p:nvPr/>
        </p:nvPicPr>
        <p:blipFill>
          <a:blip r:embed="rId4"/>
          <a:stretch/>
        </p:blipFill>
        <p:spPr>
          <a:xfrm>
            <a:off x="4152960" y="4481640"/>
            <a:ext cx="1503360" cy="2125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весна картинки для детей&quot; — card of the user muzalevsckaya.a in ..."/>
          <p:cNvPicPr/>
          <p:nvPr/>
        </p:nvPicPr>
        <p:blipFill>
          <a:blip r:embed="rId5"/>
          <a:stretch/>
        </p:blipFill>
        <p:spPr>
          <a:xfrm>
            <a:off x="5979960" y="5187960"/>
            <a:ext cx="2109960" cy="1520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Персональный сайт учителя-логопеда Бедаш Людмилы Васильевны ..."/>
          <p:cNvPicPr/>
          <p:nvPr/>
        </p:nvPicPr>
        <p:blipFill>
          <a:blip r:embed="rId6"/>
          <a:stretch/>
        </p:blipFill>
        <p:spPr>
          <a:xfrm>
            <a:off x="6537240" y="298440"/>
            <a:ext cx="1548000" cy="2149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Зимние красоты | Пикабу"/>
          <p:cNvPicPr/>
          <p:nvPr/>
        </p:nvPicPr>
        <p:blipFill>
          <a:blip r:embed="rId7"/>
          <a:stretch/>
        </p:blipFill>
        <p:spPr>
          <a:xfrm>
            <a:off x="1166760" y="307800"/>
            <a:ext cx="1776600" cy="13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Ранняя весна в парке Ораниенбаум и ораниенбаумские мостики ..."/>
          <p:cNvPicPr/>
          <p:nvPr/>
        </p:nvPicPr>
        <p:blipFill>
          <a:blip r:embed="rId8"/>
          <a:stretch/>
        </p:blipFill>
        <p:spPr>
          <a:xfrm>
            <a:off x="9315360" y="307800"/>
            <a:ext cx="1776600" cy="1332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3668760" y="3189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1"/>
          <p:cNvSpPr/>
          <p:nvPr/>
        </p:nvSpPr>
        <p:spPr>
          <a:xfrm>
            <a:off x="298440" y="750600"/>
            <a:ext cx="1132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гра «Сделаем лодочку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е детям сделать по образцу лодочку из счетных палоче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oup 1"/>
          <p:cNvGrpSpPr/>
          <p:nvPr/>
        </p:nvGrpSpPr>
        <p:grpSpPr>
          <a:xfrm>
            <a:off x="3576600" y="2502000"/>
            <a:ext cx="4119480" cy="3224160"/>
            <a:chOff x="3576600" y="2502000"/>
            <a:chExt cx="4119480" cy="3224160"/>
          </a:xfrm>
        </p:grpSpPr>
        <p:sp>
          <p:nvSpPr>
            <p:cNvPr id="64" name="Rectangle 10"/>
            <p:cNvSpPr/>
            <p:nvPr/>
          </p:nvSpPr>
          <p:spPr>
            <a:xfrm>
              <a:off x="3576600" y="2502000"/>
              <a:ext cx="4119480" cy="32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9"/>
            <p:cNvSpPr/>
            <p:nvPr/>
          </p:nvSpPr>
          <p:spPr>
            <a:xfrm>
              <a:off x="4227120" y="4306680"/>
              <a:ext cx="130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8"/>
            <p:cNvSpPr/>
            <p:nvPr/>
          </p:nvSpPr>
          <p:spPr>
            <a:xfrm>
              <a:off x="5628960" y="4298760"/>
              <a:ext cx="130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7"/>
            <p:cNvSpPr/>
            <p:nvPr/>
          </p:nvSpPr>
          <p:spPr>
            <a:xfrm>
              <a:off x="4333320" y="4416120"/>
              <a:ext cx="587880" cy="78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6"/>
            <p:cNvSpPr/>
            <p:nvPr/>
          </p:nvSpPr>
          <p:spPr>
            <a:xfrm>
              <a:off x="4928040" y="5266800"/>
              <a:ext cx="130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5"/>
            <p:cNvSpPr/>
            <p:nvPr/>
          </p:nvSpPr>
          <p:spPr>
            <a:xfrm flipV="1">
              <a:off x="6228720" y="4358880"/>
              <a:ext cx="648000" cy="84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4"/>
            <p:cNvSpPr/>
            <p:nvPr/>
          </p:nvSpPr>
          <p:spPr>
            <a:xfrm>
              <a:off x="5574600" y="3163680"/>
              <a:ext cx="0" cy="11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3"/>
            <p:cNvSpPr/>
            <p:nvPr/>
          </p:nvSpPr>
          <p:spPr>
            <a:xfrm>
              <a:off x="5617440" y="3114360"/>
              <a:ext cx="1260000" cy="116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2"/>
            <p:cNvSpPr/>
            <p:nvPr/>
          </p:nvSpPr>
          <p:spPr>
            <a:xfrm flipH="1">
              <a:off x="4270680" y="3109680"/>
              <a:ext cx="1303200" cy="116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Rectangle 12"/>
          <p:cNvSpPr/>
          <p:nvPr/>
        </p:nvSpPr>
        <p:spPr>
          <a:xfrm>
            <a:off x="550080" y="532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5T14:01:35Z</dcterms:created>
  <dc:creator>Packard Bell</dc:creator>
  <dc:description/>
  <dc:language>en-US</dc:language>
  <cp:lastModifiedBy>Packard Bell</cp:lastModifiedBy>
  <dcterms:modified xsi:type="dcterms:W3CDTF">2020-04-05T15:45:25Z</dcterms:modified>
  <cp:revision>11</cp:revision>
  <dc:subject/>
  <dc:title>Занятие «Магазины»</dc:title>
</cp:coreProperties>
</file>