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43.wmf" ContentType="image/x-wmf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BB81-753C-41E0-9ED2-F57F0E04E2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A421-E1D6-4A6D-848F-992BD542F5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97F0-03AE-4882-95FE-A76B5593FC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C7E5-DF34-4A3C-B67F-598190403F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F5E3-87CF-41E3-B5F2-56EE1435D4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320A-0177-49C0-99BA-D77750AA65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E610-7F52-4A38-88C1-7F04D566A8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2DC2-9B91-49E6-B7FF-EA916C6B5C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5861-9119-459F-BE0D-37E89BD904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663B-F03D-49BF-AFA6-0524BCC30A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D534-D099-4B24-A8EF-9C526356DF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FC50-6AA8-4BE4-9C50-1E9B2EBAE1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21CC-6829-4DA0-996E-346D46D51B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3804-70A6-476E-B5C0-A897B5084B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DBF5-D1CA-4FE5-9F37-305BB45E5A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89B-4A94-4A23-B668-06D21869BC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BF8A-A4E4-4FE0-8BF7-54B34B7A74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E8BB-0E08-4C02-83B4-03F8D685F1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21D3-7D96-4934-ACB2-5A11F52D72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30CA-E8BD-41BD-A80D-47F683EEFB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1A8B-2747-4EA2-9D10-1DD82BFF44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DC0F-8D0E-4A04-BCFB-12A6226CD6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EE07-870D-4549-BD93-33F062B5BB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A4BB-1D92-4AA3-802F-2E64FA890E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8510-53E1-4AA3-885B-A7647B83F8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0298-7909-4B7E-ADA9-CB8555526E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7E9-9794-496D-8114-70C6832E38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89E1-906E-4EA4-8510-6C1148E5A3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C66F-47FA-4632-A854-238F0885FF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485D-1E23-43EF-A0A1-D46A08F532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BD04-7540-43B5-A186-EDE6194F71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7FA4-CE80-4A60-ACDA-71C74A5DF1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F038-DF48-443B-BF6F-FD6ACFD056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09B3-29AE-4274-BFD7-8A9186AE4D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3B8-FD5A-4E3A-A3BD-7A2FC2A5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255-9BE9-4EE5-9200-FA35E3E7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ACA-810C-4594-B559-EA0D7E05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763-7A61-425E-B84B-60005464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6CA1-013C-4515-85D5-A57E7145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FF7C-6510-4B17-91FD-8E20523A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8018-5263-4ADB-977B-E3E03215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F8A9-B451-4F0D-AD78-7EBB9374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A6D7-0F38-4022-906D-C0F53A8A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0301-F7F8-436F-B6A6-54CD7178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B156-7ED7-4521-978B-0C221EC4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B8D-7CA1-4F34-9C7D-84EB361D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4A2E-4C62-4043-BC02-249208D0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B81E-6F02-4A76-938C-042951A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179E-3E13-418E-BE5B-CDCA2480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92A0-3584-40E4-B0D7-D33A6276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4415-2E99-4446-8207-92511741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904-A2BF-43C2-86EF-EA53FDE0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C91-A6BA-40FC-80ED-FC2C0EFD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742-C98A-42B3-B6B4-CB776C69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AA5-ADCC-4C53-B08D-E4E98A0B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B9A-99BD-48A2-9218-0AE703C7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CD1-6409-4C97-9BBA-ABDE83CF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1E6-A2A3-4E4B-BC51-384B06B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3FC1-7EA9-4B1E-94DF-A2C4E7ACA9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1727-2667-4FA1-A3AB-60B3EB5E95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asnayapolyana.ru/photogallery/manor/manor_new/2.htm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yasnayapolyana.ru/photogallery/manor/manor_new/4.htm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img(1)"/>
          <p:cNvPicPr/>
          <p:nvPr/>
        </p:nvPicPr>
        <p:blipFill>
          <a:blip r:embed="rId1"/>
          <a:stretch/>
        </p:blipFill>
        <p:spPr>
          <a:xfrm>
            <a:off x="1547640" y="2205000"/>
            <a:ext cx="6264360" cy="4464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Times New Roman"/>
              </a:rPr>
              <a:t>Заочная экскурсия по Ясной Поляне</a:t>
            </a:r>
            <a:endParaRPr b="1" lang="en-US" sz="6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Знакомство с биографи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Л. Н. Толстог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Track 16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залы переходим в гостиную, где жила Т.А.Ергольская, вырастившая Л.Толстого, его братьев и сестру, оставшихся малолетними сиротами. После смерти Ергольской здесь была комната Софьи Андреевны, которая одновременно служила и столовой. Большой деревянный стол, на котором стоит старинный самовар, занимает центральное место в комнате. На стене мы видим портреты членов семьи Толстого. А около окна располагался «Уголок серьезных разговоров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nextslide"/>
          </p:cNvPr>
          <p:cNvSpPr/>
          <p:nvPr/>
        </p:nvSpPr>
        <p:spPr>
          <a:xfrm>
            <a:off x="7524720" y="537372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" w="21600" h="27007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17416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м часто посещали гости, которые останавливались в комнате для приезжих.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4" name="Picture 6" descr="gosty2"/>
          <p:cNvPicPr/>
          <p:nvPr/>
        </p:nvPicPr>
        <p:blipFill>
          <a:blip r:embed="rId1"/>
          <a:stretch/>
        </p:blipFill>
        <p:spPr>
          <a:xfrm>
            <a:off x="971640" y="1844640"/>
            <a:ext cx="7489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вайте пройдем в спальни Л. Толстого и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. Толстой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6" name="Picture 7" descr="spalnya2"/>
          <p:cNvPicPr/>
          <p:nvPr/>
        </p:nvPicPr>
        <p:blipFill>
          <a:blip r:embed="rId1"/>
          <a:stretch/>
        </p:blipFill>
        <p:spPr>
          <a:xfrm>
            <a:off x="250920" y="1628640"/>
            <a:ext cx="4284720" cy="482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komnata%20zheny2"/>
          <p:cNvPicPr/>
          <p:nvPr/>
        </p:nvPicPr>
        <p:blipFill>
          <a:blip r:embed="rId2"/>
          <a:stretch/>
        </p:blipFill>
        <p:spPr>
          <a:xfrm>
            <a:off x="4643280" y="1628640"/>
            <a:ext cx="4321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аница шестая…</a:t>
            </a:r>
            <a:br>
              <a:rPr sz="2800"/>
            </a:b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Л.Н. Толстой-писатель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ное место в доме писателя - его кабин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kabinet2"/>
          <p:cNvPicPr/>
          <p:nvPr/>
        </p:nvPicPr>
        <p:blipFill>
          <a:blip r:embed="rId1"/>
          <a:stretch/>
        </p:blipFill>
        <p:spPr>
          <a:xfrm>
            <a:off x="1619280" y="2308320"/>
            <a:ext cx="619272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Толстой-писат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оседству с гостиной – кабинет писателя, занимающий центральное место в музее. В эту его своеобразную крепость во время работы никто не входил. Софья Андреевна строго охраняла покой мужа и с 10 утра до 2-3 часов дня никого к нему не допускала. Вся обстановка кабинета, как и многочисленные «мелочи», сохранилась полностью. Кажется, будто Толстой только-только покинул эту комнату. Здесь Толстой работал над произведениями: «Юность», «Семейное счастье», «Воспоминания», «Сон» и многими другими. В этой комнате он провел наибольшую часть своей жизни. Здесь появились на свет шедевры нашей класс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5">
            <a:hlinkClick r:id="" action="ppaction://hlinkshowjump?jump=nextslide"/>
          </p:cNvPr>
          <p:cNvSpPr/>
          <p:nvPr/>
        </p:nvSpPr>
        <p:spPr>
          <a:xfrm>
            <a:off x="8101080" y="5589720"/>
            <a:ext cx="609480" cy="9349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34920"/>
              <a:gd name="textAreaBottom" fmla="*/ 895680 h 934920"/>
            </a:gdLst>
            <a:ahLst/>
            <a:rect l="textAreaLeft" t="textAreaTop" r="textAreaRight" b="textAreaBottom"/>
            <a:pathLst>
              <a:path w="21600" h="33127">
                <a:moveTo>
                  <a:pt x="0" y="0"/>
                </a:moveTo>
                <a:lnTo>
                  <a:pt x="21600" y="0"/>
                </a:lnTo>
                <a:lnTo>
                  <a:pt x="21600" y="33127"/>
                </a:lnTo>
                <a:lnTo>
                  <a:pt x="0" y="33127"/>
                </a:lnTo>
                <a:close/>
              </a:path>
              <a:path fill="lightenLess" w="21600" h="331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127">
                <a:moveTo>
                  <a:pt x="21600" y="0"/>
                </a:moveTo>
                <a:lnTo>
                  <a:pt x="21600" y="33127"/>
                </a:lnTo>
                <a:lnTo>
                  <a:pt x="20200" y="31727"/>
                </a:lnTo>
                <a:lnTo>
                  <a:pt x="20200" y="1400"/>
                </a:lnTo>
                <a:close/>
              </a:path>
              <a:path fill="darkenLess" w="21600" h="33127">
                <a:moveTo>
                  <a:pt x="21600" y="33127"/>
                </a:moveTo>
                <a:lnTo>
                  <a:pt x="0" y="33127"/>
                </a:lnTo>
                <a:lnTo>
                  <a:pt x="1400" y="31727"/>
                </a:lnTo>
                <a:lnTo>
                  <a:pt x="20200" y="31727"/>
                </a:lnTo>
                <a:close/>
              </a:path>
              <a:path fill="lighten" w="21600" h="33127">
                <a:moveTo>
                  <a:pt x="0" y="3312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727"/>
                </a:lnTo>
                <a:close/>
              </a:path>
              <a:path fill="darken" w="21600" h="33127">
                <a:moveTo>
                  <a:pt x="3794" y="9557"/>
                </a:moveTo>
                <a:lnTo>
                  <a:pt x="17806" y="16563"/>
                </a:lnTo>
                <a:lnTo>
                  <a:pt x="3794" y="2357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18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Комната под сводами» -  была рабочим кабинетом Толстого около 20 лет. Именно здесь созрел план и написано начало романа «Война и Мир», написано «Воскресенье», «Крейцерова соната».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74" name="Picture 6" descr="svody2"/>
          <p:cNvPicPr/>
          <p:nvPr/>
        </p:nvPicPr>
        <p:blipFill>
          <a:blip r:embed="rId1"/>
          <a:stretch/>
        </p:blipFill>
        <p:spPr>
          <a:xfrm>
            <a:off x="1692360" y="2421000"/>
            <a:ext cx="54705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628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бодное время Л. Толстой любил проводить на природе. Он был хорошим хозяином, сажал яблоневые сады, рощи, пахал землю.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76" name="Picture 6" descr="P9240005s"/>
          <p:cNvPicPr/>
          <p:nvPr/>
        </p:nvPicPr>
        <p:blipFill>
          <a:blip r:embed="rId1"/>
          <a:stretch/>
        </p:blipFill>
        <p:spPr>
          <a:xfrm>
            <a:off x="468360" y="3284640"/>
            <a:ext cx="2176560" cy="2719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5120003s"/>
          <p:cNvPicPr/>
          <p:nvPr/>
        </p:nvPicPr>
        <p:blipFill>
          <a:blip r:embed="rId2"/>
          <a:stretch/>
        </p:blipFill>
        <p:spPr>
          <a:xfrm>
            <a:off x="6443640" y="3357720"/>
            <a:ext cx="2176560" cy="272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PA140010s"/>
          <p:cNvPicPr/>
          <p:nvPr/>
        </p:nvPicPr>
        <p:blipFill>
          <a:blip r:embed="rId3"/>
          <a:stretch/>
        </p:blipFill>
        <p:spPr>
          <a:xfrm>
            <a:off x="3492360" y="2708280"/>
            <a:ext cx="21542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траница седьмая…</a:t>
            </a:r>
            <a:br>
              <a:rPr sz="4000"/>
            </a:b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Л. Толстой и Природа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Абрамовская посад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abr"/>
          <p:cNvPicPr/>
          <p:nvPr/>
        </p:nvPicPr>
        <p:blipFill>
          <a:blip r:embed="rId1"/>
          <a:stretch/>
        </p:blipFill>
        <p:spPr>
          <a:xfrm>
            <a:off x="1476360" y="2349360"/>
            <a:ext cx="603108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 1873-1881 г.г. Толстой посадил березовую рощу и назвал ее «Абрамовской», по имени садовника Абрамыча, помогавшего ему в этой посадк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.Толстой очень любил березовый лес. В Ясной Поляне из 180 га земли, занятой лесами, 128 га занимают березы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4">
            <a:hlinkClick r:id="" action="ppaction://hlinkshowjump?jump=nextslide"/>
          </p:cNvPr>
          <p:cNvSpPr/>
          <p:nvPr/>
        </p:nvSpPr>
        <p:spPr>
          <a:xfrm>
            <a:off x="7020000" y="5877000"/>
            <a:ext cx="900000" cy="753840"/>
          </a:xfrm>
          <a:custGeom>
            <a:avLst/>
            <a:gdLst>
              <a:gd name="textAreaLeft" fmla="*/ 48600 w 900000"/>
              <a:gd name="textAreaRight" fmla="*/ 851400 w 90000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5786" h="21600">
                <a:moveTo>
                  <a:pt x="0" y="0"/>
                </a:moveTo>
                <a:lnTo>
                  <a:pt x="25786" y="0"/>
                </a:lnTo>
                <a:lnTo>
                  <a:pt x="25786" y="21600"/>
                </a:lnTo>
                <a:lnTo>
                  <a:pt x="0" y="21600"/>
                </a:lnTo>
                <a:close/>
              </a:path>
              <a:path fill="lightenLess" w="25786" h="21600">
                <a:moveTo>
                  <a:pt x="0" y="0"/>
                </a:moveTo>
                <a:lnTo>
                  <a:pt x="25786" y="0"/>
                </a:lnTo>
                <a:lnTo>
                  <a:pt x="24386" y="1400"/>
                </a:lnTo>
                <a:lnTo>
                  <a:pt x="1400" y="1400"/>
                </a:lnTo>
                <a:close/>
              </a:path>
              <a:path fill="darken" w="25786" h="21600">
                <a:moveTo>
                  <a:pt x="25786" y="0"/>
                </a:moveTo>
                <a:lnTo>
                  <a:pt x="25786" y="21600"/>
                </a:lnTo>
                <a:lnTo>
                  <a:pt x="24386" y="20200"/>
                </a:lnTo>
                <a:lnTo>
                  <a:pt x="24386" y="1400"/>
                </a:lnTo>
                <a:close/>
              </a:path>
              <a:path fill="darkenLess" w="25786" h="21600">
                <a:moveTo>
                  <a:pt x="2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86" y="20200"/>
                </a:lnTo>
                <a:close/>
              </a:path>
              <a:path fill="lighten" w="2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86" h="21600">
                <a:moveTo>
                  <a:pt x="5887" y="3794"/>
                </a:moveTo>
                <a:lnTo>
                  <a:pt x="19899" y="10800"/>
                </a:lnTo>
                <a:lnTo>
                  <a:pt x="588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«Клины»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85" name="Picture 5" descr="klin"/>
          <p:cNvPicPr/>
          <p:nvPr/>
        </p:nvPicPr>
        <p:blipFill>
          <a:blip r:embed="rId1"/>
          <a:stretch/>
        </p:blipFill>
        <p:spPr>
          <a:xfrm>
            <a:off x="2340000" y="1484280"/>
            <a:ext cx="4271760" cy="51116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6">
            <a:hlinkClick r:id="" action="ppaction://hlinkshowjump?jump=nextslide"/>
          </p:cNvPr>
          <p:cNvSpPr/>
          <p:nvPr/>
        </p:nvSpPr>
        <p:spPr>
          <a:xfrm>
            <a:off x="7524720" y="5805360"/>
            <a:ext cx="827280" cy="754200"/>
          </a:xfrm>
          <a:custGeom>
            <a:avLst/>
            <a:gdLst>
              <a:gd name="textAreaLeft" fmla="*/ 48600 w 827280"/>
              <a:gd name="textAreaRight" fmla="*/ 778680 w 827280"/>
              <a:gd name="textAreaTop" fmla="*/ 48600 h 754200"/>
              <a:gd name="textAreaBottom" fmla="*/ 705600 h 75420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3794"/>
                </a:moveTo>
                <a:lnTo>
                  <a:pt x="18852" y="10800"/>
                </a:lnTo>
                <a:lnTo>
                  <a:pt x="484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4182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«Без своей Ясной Поляны я трудно могу себе представить Россию и мое отношение к н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Без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Times New Roman"/>
                <a:hlinkClick r:id="rId1" action="ppaction://hlinksldjump"/>
              </a:rPr>
              <a:t>Ясной Поляны 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я, может быть, яснее увижу общие законы, необходимые для моего отечества, но я не буду до пристрастия любить его.»  Л. Н.Толст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2" descr="img(5)"/>
          <p:cNvPicPr/>
          <p:nvPr/>
        </p:nvPicPr>
        <p:blipFill>
          <a:blip r:embed="rId2"/>
          <a:stretch/>
        </p:blipFill>
        <p:spPr>
          <a:xfrm>
            <a:off x="5148360" y="1197000"/>
            <a:ext cx="3255840" cy="43196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528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Клины- это часть парка, которая состоит из восьми липовых аллей, разбитых в виде треугольников- клиньев. Между липовыми аллеями в «Клинах» растут яблони, которые были дороги Толстому, как память о матер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5">
            <a:hlinkClick r:id="" action="ppaction://hlinkshowjump?jump=previousslide"/>
          </p:cNvPr>
          <p:cNvSpPr/>
          <p:nvPr/>
        </p:nvSpPr>
        <p:spPr>
          <a:xfrm>
            <a:off x="6948360" y="5516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лочки- последние насаждения Л.Толстого и С.Толстой в 1890году. Это любимое место прогулок писателя. Здесь в 1907 году Софья Андреевна поставила скамейку, которую стали называть любимой скамейкой Л.Толстого.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90" name="Picture 6" descr="ясная поляна"/>
          <p:cNvPicPr/>
          <p:nvPr/>
        </p:nvPicPr>
        <p:blipFill>
          <a:blip r:embed="rId1"/>
          <a:stretch/>
        </p:blipFill>
        <p:spPr>
          <a:xfrm>
            <a:off x="826920" y="2492280"/>
            <a:ext cx="74901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далеко от посадок находились «Засечные леса» . Здесь Толстой любил охотиться, сюда верхом ездил на прогулки. Его привлекала дикая красота природы.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92" name="Picture 5" descr="lesa"/>
          <p:cNvPicPr/>
          <p:nvPr/>
        </p:nvPicPr>
        <p:blipFill>
          <a:blip r:embed="rId1"/>
          <a:stretch/>
        </p:blipFill>
        <p:spPr>
          <a:xfrm>
            <a:off x="468360" y="2276640"/>
            <a:ext cx="82072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7834320" cy="50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мении был замечательный парк, когда-то через него пролегал овраг. При  Н. Волконском его запрудили в нескольких местах и заполнили водой. В результате образовались «Верхний», «Средний» и «Нижний» пруды.</a:t>
            </a: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P9130008s"/>
          <p:cNvPicPr/>
          <p:nvPr/>
        </p:nvPicPr>
        <p:blipFill>
          <a:blip r:embed="rId1"/>
          <a:stretch/>
        </p:blipFill>
        <p:spPr>
          <a:xfrm>
            <a:off x="324000" y="692280"/>
            <a:ext cx="4047840" cy="590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Pa070004s"/>
          <p:cNvPicPr/>
          <p:nvPr/>
        </p:nvPicPr>
        <p:blipFill>
          <a:blip r:embed="rId2"/>
          <a:stretch/>
        </p:blipFill>
        <p:spPr>
          <a:xfrm>
            <a:off x="4643280" y="3902040"/>
            <a:ext cx="3961080" cy="2656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P9250006s"/>
          <p:cNvPicPr/>
          <p:nvPr/>
        </p:nvPicPr>
        <p:blipFill>
          <a:blip r:embed="rId3"/>
          <a:stretch/>
        </p:blipFill>
        <p:spPr>
          <a:xfrm>
            <a:off x="5003640" y="476280"/>
            <a:ext cx="34387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Толстой - педагог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98" name="Picture 4" descr="school"/>
          <p:cNvPicPr/>
          <p:nvPr/>
        </p:nvPicPr>
        <p:blipFill>
          <a:blip r:embed="rId1"/>
          <a:stretch/>
        </p:blipFill>
        <p:spPr>
          <a:xfrm>
            <a:off x="395280" y="1700280"/>
            <a:ext cx="4968720" cy="4249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lan"/>
          <p:cNvPicPr/>
          <p:nvPr/>
        </p:nvPicPr>
        <p:blipFill>
          <a:blip r:embed="rId2"/>
          <a:stretch/>
        </p:blipFill>
        <p:spPr>
          <a:xfrm>
            <a:off x="5580000" y="1844640"/>
            <a:ext cx="3095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аница восьмая.</a:t>
            </a:r>
            <a:br>
              <a:rPr sz="3200"/>
            </a:b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Последняя…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есь 9 ноября 1910 года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ыл похоронен Л.Н.Толстой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01" name="Picture 6" descr="mogilka2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1"/>
          <p:cNvPicPr/>
          <p:nvPr/>
        </p:nvPicPr>
        <p:blipFill>
          <a:blip r:embed="rId1"/>
          <a:stretch/>
        </p:blipFill>
        <p:spPr>
          <a:xfrm>
            <a:off x="971640" y="1052640"/>
            <a:ext cx="7272360" cy="55512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1837440" y="333360"/>
            <a:ext cx="52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Ясная Поляна сегодн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тула 023"/>
          <p:cNvPicPr/>
          <p:nvPr/>
        </p:nvPicPr>
        <p:blipFill>
          <a:blip r:embed="rId1"/>
          <a:stretch/>
        </p:blipFill>
        <p:spPr>
          <a:xfrm>
            <a:off x="4140360" y="476280"/>
            <a:ext cx="4429080" cy="3960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ула 026"/>
          <p:cNvPicPr/>
          <p:nvPr/>
        </p:nvPicPr>
        <p:blipFill>
          <a:blip r:embed="rId2"/>
          <a:stretch/>
        </p:blipFill>
        <p:spPr>
          <a:xfrm>
            <a:off x="395280" y="1844640"/>
            <a:ext cx="4262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тула 024"/>
          <p:cNvPicPr/>
          <p:nvPr/>
        </p:nvPicPr>
        <p:blipFill>
          <a:blip r:embed="rId1"/>
          <a:stretch/>
        </p:blipFill>
        <p:spPr>
          <a:xfrm>
            <a:off x="179280" y="1890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тула 037"/>
          <p:cNvPicPr/>
          <p:nvPr/>
        </p:nvPicPr>
        <p:blipFill>
          <a:blip r:embed="rId2"/>
          <a:stretch/>
        </p:blipFill>
        <p:spPr>
          <a:xfrm>
            <a:off x="4572000" y="189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тула 041"/>
          <p:cNvPicPr/>
          <p:nvPr/>
        </p:nvPicPr>
        <p:blipFill>
          <a:blip r:embed="rId3"/>
          <a:stretch/>
        </p:blipFill>
        <p:spPr>
          <a:xfrm>
            <a:off x="1979640" y="3500280"/>
            <a:ext cx="5256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3382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аница первая…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3168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ед вами круглые кирпичные башни, построенные дедом Толстого со стороны матери. От въезда к дому Толстого ведет широкая аллея со старинным названием  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«Прешпек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08360" y="333000"/>
            <a:ext cx="48960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ъезд в усадьб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92000" y="3716280"/>
            <a:ext cx="5411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авайте пройдем по «Прешпекту»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11" descr="1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771480"/>
            <a:ext cx="3743280" cy="287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11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4168800"/>
            <a:ext cx="34560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тула 079"/>
          <p:cNvPicPr/>
          <p:nvPr/>
        </p:nvPicPr>
        <p:blipFill>
          <a:blip r:embed="rId1"/>
          <a:stretch/>
        </p:blipFill>
        <p:spPr>
          <a:xfrm rot="20632800">
            <a:off x="766800" y="849240"/>
            <a:ext cx="4122720" cy="3092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тула 080"/>
          <p:cNvPicPr/>
          <p:nvPr/>
        </p:nvPicPr>
        <p:blipFill>
          <a:blip r:embed="rId2"/>
          <a:stretch/>
        </p:blipFill>
        <p:spPr>
          <a:xfrm rot="600600">
            <a:off x="4705200" y="798120"/>
            <a:ext cx="4104000" cy="3078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тула 071"/>
          <p:cNvPicPr/>
          <p:nvPr/>
        </p:nvPicPr>
        <p:blipFill>
          <a:blip r:embed="rId3"/>
          <a:stretch/>
        </p:blipFill>
        <p:spPr>
          <a:xfrm>
            <a:off x="262728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тула 058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492000" y="277920"/>
            <a:ext cx="519444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6"/>
          <p:cNvGraphicFramePr/>
          <p:nvPr/>
        </p:nvGraphicFramePr>
        <p:xfrm>
          <a:off x="3851280" y="260280"/>
          <a:ext cx="529272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60280"/>
                    <a:ext cx="529272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Picture 7" descr="img"/>
          <p:cNvPicPr/>
          <p:nvPr/>
        </p:nvPicPr>
        <p:blipFill>
          <a:blip r:embed="rId3"/>
          <a:stretch/>
        </p:blipFill>
        <p:spPr>
          <a:xfrm>
            <a:off x="539640" y="1268280"/>
            <a:ext cx="42483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34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сная Поляна – это живописный уголок в Тульской области, связанный с именем великого русского писател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.Н.Толст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сная Поляна – это детство Толстого и его первые впечатления об окружающем мире, замечательная пора его молодости, первые литературные опыты и становление писателя, это зрелость и мировая известность. Это великая книга летописи жизни и творчества Л.Н.Толстог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ши дни Ясная Поляна - это крупнейший мемориальный музей страны. На площади около 400 гектаров сохраняются в историческом виде: жилой дом Л.Н.Толстого, надворные постройки, парк, лес, сад. Сюда едут нескончаемым потоком люди, чтобы лучше понять Толстого, по-настоящему его почувство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ы с вами отправляемся в Ясную Поляну, чтобы бережно перелистать страницы книги летопис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.Н.Толст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172360" y="6453360"/>
            <a:ext cx="647640" cy="40464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4560" h="21600">
                <a:moveTo>
                  <a:pt x="0" y="0"/>
                </a:moveTo>
                <a:lnTo>
                  <a:pt x="34560" y="0"/>
                </a:lnTo>
                <a:lnTo>
                  <a:pt x="34560" y="21600"/>
                </a:lnTo>
                <a:lnTo>
                  <a:pt x="0" y="21600"/>
                </a:lnTo>
                <a:close/>
              </a:path>
              <a:path fill="lightenLess" w="34560" h="21600">
                <a:moveTo>
                  <a:pt x="0" y="0"/>
                </a:moveTo>
                <a:lnTo>
                  <a:pt x="34560" y="0"/>
                </a:lnTo>
                <a:lnTo>
                  <a:pt x="33160" y="1400"/>
                </a:lnTo>
                <a:lnTo>
                  <a:pt x="1400" y="1400"/>
                </a:lnTo>
                <a:close/>
              </a:path>
              <a:path fill="darken" w="34560" h="21600">
                <a:moveTo>
                  <a:pt x="34560" y="0"/>
                </a:moveTo>
                <a:lnTo>
                  <a:pt x="34560" y="21600"/>
                </a:lnTo>
                <a:lnTo>
                  <a:pt x="33160" y="20200"/>
                </a:lnTo>
                <a:lnTo>
                  <a:pt x="33160" y="1400"/>
                </a:lnTo>
                <a:close/>
              </a:path>
              <a:path fill="darkenLess" w="34560" h="21600">
                <a:moveTo>
                  <a:pt x="34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0" y="20200"/>
                </a:lnTo>
                <a:close/>
              </a:path>
              <a:path fill="lighten" w="34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траница вторая…</a:t>
            </a:r>
            <a:br>
              <a:rPr sz="3600"/>
            </a:br>
            <a:r>
              <a:rPr b="1" i="1" lang="ru-RU" sz="4400" spc="-1" strike="noStrike">
                <a:solidFill>
                  <a:srgbClr val="a50021"/>
                </a:solidFill>
                <a:latin typeface="Times New Roman"/>
              </a:rPr>
              <a:t>Здесь родился Л. Н. Толстой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0" name="Picture 6" descr="Image_3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58920" y="1628640"/>
            <a:ext cx="633564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д вами дом в Ясной Поляне, в которо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9 сентября 1828 года родился Л.Н.Толст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де провел он свое детство. Построен он был его дедом Н.С.Волконским в первой четверти 19-го века. В нем Лев Толстой прожил около 50 лет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были написаны романы: « Война и мир», « Анна Каренина». В нем гост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.С.Тургенев, А.А.Фет, Н.С.Лесков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П.Чехов, И.Е.Репин и многие другие  известные деятели русской культуры. В нем жила вся семья Толст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ознакомимся с ней…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66452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аница третья…</a:t>
            </a:r>
            <a:br>
              <a:rPr sz="4000"/>
            </a:b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Семья Льва Толстого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1197000"/>
            <a:ext cx="4038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нязь Н. С. Волкон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3280" y="1196640"/>
            <a:ext cx="4043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аф И. А. Толст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400500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ец - Н. И. Толст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3941280"/>
            <a:ext cx="403848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ь - М. Н. Волкон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8" descr="ded1"/>
          <p:cNvPicPr/>
          <p:nvPr/>
        </p:nvPicPr>
        <p:blipFill>
          <a:blip r:embed="rId1"/>
          <a:stretch/>
        </p:blipFill>
        <p:spPr>
          <a:xfrm>
            <a:off x="900000" y="1628640"/>
            <a:ext cx="1871640" cy="237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ded2"/>
          <p:cNvPicPr/>
          <p:nvPr/>
        </p:nvPicPr>
        <p:blipFill>
          <a:blip r:embed="rId2"/>
          <a:stretch/>
        </p:blipFill>
        <p:spPr>
          <a:xfrm>
            <a:off x="5219640" y="1628640"/>
            <a:ext cx="1727280" cy="237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mama"/>
          <p:cNvPicPr/>
          <p:nvPr/>
        </p:nvPicPr>
        <p:blipFill>
          <a:blip r:embed="rId3"/>
          <a:stretch/>
        </p:blipFill>
        <p:spPr>
          <a:xfrm>
            <a:off x="5167440" y="4365720"/>
            <a:ext cx="1780920" cy="230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otec"/>
          <p:cNvPicPr/>
          <p:nvPr/>
        </p:nvPicPr>
        <p:blipFill>
          <a:blip r:embed="rId4"/>
          <a:stretch/>
        </p:blipFill>
        <p:spPr>
          <a:xfrm>
            <a:off x="784080" y="4437000"/>
            <a:ext cx="17845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20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аница четвертая…</a:t>
            </a:r>
            <a:br>
              <a:rPr sz="2800"/>
            </a:b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Во дворе дома Л. Н. Толстого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341360"/>
            <a:ext cx="3672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то фасад до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Л.Толстого, главный вход в дом. Весной и летом  его семья проводила большую часть времени на террасе и на площадке перед домом. Здесь отдыхали, пили чай, читали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Давайте войдем в 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6" descr="img(2)"/>
          <p:cNvPicPr/>
          <p:nvPr/>
        </p:nvPicPr>
        <p:blipFill>
          <a:blip r:embed="rId1"/>
          <a:stretch/>
        </p:blipFill>
        <p:spPr>
          <a:xfrm>
            <a:off x="4257720" y="1268280"/>
            <a:ext cx="4842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dd1"/>
                </a:solidFill>
                <a:latin typeface="Times New Roman"/>
              </a:rPr>
              <a:t>Страница пятая…</a:t>
            </a:r>
            <a:br>
              <a:rPr sz="3200"/>
            </a:b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В доме Л. Н. Толстого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413000"/>
            <a:ext cx="741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иблиотека писателя насчитывает около 23000 томов. Есть и редкие издания книг 18, 19 веков, издания на различных язы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8" descr="perednaya2"/>
          <p:cNvPicPr/>
          <p:nvPr/>
        </p:nvPicPr>
        <p:blipFill>
          <a:blip r:embed="rId1"/>
          <a:stretch/>
        </p:blipFill>
        <p:spPr>
          <a:xfrm>
            <a:off x="1835280" y="3213000"/>
            <a:ext cx="5398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784836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йдем в гостиную…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9" name="Picture 8" descr="gostinaya2"/>
          <p:cNvPicPr/>
          <p:nvPr/>
        </p:nvPicPr>
        <p:blipFill>
          <a:blip r:embed="rId1"/>
          <a:stretch/>
        </p:blipFill>
        <p:spPr>
          <a:xfrm>
            <a:off x="179280" y="105264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zal%202"/>
          <p:cNvPicPr/>
          <p:nvPr/>
        </p:nvPicPr>
        <p:blipFill>
          <a:blip r:embed="rId2"/>
          <a:stretch/>
        </p:blipFill>
        <p:spPr>
          <a:xfrm>
            <a:off x="4356000" y="1557360"/>
            <a:ext cx="43927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5:20:53Z</dcterms:created>
  <dc:creator>User</dc:creator>
  <dc:description/>
  <dc:language>en-US</dc:language>
  <cp:lastModifiedBy>Администратор</cp:lastModifiedBy>
  <dcterms:modified xsi:type="dcterms:W3CDTF">2020-04-04T04:05:34Z</dcterms:modified>
  <cp:revision>112</cp:revision>
  <dc:subject/>
  <dc:title>Заочная экскурсия по Ясной Поляне.</dc:title>
</cp:coreProperties>
</file>