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4.jpeg" ContentType="image/jpeg"/>
  <Override PartName="/ppt/media/image10.jpeg" ContentType="image/jpeg"/>
  <Override PartName="/ppt/media/image29.jpeg" ContentType="image/jpeg"/>
  <Override PartName="/ppt/media/image43.wmf" ContentType="image/x-wmf"/>
  <Override PartName="/ppt/media/image13.jpeg" ContentType="image/jpeg"/>
  <Override PartName="/ppt/media/image40.jpeg" ContentType="image/jpeg"/>
  <Override PartName="/ppt/media/image44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DF97A-B982-4161-B808-95E3B4D14B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F21B9-C37E-4DDE-B77B-0F4062124D2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2FCD8-A56D-4DB8-BD34-8E3EEE7C446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EDCEF-B7C5-4165-AFAB-6A44F1058FF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A824D-1692-45AD-BB18-9E9D67569B8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C1B02-E345-4800-B107-99A18585257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909F-A535-4396-8B3E-7169D83BA29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E54D6-D842-4019-AEFB-4358F267DDE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77956-E70B-4F99-BCDD-62A029C4268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12F98-90DD-4BE6-80DF-22A9604AFC8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EC038-0388-45CF-B394-59279D19068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B7319-1C91-4AD5-9ABD-2F89411145D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A1DA0-7715-49F9-962A-BD516A7F971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BFB3-7F05-4BF7-AA7A-74B940F8F1C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04637-581F-4741-8007-0EF1C594673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3422F-BF9D-4E00-A6B9-D9479DFF241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FE401-4F99-45A0-B6B7-036DE6B40C4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F5E23-8820-4012-8554-62135DBAB85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9251E-057E-47C7-A7C1-F0DD019AFC1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6E2C6-F85F-4C1F-BCED-7610C4A1CFD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4553C-179C-4C7A-A8A7-0D730C9219E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D6FBE-AA74-40C6-9F1F-0EEF134248A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E5DE4-D604-413A-8731-9AB7C50B299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580B0-BADB-48A6-8D34-1375C143AA6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1BBA6-3A33-449C-AA98-EB2D1AE9CB8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2D2FD-FE1B-4636-B536-AA20CF3FED6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4FE3-93FE-4041-8733-C862099A90A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5644-99FB-4361-9EB5-E62727CDC5E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9F491-6BBC-4207-B713-95B5A3FE46A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F3110-79A3-4280-A894-5A130F4F7D5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E1BE5-9743-4396-AC01-5F669B159B8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FFE0A-2A2C-4B71-92EF-E5010A97B5E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8EC5E-D3E7-4CD4-BBF6-EC0B1FA487E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64826-5296-4A0B-9A1E-A9928C7EDEC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8706-F11D-4E27-B2FD-680436AD3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1F93-1482-4B0F-8CA6-94DECCF11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B463-5445-4715-B86A-FCECD2C3B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4907-352A-4E31-BD18-2A996A892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D5FB3-2012-47B1-9F9C-15253BFDB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A86A6-CE0E-43B1-92DC-DA6FEFCAB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A1AF6-A711-4574-AA87-1E2C69F4F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0257E-F706-4DF0-9509-F88E8F832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715FA-8E3C-410B-973B-E61B4823B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7003B-1922-4022-BCB3-122DF0820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7EB6F-EC9F-4373-AE3A-B5546200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610F-F514-463C-993B-DDF03891E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019BE-70CE-4DAC-BDA7-B9BD7A4E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ACAF7-99B1-40BA-89ED-DF52F009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96C3D-66A0-4B54-BE87-05C967819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396D5-FF76-4489-9267-3E4F72811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448AF-1D89-49C1-B6B6-1A5730578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4CC6-0D94-4E86-87F6-D2A2D0B52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2CF3-3BAF-43C9-A2D2-DDC9C1E64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B26C-93B5-4C0F-87C8-3B22C0C70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CEF7-88BE-46C9-8D2D-95D5C78F4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BB49-4EDC-45CA-BE4E-8160F8EE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C409-58C5-406A-ABF5-A37A7324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3ADC-069F-446A-A216-2AA610FF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3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DF959-650F-407D-9AC7-FF26541C899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3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827F3-994D-4E61-9BDB-6E4ECBA700C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asnayapolyana.ru/photogallery/manor/manor_new/2.htm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yasnayapolyana.ru/photogallery/manor/manor_new/4.htm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3.wmf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img(1)"/>
          <p:cNvPicPr/>
          <p:nvPr/>
        </p:nvPicPr>
        <p:blipFill>
          <a:blip r:embed="rId1"/>
          <a:stretch/>
        </p:blipFill>
        <p:spPr>
          <a:xfrm>
            <a:off x="1547640" y="2205000"/>
            <a:ext cx="6264360" cy="4464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0000"/>
                </a:solidFill>
                <a:latin typeface="Times New Roman"/>
              </a:rPr>
              <a:t>Заочная экскурсия по Ясной Поляне</a:t>
            </a:r>
            <a:endParaRPr b="1" lang="en-US" sz="60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619280" y="5734080"/>
            <a:ext cx="6400800" cy="9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Знакомство с биографией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Л. Н. Толстого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Track 16.mp3" descr=""/>
          <p:cNvPicPr/>
          <p:nvPr/>
        </p:nvPicPr>
        <p:blipFill>
          <a:blip r:embed="rId2"/>
          <a:stretch/>
        </p:blipFill>
        <p:spPr>
          <a:xfrm>
            <a:off x="853272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 залы переходим в гостиную, где жила Т.А.Ергольская, вырастившая Л.Толстого, его братьев и сестру, оставшихся малолетними сиротами. После смерти Ергольской здесь была комната Софьи Андреевны, которая одновременно служила и столовой. Большой деревянный стол, на котором стоит старинный самовар, занимает центральное место в комнате. На стене мы видим портреты членов семьи Толстого. А около окна располагался «Уголок серьезных разговоров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AutoShape 4">
            <a:hlinkClick r:id="" action="ppaction://hlinkshowjump?jump=nextslide"/>
          </p:cNvPr>
          <p:cNvSpPr/>
          <p:nvPr/>
        </p:nvSpPr>
        <p:spPr>
          <a:xfrm>
            <a:off x="7524720" y="5373720"/>
            <a:ext cx="576360" cy="72072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720720"/>
              <a:gd name="textAreaBottom" fmla="*/ 683640 h 720720"/>
            </a:gdLst>
            <a:ahLst/>
            <a:rect l="textAreaLeft" t="textAreaTop" r="textAreaRight" b="textAreaBottom"/>
            <a:pathLst>
              <a:path w="21600" h="27007">
                <a:moveTo>
                  <a:pt x="0" y="0"/>
                </a:moveTo>
                <a:lnTo>
                  <a:pt x="21600" y="0"/>
                </a:lnTo>
                <a:lnTo>
                  <a:pt x="21600" y="27007"/>
                </a:lnTo>
                <a:lnTo>
                  <a:pt x="0" y="27007"/>
                </a:lnTo>
                <a:close/>
              </a:path>
              <a:path fill="lightenLess" w="21600" h="270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7">
                <a:moveTo>
                  <a:pt x="21600" y="0"/>
                </a:moveTo>
                <a:lnTo>
                  <a:pt x="21600" y="27007"/>
                </a:lnTo>
                <a:lnTo>
                  <a:pt x="20200" y="25607"/>
                </a:lnTo>
                <a:lnTo>
                  <a:pt x="20200" y="1400"/>
                </a:lnTo>
                <a:close/>
              </a:path>
              <a:path fill="darkenLess" w="21600" h="27007">
                <a:moveTo>
                  <a:pt x="21600" y="27007"/>
                </a:moveTo>
                <a:lnTo>
                  <a:pt x="0" y="27007"/>
                </a:lnTo>
                <a:lnTo>
                  <a:pt x="1400" y="25607"/>
                </a:lnTo>
                <a:lnTo>
                  <a:pt x="20200" y="25607"/>
                </a:lnTo>
                <a:close/>
              </a:path>
              <a:path fill="lighten" w="21600" h="27007">
                <a:moveTo>
                  <a:pt x="0" y="270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7"/>
                </a:lnTo>
                <a:close/>
              </a:path>
              <a:path fill="darken" w="21600" h="27007">
                <a:moveTo>
                  <a:pt x="3794" y="6497"/>
                </a:moveTo>
                <a:lnTo>
                  <a:pt x="17806" y="13503"/>
                </a:lnTo>
                <a:lnTo>
                  <a:pt x="3794" y="2051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277920"/>
            <a:ext cx="8174160" cy="12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ом часто посещали гости, которые останавливались в комнате для приезжих.</a:t>
            </a:r>
            <a:endParaRPr b="1" lang="en-US" sz="32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64" name="Picture 6" descr="gosty2"/>
          <p:cNvPicPr/>
          <p:nvPr/>
        </p:nvPicPr>
        <p:blipFill>
          <a:blip r:embed="rId1"/>
          <a:stretch/>
        </p:blipFill>
        <p:spPr>
          <a:xfrm>
            <a:off x="971640" y="1844640"/>
            <a:ext cx="748980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авайте пройдем в спальни Л. Толстого и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. Толстой</a:t>
            </a:r>
            <a:endParaRPr b="1" lang="en-US" sz="28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66" name="Picture 7" descr="spalnya2"/>
          <p:cNvPicPr/>
          <p:nvPr/>
        </p:nvPicPr>
        <p:blipFill>
          <a:blip r:embed="rId1"/>
          <a:stretch/>
        </p:blipFill>
        <p:spPr>
          <a:xfrm>
            <a:off x="250920" y="1628640"/>
            <a:ext cx="4284720" cy="4824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komnata%20zheny2"/>
          <p:cNvPicPr/>
          <p:nvPr/>
        </p:nvPicPr>
        <p:blipFill>
          <a:blip r:embed="rId2"/>
          <a:stretch/>
        </p:blipFill>
        <p:spPr>
          <a:xfrm>
            <a:off x="4643280" y="1628640"/>
            <a:ext cx="432144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716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траница шестая…</a:t>
            </a:r>
            <a:br>
              <a:rPr sz="2800"/>
            </a:br>
            <a:r>
              <a:rPr b="1" i="1" lang="ru-RU" sz="4000" spc="-1" strike="noStrike">
                <a:solidFill>
                  <a:srgbClr val="a50021"/>
                </a:solidFill>
                <a:latin typeface="Times New Roman"/>
              </a:rPr>
              <a:t>Л.Н. Толстой-писатель</a:t>
            </a:r>
            <a:endParaRPr b="1" lang="en-US" sz="40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лавное место в доме писателя - его кабинет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Picture 5" descr="kabinet2"/>
          <p:cNvPicPr/>
          <p:nvPr/>
        </p:nvPicPr>
        <p:blipFill>
          <a:blip r:embed="rId1"/>
          <a:stretch/>
        </p:blipFill>
        <p:spPr>
          <a:xfrm>
            <a:off x="1619280" y="2308320"/>
            <a:ext cx="6192720" cy="41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539640" y="476280"/>
            <a:ext cx="8353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00"/>
                </a:solidFill>
                <a:latin typeface="Times New Roman"/>
              </a:rPr>
              <a:t>Толстой-писател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соседству с гостиной – кабинет писателя, занимающий центральное место в музее. В эту его своеобразную крепость во время работы никто не входил. Софья Андреевна строго охраняла покой мужа и с 10 утра до 2-3 часов дня никого к нему не допускала. Вся обстановка кабинета, как и многочисленные «мелочи», сохранилась полностью. Кажется, будто Толстой только-только покинул эту комнату. Здесь Толстой работал над произведениями: «Юность», «Семейное счастье», «Воспоминания», «Сон» и многими другими. В этой комнате он провел наибольшую часть своей жизни. Здесь появились на свет шедевры нашей классик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AutoShape 5">
            <a:hlinkClick r:id="" action="ppaction://hlinkshowjump?jump=nextslide"/>
          </p:cNvPr>
          <p:cNvSpPr/>
          <p:nvPr/>
        </p:nvSpPr>
        <p:spPr>
          <a:xfrm>
            <a:off x="8101080" y="5589720"/>
            <a:ext cx="609480" cy="93492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934920"/>
              <a:gd name="textAreaBottom" fmla="*/ 895680 h 934920"/>
            </a:gdLst>
            <a:ahLst/>
            <a:rect l="textAreaLeft" t="textAreaTop" r="textAreaRight" b="textAreaBottom"/>
            <a:pathLst>
              <a:path w="21600" h="33127">
                <a:moveTo>
                  <a:pt x="0" y="0"/>
                </a:moveTo>
                <a:lnTo>
                  <a:pt x="21600" y="0"/>
                </a:lnTo>
                <a:lnTo>
                  <a:pt x="21600" y="33127"/>
                </a:lnTo>
                <a:lnTo>
                  <a:pt x="0" y="33127"/>
                </a:lnTo>
                <a:close/>
              </a:path>
              <a:path fill="lightenLess" w="21600" h="331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127">
                <a:moveTo>
                  <a:pt x="21600" y="0"/>
                </a:moveTo>
                <a:lnTo>
                  <a:pt x="21600" y="33127"/>
                </a:lnTo>
                <a:lnTo>
                  <a:pt x="20200" y="31727"/>
                </a:lnTo>
                <a:lnTo>
                  <a:pt x="20200" y="1400"/>
                </a:lnTo>
                <a:close/>
              </a:path>
              <a:path fill="darkenLess" w="21600" h="33127">
                <a:moveTo>
                  <a:pt x="21600" y="33127"/>
                </a:moveTo>
                <a:lnTo>
                  <a:pt x="0" y="33127"/>
                </a:lnTo>
                <a:lnTo>
                  <a:pt x="1400" y="31727"/>
                </a:lnTo>
                <a:lnTo>
                  <a:pt x="20200" y="31727"/>
                </a:lnTo>
                <a:close/>
              </a:path>
              <a:path fill="lighten" w="21600" h="33127">
                <a:moveTo>
                  <a:pt x="0" y="33127"/>
                </a:moveTo>
                <a:lnTo>
                  <a:pt x="0" y="0"/>
                </a:lnTo>
                <a:lnTo>
                  <a:pt x="1400" y="1400"/>
                </a:lnTo>
                <a:lnTo>
                  <a:pt x="1400" y="31727"/>
                </a:lnTo>
                <a:close/>
              </a:path>
              <a:path fill="darken" w="21600" h="33127">
                <a:moveTo>
                  <a:pt x="3794" y="9557"/>
                </a:moveTo>
                <a:lnTo>
                  <a:pt x="17806" y="16563"/>
                </a:lnTo>
                <a:lnTo>
                  <a:pt x="3794" y="2357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21844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Комната под сводами» -  была рабочим кабинетом Толстого около 20 лет. Именно здесь созрел план и написано начало романа «Война и Мир», написано «Воскресенье», «Крейцерова соната».</a:t>
            </a:r>
            <a:endParaRPr b="1" lang="en-US" sz="28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74" name="Picture 6" descr="svody2"/>
          <p:cNvPicPr/>
          <p:nvPr/>
        </p:nvPicPr>
        <p:blipFill>
          <a:blip r:embed="rId1"/>
          <a:stretch/>
        </p:blipFill>
        <p:spPr>
          <a:xfrm>
            <a:off x="1692360" y="2421000"/>
            <a:ext cx="5470560" cy="40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36280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Свободное время Л. Толстой любил проводить на природе. Он был хорошим хозяином, сажал яблоневые сады, рощи, пахал землю.</a:t>
            </a:r>
            <a:endParaRPr b="1" lang="en-US" sz="36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76" name="Picture 6" descr="P9240005s"/>
          <p:cNvPicPr/>
          <p:nvPr/>
        </p:nvPicPr>
        <p:blipFill>
          <a:blip r:embed="rId1"/>
          <a:stretch/>
        </p:blipFill>
        <p:spPr>
          <a:xfrm>
            <a:off x="468360" y="3284640"/>
            <a:ext cx="2176560" cy="27194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P5120003s"/>
          <p:cNvPicPr/>
          <p:nvPr/>
        </p:nvPicPr>
        <p:blipFill>
          <a:blip r:embed="rId2"/>
          <a:stretch/>
        </p:blipFill>
        <p:spPr>
          <a:xfrm>
            <a:off x="6443640" y="3357720"/>
            <a:ext cx="2176560" cy="27208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PA140010s"/>
          <p:cNvPicPr/>
          <p:nvPr/>
        </p:nvPicPr>
        <p:blipFill>
          <a:blip r:embed="rId3"/>
          <a:stretch/>
        </p:blipFill>
        <p:spPr>
          <a:xfrm>
            <a:off x="3492360" y="2708280"/>
            <a:ext cx="215424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Страница седьмая…</a:t>
            </a:r>
            <a:br>
              <a:rPr sz="4000"/>
            </a:br>
            <a:r>
              <a:rPr b="1" i="1" lang="ru-RU" sz="4000" spc="-1" strike="noStrike">
                <a:solidFill>
                  <a:srgbClr val="a50021"/>
                </a:solidFill>
                <a:latin typeface="Times New Roman"/>
              </a:rPr>
              <a:t>Л. Толстой и Природа</a:t>
            </a:r>
            <a:endParaRPr b="1" lang="en-US" sz="40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Times New Roman"/>
              </a:rPr>
              <a:t>Абрамовская посад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Picture 5" descr="abr"/>
          <p:cNvPicPr/>
          <p:nvPr/>
        </p:nvPicPr>
        <p:blipFill>
          <a:blip r:embed="rId1"/>
          <a:stretch/>
        </p:blipFill>
        <p:spPr>
          <a:xfrm>
            <a:off x="1476360" y="2349360"/>
            <a:ext cx="6031080" cy="42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250560" y="764640"/>
            <a:ext cx="87138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С 1873-1881 г.г. Толстой посадил березовую рощу и назвал ее «Абрамовской», по имени садовника Абрамыча, помогавшего ему в этой посадке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Л.Толстой очень любил березовый лес. В Ясной Поляне из 180 га земли, занятой лесами, 128 га занимают березы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AutoShape 4">
            <a:hlinkClick r:id="" action="ppaction://hlinkshowjump?jump=nextslide"/>
          </p:cNvPr>
          <p:cNvSpPr/>
          <p:nvPr/>
        </p:nvSpPr>
        <p:spPr>
          <a:xfrm>
            <a:off x="7020000" y="5877000"/>
            <a:ext cx="900000" cy="753840"/>
          </a:xfrm>
          <a:custGeom>
            <a:avLst/>
            <a:gdLst>
              <a:gd name="textAreaLeft" fmla="*/ 48600 w 900000"/>
              <a:gd name="textAreaRight" fmla="*/ 851400 w 900000"/>
              <a:gd name="textAreaTop" fmla="*/ 48600 h 753840"/>
              <a:gd name="textAreaBottom" fmla="*/ 705240 h 753840"/>
            </a:gdLst>
            <a:ahLst/>
            <a:rect l="textAreaLeft" t="textAreaTop" r="textAreaRight" b="textAreaBottom"/>
            <a:pathLst>
              <a:path w="25786" h="21600">
                <a:moveTo>
                  <a:pt x="0" y="0"/>
                </a:moveTo>
                <a:lnTo>
                  <a:pt x="25786" y="0"/>
                </a:lnTo>
                <a:lnTo>
                  <a:pt x="25786" y="21600"/>
                </a:lnTo>
                <a:lnTo>
                  <a:pt x="0" y="21600"/>
                </a:lnTo>
                <a:close/>
              </a:path>
              <a:path fill="lightenLess" w="25786" h="21600">
                <a:moveTo>
                  <a:pt x="0" y="0"/>
                </a:moveTo>
                <a:lnTo>
                  <a:pt x="25786" y="0"/>
                </a:lnTo>
                <a:lnTo>
                  <a:pt x="24386" y="1400"/>
                </a:lnTo>
                <a:lnTo>
                  <a:pt x="1400" y="1400"/>
                </a:lnTo>
                <a:close/>
              </a:path>
              <a:path fill="darken" w="25786" h="21600">
                <a:moveTo>
                  <a:pt x="25786" y="0"/>
                </a:moveTo>
                <a:lnTo>
                  <a:pt x="25786" y="21600"/>
                </a:lnTo>
                <a:lnTo>
                  <a:pt x="24386" y="20200"/>
                </a:lnTo>
                <a:lnTo>
                  <a:pt x="24386" y="1400"/>
                </a:lnTo>
                <a:close/>
              </a:path>
              <a:path fill="darkenLess" w="25786" h="21600">
                <a:moveTo>
                  <a:pt x="25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86" y="20200"/>
                </a:lnTo>
                <a:close/>
              </a:path>
              <a:path fill="lighten" w="25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86" h="21600">
                <a:moveTo>
                  <a:pt x="5887" y="3794"/>
                </a:moveTo>
                <a:lnTo>
                  <a:pt x="19899" y="10800"/>
                </a:lnTo>
                <a:lnTo>
                  <a:pt x="5887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Times New Roman"/>
              </a:rPr>
              <a:t>«Клины»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85" name="Picture 5" descr="klin"/>
          <p:cNvPicPr/>
          <p:nvPr/>
        </p:nvPicPr>
        <p:blipFill>
          <a:blip r:embed="rId1"/>
          <a:stretch/>
        </p:blipFill>
        <p:spPr>
          <a:xfrm>
            <a:off x="2340000" y="1484280"/>
            <a:ext cx="4271760" cy="5111640"/>
          </a:xfrm>
          <a:prstGeom prst="rect">
            <a:avLst/>
          </a:prstGeom>
          <a:ln w="0">
            <a:noFill/>
          </a:ln>
        </p:spPr>
      </p:pic>
      <p:sp>
        <p:nvSpPr>
          <p:cNvPr id="186" name="AutoShape 6">
            <a:hlinkClick r:id="" action="ppaction://hlinkshowjump?jump=nextslide"/>
          </p:cNvPr>
          <p:cNvSpPr/>
          <p:nvPr/>
        </p:nvSpPr>
        <p:spPr>
          <a:xfrm>
            <a:off x="7524720" y="5805360"/>
            <a:ext cx="827280" cy="754200"/>
          </a:xfrm>
          <a:custGeom>
            <a:avLst/>
            <a:gdLst>
              <a:gd name="textAreaLeft" fmla="*/ 48600 w 827280"/>
              <a:gd name="textAreaRight" fmla="*/ 778680 w 827280"/>
              <a:gd name="textAreaTop" fmla="*/ 48600 h 754200"/>
              <a:gd name="textAreaBottom" fmla="*/ 705600 h 754200"/>
            </a:gdLst>
            <a:ahLst/>
            <a:rect l="textAreaLeft" t="textAreaTop" r="textAreaRight" b="textAreaBottom"/>
            <a:pathLst>
              <a:path w="23692" h="21600">
                <a:moveTo>
                  <a:pt x="0" y="0"/>
                </a:moveTo>
                <a:lnTo>
                  <a:pt x="23692" y="0"/>
                </a:lnTo>
                <a:lnTo>
                  <a:pt x="23692" y="21600"/>
                </a:lnTo>
                <a:lnTo>
                  <a:pt x="0" y="21600"/>
                </a:lnTo>
                <a:close/>
              </a:path>
              <a:path fill="lightenLess" w="23692" h="21600">
                <a:moveTo>
                  <a:pt x="0" y="0"/>
                </a:moveTo>
                <a:lnTo>
                  <a:pt x="23692" y="0"/>
                </a:lnTo>
                <a:lnTo>
                  <a:pt x="22292" y="1400"/>
                </a:lnTo>
                <a:lnTo>
                  <a:pt x="1400" y="1400"/>
                </a:lnTo>
                <a:close/>
              </a:path>
              <a:path fill="darken" w="23692" h="21600">
                <a:moveTo>
                  <a:pt x="23692" y="0"/>
                </a:moveTo>
                <a:lnTo>
                  <a:pt x="23692" y="21600"/>
                </a:lnTo>
                <a:lnTo>
                  <a:pt x="22292" y="20200"/>
                </a:lnTo>
                <a:lnTo>
                  <a:pt x="22292" y="1400"/>
                </a:lnTo>
                <a:close/>
              </a:path>
              <a:path fill="darkenLess" w="23692" h="21600">
                <a:moveTo>
                  <a:pt x="23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92" y="20200"/>
                </a:lnTo>
                <a:close/>
              </a:path>
              <a:path fill="lighten" w="23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92" h="21600">
                <a:moveTo>
                  <a:pt x="4840" y="3794"/>
                </a:moveTo>
                <a:lnTo>
                  <a:pt x="18852" y="10800"/>
                </a:lnTo>
                <a:lnTo>
                  <a:pt x="4840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50560" y="1196640"/>
            <a:ext cx="41828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3300"/>
                </a:solidFill>
                <a:latin typeface="Times New Roman"/>
              </a:rPr>
              <a:t>«Без своей Ясной Поляны я трудно могу себе представить Россию и мое отношение к не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Times New Roman"/>
              </a:rPr>
              <a:t>     </a:t>
            </a:r>
            <a:r>
              <a:rPr b="1" i="1" lang="ru-RU" sz="2400" spc="-1" strike="noStrike">
                <a:solidFill>
                  <a:srgbClr val="003300"/>
                </a:solidFill>
                <a:latin typeface="Times New Roman"/>
              </a:rPr>
              <a:t>Без </a:t>
            </a:r>
            <a:r>
              <a:rPr b="0" lang="ru-RU" sz="2400" spc="-1" strike="noStrike" u="sng">
                <a:solidFill>
                  <a:srgbClr val="a50021"/>
                </a:solidFill>
                <a:uFillTx/>
                <a:latin typeface="Times New Roman"/>
                <a:hlinkClick r:id="rId1" action="ppaction://hlinksldjump"/>
              </a:rPr>
              <a:t>Ясной Поляны </a:t>
            </a:r>
            <a:r>
              <a:rPr b="1" i="1" lang="ru-RU" sz="2400" spc="-1" strike="noStrike">
                <a:solidFill>
                  <a:srgbClr val="003300"/>
                </a:solidFill>
                <a:latin typeface="Times New Roman"/>
              </a:rPr>
              <a:t>я, может быть, яснее увижу общие законы, необходимые для моего отечества, но я не буду до пристрастия любить его.»  Л. Н.Толсто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12" descr="img(5)"/>
          <p:cNvPicPr/>
          <p:nvPr/>
        </p:nvPicPr>
        <p:blipFill>
          <a:blip r:embed="rId2"/>
          <a:stretch/>
        </p:blipFill>
        <p:spPr>
          <a:xfrm>
            <a:off x="5148360" y="1197000"/>
            <a:ext cx="3255840" cy="431964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95280" y="836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Клины- это часть парка, которая состоит из восьми липовых аллей, разбитых в виде треугольников- клиньев. Между липовыми аллеями в «Клинах» растут яблони, которые были дороги Толстому, как память о матери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AutoShape 5">
            <a:hlinkClick r:id="" action="ppaction://hlinkshowjump?jump=previousslide"/>
          </p:cNvPr>
          <p:cNvSpPr/>
          <p:nvPr/>
        </p:nvSpPr>
        <p:spPr>
          <a:xfrm>
            <a:off x="6948360" y="551664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  <a:path fill="darken" w="21600" h="28812">
                <a:moveTo>
                  <a:pt x="3794" y="7400"/>
                </a:moveTo>
                <a:lnTo>
                  <a:pt x="17806" y="14406"/>
                </a:lnTo>
                <a:lnTo>
                  <a:pt x="3794" y="21412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9152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Елочки- последние насаждения Л.Толстого и С.Толстой в 1890году. Это любимое место прогулок писателя. Здесь в 1907 году Софья Андреевна поставила скамейку, которую стали называть любимой скамейкой Л.Толстого.</a:t>
            </a:r>
            <a:endParaRPr b="1" lang="en-US" sz="28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90" name="Picture 6" descr="ясная поляна"/>
          <p:cNvPicPr/>
          <p:nvPr/>
        </p:nvPicPr>
        <p:blipFill>
          <a:blip r:embed="rId1"/>
          <a:stretch/>
        </p:blipFill>
        <p:spPr>
          <a:xfrm>
            <a:off x="826920" y="2492280"/>
            <a:ext cx="749016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5280" y="277560"/>
            <a:ext cx="8291520" cy="19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едалеко от посадок находились «Засечные леса» . Здесь Толстой любил охотиться, сюда верхом ездил на прогулки. Его привлекала дикая красота природы.</a:t>
            </a:r>
            <a:endParaRPr b="1" lang="en-US" sz="28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92" name="Picture 5" descr="lesa"/>
          <p:cNvPicPr/>
          <p:nvPr/>
        </p:nvPicPr>
        <p:blipFill>
          <a:blip r:embed="rId1"/>
          <a:stretch/>
        </p:blipFill>
        <p:spPr>
          <a:xfrm>
            <a:off x="468360" y="2276640"/>
            <a:ext cx="820728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277560"/>
            <a:ext cx="7834320" cy="509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мении был замечательный парк, когда-то через него пролегал овраг. При  Н. Волконском его запрудили в нескольких местах и заполнили водой. В результате образовались «Верхний», «Средний» и «Нижний» пруды.</a:t>
            </a:r>
            <a:r>
              <a:rPr b="1" lang="ru-RU" sz="4400" spc="-1" strike="noStrike">
                <a:solidFill>
                  <a:srgbClr val="fffdd1"/>
                </a:solidFill>
                <a:latin typeface="Times New Roman"/>
              </a:rPr>
              <a:t>  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9" descr="P9130008s"/>
          <p:cNvPicPr/>
          <p:nvPr/>
        </p:nvPicPr>
        <p:blipFill>
          <a:blip r:embed="rId1"/>
          <a:stretch/>
        </p:blipFill>
        <p:spPr>
          <a:xfrm>
            <a:off x="324000" y="692280"/>
            <a:ext cx="4047840" cy="59054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Pa070004s"/>
          <p:cNvPicPr/>
          <p:nvPr/>
        </p:nvPicPr>
        <p:blipFill>
          <a:blip r:embed="rId2"/>
          <a:stretch/>
        </p:blipFill>
        <p:spPr>
          <a:xfrm>
            <a:off x="4643280" y="3902040"/>
            <a:ext cx="3961080" cy="2656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3" descr="P9250006s"/>
          <p:cNvPicPr/>
          <p:nvPr/>
        </p:nvPicPr>
        <p:blipFill>
          <a:blip r:embed="rId3"/>
          <a:stretch/>
        </p:blipFill>
        <p:spPr>
          <a:xfrm>
            <a:off x="5003640" y="476280"/>
            <a:ext cx="3438720" cy="32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Times New Roman"/>
              </a:rPr>
              <a:t>Толстой - педагог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98" name="Picture 4" descr="school"/>
          <p:cNvPicPr/>
          <p:nvPr/>
        </p:nvPicPr>
        <p:blipFill>
          <a:blip r:embed="rId1"/>
          <a:stretch/>
        </p:blipFill>
        <p:spPr>
          <a:xfrm>
            <a:off x="395280" y="1700280"/>
            <a:ext cx="4968720" cy="42498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plan"/>
          <p:cNvPicPr/>
          <p:nvPr/>
        </p:nvPicPr>
        <p:blipFill>
          <a:blip r:embed="rId2"/>
          <a:stretch/>
        </p:blipFill>
        <p:spPr>
          <a:xfrm>
            <a:off x="5580000" y="1844640"/>
            <a:ext cx="30956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9152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траница восьмая.</a:t>
            </a:r>
            <a:br>
              <a:rPr sz="3200"/>
            </a:br>
            <a:r>
              <a:rPr b="1" i="1" lang="ru-RU" sz="4000" spc="-1" strike="noStrike">
                <a:solidFill>
                  <a:srgbClr val="a50021"/>
                </a:solidFill>
                <a:latin typeface="Times New Roman"/>
              </a:rPr>
              <a:t>Последняя…</a:t>
            </a:r>
            <a:br>
              <a:rPr sz="40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Здесь 9 ноября 1910 года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был похоронен Л.Н.Толстой</a:t>
            </a:r>
            <a:endParaRPr b="1" lang="en-US" sz="28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201" name="Picture 6" descr="mogilka2"/>
          <p:cNvPicPr/>
          <p:nvPr/>
        </p:nvPicPr>
        <p:blipFill>
          <a:blip r:embed="rId1"/>
          <a:stretch/>
        </p:blipFill>
        <p:spPr>
          <a:xfrm>
            <a:off x="1116000" y="1989000"/>
            <a:ext cx="720108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5" descr="1"/>
          <p:cNvPicPr/>
          <p:nvPr/>
        </p:nvPicPr>
        <p:blipFill>
          <a:blip r:embed="rId1"/>
          <a:stretch/>
        </p:blipFill>
        <p:spPr>
          <a:xfrm>
            <a:off x="971640" y="1052640"/>
            <a:ext cx="7272360" cy="55512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9"/>
          <p:cNvSpPr/>
          <p:nvPr/>
        </p:nvSpPr>
        <p:spPr>
          <a:xfrm>
            <a:off x="1837440" y="333360"/>
            <a:ext cx="520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Times New Roman"/>
              </a:rPr>
              <a:t>Ясная Поляна сегодн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6" descr="тула 023"/>
          <p:cNvPicPr/>
          <p:nvPr/>
        </p:nvPicPr>
        <p:blipFill>
          <a:blip r:embed="rId1"/>
          <a:stretch/>
        </p:blipFill>
        <p:spPr>
          <a:xfrm>
            <a:off x="4140360" y="476280"/>
            <a:ext cx="4429080" cy="39607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тула 026"/>
          <p:cNvPicPr/>
          <p:nvPr/>
        </p:nvPicPr>
        <p:blipFill>
          <a:blip r:embed="rId2"/>
          <a:stretch/>
        </p:blipFill>
        <p:spPr>
          <a:xfrm>
            <a:off x="395280" y="1844640"/>
            <a:ext cx="42624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5" descr="тула 024"/>
          <p:cNvPicPr/>
          <p:nvPr/>
        </p:nvPicPr>
        <p:blipFill>
          <a:blip r:embed="rId1"/>
          <a:stretch/>
        </p:blipFill>
        <p:spPr>
          <a:xfrm>
            <a:off x="179280" y="189000"/>
            <a:ext cx="4267440" cy="32004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тула 037"/>
          <p:cNvPicPr/>
          <p:nvPr/>
        </p:nvPicPr>
        <p:blipFill>
          <a:blip r:embed="rId2"/>
          <a:stretch/>
        </p:blipFill>
        <p:spPr>
          <a:xfrm>
            <a:off x="4572000" y="18900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тула 041"/>
          <p:cNvPicPr/>
          <p:nvPr/>
        </p:nvPicPr>
        <p:blipFill>
          <a:blip r:embed="rId3"/>
          <a:stretch/>
        </p:blipFill>
        <p:spPr>
          <a:xfrm>
            <a:off x="1979640" y="3500280"/>
            <a:ext cx="52563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33829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траница первая…</a:t>
            </a:r>
            <a:endParaRPr b="1" lang="en-US" sz="28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316872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еред вами круглые кирпичные башни, построенные дедом Толстого со стороны матери. От въезда к дому Толстого ведет широкая аллея со старинным названием  </a:t>
            </a:r>
            <a:r>
              <a:rPr b="1" i="1" lang="ru-RU" sz="2400" spc="-1" strike="noStrike">
                <a:solidFill>
                  <a:srgbClr val="003300"/>
                </a:solidFill>
                <a:latin typeface="Times New Roman"/>
              </a:rPr>
              <a:t>«Прешпект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08360" y="333000"/>
            <a:ext cx="48960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601"/>
              </a:spcBef>
              <a:buClr>
                <a:srgbClr val="a50021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ъезд в усадьб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492000" y="3716280"/>
            <a:ext cx="541188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Давайте пройдем по «Прешпекту»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11" descr="1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00720" y="771480"/>
            <a:ext cx="3743280" cy="2871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3" descr="11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0" y="4168800"/>
            <a:ext cx="345600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4" descr="тула 079"/>
          <p:cNvPicPr/>
          <p:nvPr/>
        </p:nvPicPr>
        <p:blipFill>
          <a:blip r:embed="rId1"/>
          <a:stretch/>
        </p:blipFill>
        <p:spPr>
          <a:xfrm rot="20632800">
            <a:off x="766800" y="849240"/>
            <a:ext cx="4122720" cy="30924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тула 080"/>
          <p:cNvPicPr/>
          <p:nvPr/>
        </p:nvPicPr>
        <p:blipFill>
          <a:blip r:embed="rId2"/>
          <a:stretch/>
        </p:blipFill>
        <p:spPr>
          <a:xfrm rot="600600">
            <a:off x="4705200" y="798120"/>
            <a:ext cx="4104000" cy="30783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тула 071"/>
          <p:cNvPicPr/>
          <p:nvPr/>
        </p:nvPicPr>
        <p:blipFill>
          <a:blip r:embed="rId3"/>
          <a:stretch/>
        </p:blipFill>
        <p:spPr>
          <a:xfrm>
            <a:off x="2627280" y="342900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5" descr="тула 058"/>
          <p:cNvPicPr/>
          <p:nvPr/>
        </p:nvPicPr>
        <p:blipFill>
          <a:blip r:embed="rId1"/>
          <a:stretch/>
        </p:blipFill>
        <p:spPr>
          <a:xfrm>
            <a:off x="395280" y="260280"/>
            <a:ext cx="8280360" cy="62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3492000" y="277920"/>
            <a:ext cx="519444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4" name="Object 6"/>
          <p:cNvGraphicFramePr/>
          <p:nvPr/>
        </p:nvGraphicFramePr>
        <p:xfrm>
          <a:off x="3851280" y="260280"/>
          <a:ext cx="5292720" cy="580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60280"/>
                    <a:ext cx="5292720" cy="580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Picture 7" descr="img"/>
          <p:cNvPicPr/>
          <p:nvPr/>
        </p:nvPicPr>
        <p:blipFill>
          <a:blip r:embed="rId3"/>
          <a:stretch/>
        </p:blipFill>
        <p:spPr>
          <a:xfrm>
            <a:off x="539640" y="1268280"/>
            <a:ext cx="4248360" cy="39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68000" y="259920"/>
            <a:ext cx="84344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сная Поляна – это живописный уголок в Тульской области, связанный с именем великого русского писател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.Н.Толстого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сная Поляна – это детство Толстого и его первые впечатления об окружающем мире, замечательная пора его молодости, первые литературные опыты и становление писателя, это зрелость и мировая известность. Это великая книга летописи жизни и творчества Л.Н.Толстого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наши дни Ясная Поляна - это крупнейший мемориальный музей страны. На площади около 400 гектаров сохраняются в историческом виде: жилой дом Л.Н.Толстого, надворные постройки, парк, лес, сад. Сюда едут нескончаемым потоком люди, чтобы лучше понять Толстого, по-настоящему его почувствова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мы с вами отправляемся в Ясную Поляну, чтобы бережно перелистать страницы книги летопис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.Н.Толстого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AutoShape 5"/>
          <p:cNvSpPr/>
          <p:nvPr/>
        </p:nvSpPr>
        <p:spPr>
          <a:xfrm>
            <a:off x="8172360" y="6453360"/>
            <a:ext cx="647640" cy="404640"/>
          </a:xfrm>
          <a:custGeom>
            <a:avLst/>
            <a:gdLst>
              <a:gd name="textAreaLeft" fmla="*/ 25920 w 647640"/>
              <a:gd name="textAreaRight" fmla="*/ 621720 w 647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4560" h="21600">
                <a:moveTo>
                  <a:pt x="0" y="0"/>
                </a:moveTo>
                <a:lnTo>
                  <a:pt x="34560" y="0"/>
                </a:lnTo>
                <a:lnTo>
                  <a:pt x="34560" y="21600"/>
                </a:lnTo>
                <a:lnTo>
                  <a:pt x="0" y="21600"/>
                </a:lnTo>
                <a:close/>
              </a:path>
              <a:path fill="lightenLess" w="34560" h="21600">
                <a:moveTo>
                  <a:pt x="0" y="0"/>
                </a:moveTo>
                <a:lnTo>
                  <a:pt x="34560" y="0"/>
                </a:lnTo>
                <a:lnTo>
                  <a:pt x="33160" y="1400"/>
                </a:lnTo>
                <a:lnTo>
                  <a:pt x="1400" y="1400"/>
                </a:lnTo>
                <a:close/>
              </a:path>
              <a:path fill="darken" w="34560" h="21600">
                <a:moveTo>
                  <a:pt x="34560" y="0"/>
                </a:moveTo>
                <a:lnTo>
                  <a:pt x="34560" y="21600"/>
                </a:lnTo>
                <a:lnTo>
                  <a:pt x="33160" y="20200"/>
                </a:lnTo>
                <a:lnTo>
                  <a:pt x="33160" y="1400"/>
                </a:lnTo>
                <a:close/>
              </a:path>
              <a:path fill="darkenLess" w="34560" h="21600">
                <a:moveTo>
                  <a:pt x="34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0" y="20200"/>
                </a:lnTo>
                <a:close/>
              </a:path>
              <a:path fill="lighten" w="34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Страница вторая…</a:t>
            </a:r>
            <a:br>
              <a:rPr sz="3600"/>
            </a:br>
            <a:r>
              <a:rPr b="1" i="1" lang="ru-RU" sz="4400" spc="-1" strike="noStrike">
                <a:solidFill>
                  <a:srgbClr val="a50021"/>
                </a:solidFill>
                <a:latin typeface="Times New Roman"/>
              </a:rPr>
              <a:t>Здесь родился Л. Н. Толстой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40" name="Picture 6" descr="Image_3s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258920" y="1628640"/>
            <a:ext cx="6335640" cy="44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ед вами дом в Ясной Поляне, в котором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cc6600"/>
                </a:solidFill>
                <a:latin typeface="Times New Roman"/>
              </a:rPr>
              <a:t>9 сентября 1828 года родился Л.Н.Толсто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где провел он свое детство. Построен он был его дедом Н.С.Волконским в первой четверти 19-го века. В нем Лев Толстой прожил около 50 лет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десь были написаны романы: « Война и мир», « Анна Каренина». В нем гостил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.С.Тургенев, А.А.Фет, Н.С.Лесков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.П.Чехов, И.Е.Репин и многие другие  известные деятели русской культуры. В нем жила вся семья Толстог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Познакомимся с ней…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02920" y="188640"/>
            <a:ext cx="664524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траница третья…</a:t>
            </a:r>
            <a:br>
              <a:rPr sz="4000"/>
            </a:br>
            <a:r>
              <a:rPr b="1" i="1" lang="ru-RU" sz="4000" spc="-1" strike="noStrike">
                <a:solidFill>
                  <a:srgbClr val="a50021"/>
                </a:solidFill>
                <a:latin typeface="Times New Roman"/>
              </a:rPr>
              <a:t>Семья Льва Толстого</a:t>
            </a:r>
            <a:endParaRPr b="1" lang="en-US" sz="40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50920" y="1197000"/>
            <a:ext cx="403848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нязь Н. С. Волконск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43280" y="1196640"/>
            <a:ext cx="40435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раф И. А. Толсто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50920" y="4005000"/>
            <a:ext cx="40384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тец - Н. И. Толсто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648320" y="3941280"/>
            <a:ext cx="4038480" cy="25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ать - М. Н. Волконск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8" descr="ded1"/>
          <p:cNvPicPr/>
          <p:nvPr/>
        </p:nvPicPr>
        <p:blipFill>
          <a:blip r:embed="rId1"/>
          <a:stretch/>
        </p:blipFill>
        <p:spPr>
          <a:xfrm>
            <a:off x="900000" y="1628640"/>
            <a:ext cx="1871640" cy="2376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ded2"/>
          <p:cNvPicPr/>
          <p:nvPr/>
        </p:nvPicPr>
        <p:blipFill>
          <a:blip r:embed="rId2"/>
          <a:stretch/>
        </p:blipFill>
        <p:spPr>
          <a:xfrm>
            <a:off x="5219640" y="1628640"/>
            <a:ext cx="1727280" cy="2376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0" descr="mama"/>
          <p:cNvPicPr/>
          <p:nvPr/>
        </p:nvPicPr>
        <p:blipFill>
          <a:blip r:embed="rId3"/>
          <a:stretch/>
        </p:blipFill>
        <p:spPr>
          <a:xfrm>
            <a:off x="5167440" y="4365720"/>
            <a:ext cx="1780920" cy="2303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1" descr="otec"/>
          <p:cNvPicPr/>
          <p:nvPr/>
        </p:nvPicPr>
        <p:blipFill>
          <a:blip r:embed="rId4"/>
          <a:stretch/>
        </p:blipFill>
        <p:spPr>
          <a:xfrm>
            <a:off x="784080" y="4437000"/>
            <a:ext cx="1784520" cy="22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79200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траница четвертая…</a:t>
            </a:r>
            <a:br>
              <a:rPr sz="2800"/>
            </a:br>
            <a:r>
              <a:rPr b="1" i="1" lang="ru-RU" sz="3200" spc="-1" strike="noStrike">
                <a:solidFill>
                  <a:srgbClr val="a50021"/>
                </a:solidFill>
                <a:latin typeface="Times New Roman"/>
              </a:rPr>
              <a:t>Во дворе дома Л. Н. Толстого</a:t>
            </a:r>
            <a:endParaRPr b="1" lang="en-US" sz="32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95280" y="1341360"/>
            <a:ext cx="3672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Это фасад дом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Л.Толстого, главный вход в дом. Весной и летом  его семья проводила большую часть времени на террасе и на площадке перед домом. Здесь отдыхали, пили чай, читали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Давайте войдем в до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6" descr="img(2)"/>
          <p:cNvPicPr/>
          <p:nvPr/>
        </p:nvPicPr>
        <p:blipFill>
          <a:blip r:embed="rId1"/>
          <a:stretch/>
        </p:blipFill>
        <p:spPr>
          <a:xfrm>
            <a:off x="4257720" y="1268280"/>
            <a:ext cx="484200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dd1"/>
                </a:solidFill>
                <a:latin typeface="Times New Roman"/>
              </a:rPr>
              <a:t>Страница пятая…</a:t>
            </a:r>
            <a:br>
              <a:rPr sz="3200"/>
            </a:br>
            <a:r>
              <a:rPr b="1" i="1" lang="ru-RU" sz="4000" spc="-1" strike="noStrike">
                <a:solidFill>
                  <a:srgbClr val="a50021"/>
                </a:solidFill>
                <a:latin typeface="Times New Roman"/>
              </a:rPr>
              <a:t>В доме Л. Н. Толстого</a:t>
            </a:r>
            <a:endParaRPr b="1" lang="en-US" sz="40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68360" y="1413000"/>
            <a:ext cx="7416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Библиотека писателя насчитывает около 23000 томов. Есть и редкие издания книг 18, 19 веков, издания на различных языка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Picture 8" descr="perednaya2"/>
          <p:cNvPicPr/>
          <p:nvPr/>
        </p:nvPicPr>
        <p:blipFill>
          <a:blip r:embed="rId1"/>
          <a:stretch/>
        </p:blipFill>
        <p:spPr>
          <a:xfrm>
            <a:off x="1835280" y="3213000"/>
            <a:ext cx="539892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277560"/>
            <a:ext cx="7848360" cy="4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ойдем в гостиную…</a:t>
            </a:r>
            <a:endParaRPr b="1" lang="en-US" sz="32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59" name="Picture 8" descr="gostinaya2"/>
          <p:cNvPicPr/>
          <p:nvPr/>
        </p:nvPicPr>
        <p:blipFill>
          <a:blip r:embed="rId1"/>
          <a:stretch/>
        </p:blipFill>
        <p:spPr>
          <a:xfrm>
            <a:off x="179280" y="1052640"/>
            <a:ext cx="3959280" cy="5040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zal%202"/>
          <p:cNvPicPr/>
          <p:nvPr/>
        </p:nvPicPr>
        <p:blipFill>
          <a:blip r:embed="rId2"/>
          <a:stretch/>
        </p:blipFill>
        <p:spPr>
          <a:xfrm>
            <a:off x="4356000" y="1557360"/>
            <a:ext cx="439272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0T15:20:53Z</dcterms:created>
  <dc:creator>User</dc:creator>
  <dc:description/>
  <dc:language>en-US</dc:language>
  <cp:lastModifiedBy>Администратор</cp:lastModifiedBy>
  <dcterms:modified xsi:type="dcterms:W3CDTF">2020-04-04T04:05:34Z</dcterms:modified>
  <cp:revision>112</cp:revision>
  <dc:subject/>
  <dc:title>Заочная экскурсия по Ясной Поляне.</dc:title>
</cp:coreProperties>
</file>