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32.gif" ContentType="image/gif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EB27-550F-4E5F-945D-CBF875F9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C1C0-3403-4A7E-BA47-F53A31B2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033-780D-48C5-B332-1BB963A6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5AC-2800-4118-AFB7-A56BF514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6B83-5168-4396-944A-9F8888D7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EE98-2A16-48C9-A3F2-11EC5BF5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E09A-0E4F-45AE-A114-D01C35BB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451F-D32A-4720-A4CF-6DC21A40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9D33-D80A-46C5-8C15-196A3341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9C0F-60DF-41C4-9706-C028181A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E170-6618-47B1-9C09-3EECA8D3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EE4-082C-4D3C-98B0-697853D4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E279-59E9-4C2F-8571-525FCFE0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43C1-9E81-400B-8670-875129E2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0A07-4118-4714-B0E5-10628C54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C935-E1FF-498F-9411-4EBBCB14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65D6-DC35-40CD-9789-4B99BCFE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02F-FDCF-4F48-BBC7-E34F48A1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706D-DD29-4ECE-BAE3-EE37B2D7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7701-C56A-45E8-9077-9A6B3FF8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61D4-91BE-421C-856A-F560A2A0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AEF5-E1CF-4A44-A488-9F54D2EC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28D-7350-43B7-87B7-80E3954B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C10-E3DC-4B42-80A9-DFFDE4A7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308D-CF7C-4BBC-9E8D-17EB065FB8D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467C-39B5-411E-B042-CB902D2C986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468360" y="1700280"/>
            <a:ext cx="8207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ждународный день детской книги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cc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403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908000" y="5805360"/>
            <a:ext cx="540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а – путешеств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3640" y="0"/>
            <a:ext cx="85690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ой или иной степени читателям России известно творчество лауреатов премии - немецких писателей Джеймса Крюса («Тим Талер, или проданный смех», «Мой прадедушка, герои и я») и Эриха Кестнера (1899-1974)«Кнопка и Антон», «Проделки близнецов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Шведской писательницы Марии Грипе («Эльвис Карлссон», «Эльвис! Эльвис!», «Просто Эльвис»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умила Ржиги из Чехословак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встрийской писательницы Кристине Нестлингер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годня – более сорока лауреатов премии Х.К.Андерсена. К сожалению, творчество многих нам совсем неизвестно – их книги на русский язык не переводилис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-603360"/>
            <a:ext cx="5904000" cy="74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За международный вклад в дело иллюстрации детских книг, Золотой медалью в 1976 г. удостоена замечательная русская художница, книжный график Татьяна Алексеевна Маврина(1902-1996)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5" descr="Татьяна Алексеевна Маврина "/>
          <p:cNvPicPr/>
          <p:nvPr/>
        </p:nvPicPr>
        <p:blipFill>
          <a:blip r:embed="rId1"/>
          <a:stretch/>
        </p:blipFill>
        <p:spPr>
          <a:xfrm>
            <a:off x="5651640" y="1268280"/>
            <a:ext cx="32414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6227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бое место в творчестве Т. А. Мавриной занимали сказки Пушкина. Она создала в своих произведениях самобытные образы знаменитых «ученых» котов, сказоч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вушек – лебедей, иллюстрировала собственные книги: «Сказочные звери», «Сказочная азбука», «Пряники пекутся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у в лапы не даются»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5" descr="pic35"/>
          <p:cNvPicPr/>
          <p:nvPr/>
        </p:nvPicPr>
        <p:blipFill>
          <a:blip r:embed="rId1"/>
          <a:stretch/>
        </p:blipFill>
        <p:spPr>
          <a:xfrm>
            <a:off x="6516720" y="333360"/>
            <a:ext cx="2303280" cy="3097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pic34"/>
          <p:cNvPicPr/>
          <p:nvPr/>
        </p:nvPicPr>
        <p:blipFill>
          <a:blip r:embed="rId2"/>
          <a:stretch/>
        </p:blipFill>
        <p:spPr>
          <a:xfrm>
            <a:off x="5867280" y="3645000"/>
            <a:ext cx="2233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 Сказка моей жизни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Picture 6" descr="attach"/>
          <p:cNvPicPr/>
          <p:nvPr/>
        </p:nvPicPr>
        <p:blipFill>
          <a:blip r:embed="rId1"/>
          <a:stretch/>
        </p:blipFill>
        <p:spPr>
          <a:xfrm>
            <a:off x="2195640" y="1143000"/>
            <a:ext cx="498132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5068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Х.К.Андерсе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явился на свет 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аленьком датско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родке Оденсе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адалк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дсказала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ему сужден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славить свою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одину. Так оно 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шло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На рис. – домик, где род. Андерсен 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9" descr="рис6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38275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ою автобиографию Андерсен назвал «Сказка моей жизни». Пожалуй, точнее не скажешь. Но не только жизнь самого писателя была сказкой. Любое существо, любой предмет или явление рассказывали ему свою историю, а он пересказывал её своим читателя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6" descr="image001"/>
          <p:cNvPicPr/>
          <p:nvPr/>
        </p:nvPicPr>
        <p:blipFill>
          <a:blip r:embed="rId1"/>
          <a:stretch/>
        </p:blipFill>
        <p:spPr>
          <a:xfrm>
            <a:off x="5472000" y="0"/>
            <a:ext cx="3672000" cy="3960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pic7"/>
          <p:cNvPicPr/>
          <p:nvPr/>
        </p:nvPicPr>
        <p:blipFill>
          <a:blip r:embed="rId2"/>
          <a:stretch/>
        </p:blipFill>
        <p:spPr>
          <a:xfrm>
            <a:off x="4572000" y="4076640"/>
            <a:ext cx="4014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из любимых героинь писателя – Русалочка – стала символом датской столицы и уже много лет сидит на берегу и смотрит вдаль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9" descr="0_527d_912c7506_L"/>
          <p:cNvPicPr/>
          <p:nvPr/>
        </p:nvPicPr>
        <p:blipFill>
          <a:blip r:embed="rId1"/>
          <a:stretch/>
        </p:blipFill>
        <p:spPr>
          <a:xfrm>
            <a:off x="4572000" y="26028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356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чане чтят память своего великого соотечественника. В столице Дании Копенгагене в Королевском саду стоит памятник Х.К.Андерсену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15" descr="Рисунок1"/>
          <p:cNvPicPr/>
          <p:nvPr/>
        </p:nvPicPr>
        <p:blipFill>
          <a:blip r:embed="rId1"/>
          <a:stretch/>
        </p:blipFill>
        <p:spPr>
          <a:xfrm>
            <a:off x="4390920" y="620640"/>
            <a:ext cx="4753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495680" cy="73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родном городе Оденсе, в саду, как его еще называют, Андерсена, или, в саду Сказки, стоит памятник писателю и скульптура «Дикие лебеди», созданная по мотивам его одноименного произвед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8" descr="рис7"/>
          <p:cNvPicPr/>
          <p:nvPr/>
        </p:nvPicPr>
        <p:blipFill>
          <a:blip r:embed="rId1"/>
          <a:stretch/>
        </p:blipFill>
        <p:spPr>
          <a:xfrm>
            <a:off x="4356000" y="2637000"/>
            <a:ext cx="4498920" cy="3933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pic2"/>
          <p:cNvPicPr/>
          <p:nvPr/>
        </p:nvPicPr>
        <p:blipFill>
          <a:blip r:embed="rId2"/>
          <a:stretch/>
        </p:blipFill>
        <p:spPr>
          <a:xfrm>
            <a:off x="6012000" y="0"/>
            <a:ext cx="2303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5759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-то в детстве Андерсен спросил отца, что такое сказка. Тот ответил: «Если сказка настоящая, в ней прекрасно сочетаются действительная жизнь и та, к которой мы стремимся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амой удивительной сказкой является жизнь человека» - так любил повторять Андерсен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8" descr="рис8"/>
          <p:cNvPicPr/>
          <p:nvPr/>
        </p:nvPicPr>
        <p:blipFill>
          <a:blip r:embed="rId1"/>
          <a:stretch/>
        </p:blipFill>
        <p:spPr>
          <a:xfrm>
            <a:off x="5724360" y="333360"/>
            <a:ext cx="34196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апреля – Международный день детской книг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 Сказка моей жизни» - слово о Х.К. Андерсен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еликий сказочник» - литературная иг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78598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цветущей Дании, где свет увидел я,                      Берет мой мир своё начало:                                         На датском  языке мать песни мне певала,                                                Шептала сказки мне родимая моя...                       Люблю тебя, родных морей волна,                         Люблю я вас, старинные курганы,                                  Цветы садов, родных лесов поляны,                            Люблю тебя, отцов моих страна!                                                        Х.К.Андерсен.                                                               «Дания – моя родина»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рис10"/>
          <p:cNvPicPr/>
          <p:nvPr/>
        </p:nvPicPr>
        <p:blipFill>
          <a:blip r:embed="rId1"/>
          <a:stretch/>
        </p:blipFill>
        <p:spPr>
          <a:xfrm>
            <a:off x="826920" y="4149720"/>
            <a:ext cx="3600720" cy="2708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205053OrIx"/>
          <p:cNvPicPr/>
          <p:nvPr/>
        </p:nvPicPr>
        <p:blipFill>
          <a:blip r:embed="rId2"/>
          <a:stretch/>
        </p:blipFill>
        <p:spPr>
          <a:xfrm>
            <a:off x="5148360" y="3573360"/>
            <a:ext cx="36734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Великий сказочник» - литературная игр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Звездный час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Бюро находок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гадай сказку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ртреты героев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то и о ком говорит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4" descr="9785040057030"/>
          <p:cNvPicPr/>
          <p:nvPr/>
        </p:nvPicPr>
        <p:blipFill>
          <a:blip r:embed="rId1"/>
          <a:stretch/>
        </p:blipFill>
        <p:spPr>
          <a:xfrm>
            <a:off x="5796000" y="1557360"/>
            <a:ext cx="3097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Звездный час»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кой стране жил великий сказочник Х.К.АНДЕРСЕН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предлагаемых вариантов ответов, выберите верный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ве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рм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ран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рвег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Picture 5" descr="pic8m"/>
          <p:cNvPicPr/>
          <p:nvPr/>
        </p:nvPicPr>
        <p:blipFill>
          <a:blip r:embed="rId1"/>
          <a:stretch/>
        </p:blipFill>
        <p:spPr>
          <a:xfrm>
            <a:off x="3492360" y="3500280"/>
            <a:ext cx="53276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пяти произведений одно не принадлежит перу Х.К.Андерсена. Назовите его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ле – Лукойе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нцесса на горошине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нежная королев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адкий утенок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Золотой гусь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6" descr="pic24"/>
          <p:cNvPicPr/>
          <p:nvPr/>
        </p:nvPicPr>
        <p:blipFill>
          <a:blip r:embed="rId1"/>
          <a:stretch/>
        </p:blipFill>
        <p:spPr>
          <a:xfrm>
            <a:off x="6659640" y="2565360"/>
            <a:ext cx="22334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893080" cy="73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з героев сказок Андерсена мог сказать о себе так: «Это было тогда, когда на наших окнах зацвели прекрасные розы. Мы жили дружно и весело, но однажды мне в глаз попал осколок зеркала троллей, и я всё стал видеть злым и безобразным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р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юймовоч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лиз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да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4" descr="1732423"/>
          <p:cNvPicPr/>
          <p:nvPr/>
        </p:nvPicPr>
        <p:blipFill>
          <a:blip r:embed="rId1"/>
          <a:stretch/>
        </p:blipFill>
        <p:spPr>
          <a:xfrm>
            <a:off x="5867280" y="3573360"/>
            <a:ext cx="27403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Бюро находок»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о определить, кому принадлежат следующие предметы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нти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ле – Лукой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оши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цессе, «Принцесса на горошине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н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ю, «Снежная королев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лупа грецкого орех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юймовочк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мажный корабли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датику, «Стойкий оловянный   солдатик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апи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лизе, «Дикие лебеди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ая и красная роз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рде и Каю, «Снежная королев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зыкальный горшоче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цу, «Свинопас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Угадай сказку»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о определить, к какой сказке относятся следующие подборки слов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, снег, стекло, зеркало, утро, роза, ворона, олень, дружб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нежная королев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юфяк, карета, кресло, ливень, калоши, принцес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нцесса на горошине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Портреты героев»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каких персонажах идет речь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 самой чашечке цветка сидел маленький человечек, беленький и прозрачный, точно хрустальный. На голове у него сияла корона, за плечами развевались блестящие крылышки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льф, «Дюймовочк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821844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а была так прелестна, так нежна, вся из ослепительного льда и всё – таки живая! Глаза её сверкали как звёзды, но в них не было ни теплоты, ни красоты...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нежная королев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2 апреля – Международный день детской книг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шением ЮНЕСКО 2 апреля – день рождения Х.К.Андерсена стал Международным днем детской книг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т день один раз в два года присуждается детским писателям и художникам - иллюстраторам главная награда – Международная премия имени Х.К.Андерсе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Кто и о ком говорит»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Я бы ни за что не рассталась с тобой. Уж очень смешно ты мотаешь головой и брыкаешься, когда я щекочу тебя острым ножом. Ну, да так и быть! Я отпускаю тебя на вольную вол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ленькая разбойница о северном олене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нежная королев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Летите на все четыре стороны и промышляйте о себе сами! – сказала она. –Летите большими птицами без голоса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ая королева одиннадцати братьям из сказки «Дикие лебеди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067280" y="259920"/>
            <a:ext cx="5076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..Вряд ли найдется человек, который не знал бы Ханса Кристиана Андерсена. Он прославился во всём мире как гениальный сказочник. Между тем он написал пять романов, пьесы, стихи, путевые замет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исатель родился 2 апреля 1805 года в Дании, в старинном городе Оденсе, на острове Фюн..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Picture 4" descr="destiny_photo"/>
          <p:cNvPicPr/>
          <p:nvPr/>
        </p:nvPicPr>
        <p:blipFill>
          <a:blip r:embed="rId1"/>
          <a:stretch/>
        </p:blipFill>
        <p:spPr>
          <a:xfrm>
            <a:off x="250920" y="620640"/>
            <a:ext cx="3384360" cy="5616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svecha1"/>
          <p:cNvPicPr/>
          <p:nvPr/>
        </p:nvPicPr>
        <p:blipFill>
          <a:blip r:embed="rId2"/>
          <a:stretch/>
        </p:blipFill>
        <p:spPr>
          <a:xfrm>
            <a:off x="8172360" y="4581360"/>
            <a:ext cx="9716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067280" y="3573360"/>
            <a:ext cx="4897440" cy="32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ю вам новых встреч с хорошим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брыми книгами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3" name="Picture 4" descr="116"/>
          <p:cNvPicPr/>
          <p:nvPr/>
        </p:nvPicPr>
        <p:blipFill>
          <a:blip r:embed="rId1"/>
          <a:stretch/>
        </p:blipFill>
        <p:spPr>
          <a:xfrm>
            <a:off x="324000" y="549360"/>
            <a:ext cx="3400200" cy="6048360"/>
          </a:xfrm>
          <a:prstGeom prst="rect">
            <a:avLst/>
          </a:prstGeom>
          <a:ln w="0">
            <a:noFill/>
          </a:ln>
        </p:spPr>
      </p:pic>
      <p:sp>
        <p:nvSpPr>
          <p:cNvPr id="234" name="WordArt 5"/>
          <p:cNvSpPr txBox="1"/>
          <p:nvPr/>
        </p:nvSpPr>
        <p:spPr>
          <a:xfrm>
            <a:off x="4140360" y="333360"/>
            <a:ext cx="4319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рогие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читатели!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396360" cy="74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мия имени Х.К.Андерсена, которую называют «Малой Нобелевской премией» является самой престижной международной наградо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ё история неразрывно связана с именем выдающейся деятельницы мировой детской литературы Еллы Лепман (1891 -1970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енно Елла Лепман способствовала учреждению в 1956 году Международной премии имени Х.К.Андерсена , которая присуждается за выдающийся вклад в детскую литературу с вручением Золотой медали с профилем великого сказочн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022"/>
          <p:cNvPicPr/>
          <p:nvPr/>
        </p:nvPicPr>
        <p:blipFill>
          <a:blip r:embed="rId1"/>
          <a:stretch/>
        </p:blipFill>
        <p:spPr>
          <a:xfrm>
            <a:off x="684360" y="0"/>
            <a:ext cx="777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Золотой» список лауреатов премии Андерсена: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5184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леонор Фарджон (1881-1956) («Седьмая принцесса», «Хочу луну»), 1956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ая любимая и почитаемая сказочница в Англии стала первым лауреатом прем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5" descr="Элеанор Фарджон"/>
          <p:cNvPicPr/>
          <p:nvPr/>
        </p:nvPicPr>
        <p:blipFill>
          <a:blip r:embed="rId1"/>
          <a:stretch/>
        </p:blipFill>
        <p:spPr>
          <a:xfrm>
            <a:off x="6877080" y="3284640"/>
            <a:ext cx="1979640" cy="3311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pic33"/>
          <p:cNvPicPr/>
          <p:nvPr/>
        </p:nvPicPr>
        <p:blipFill>
          <a:blip r:embed="rId2"/>
          <a:stretch/>
        </p:blipFill>
        <p:spPr>
          <a:xfrm>
            <a:off x="4572000" y="1628640"/>
            <a:ext cx="2457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211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стрид Линдгрен (1907-2002),    «Пеппи Длинный», «Малыш и Карлсон», «Расмусс - Бродяга», «Братья Львиное Сердце»,    «Эмиль из Лённеберги»,   «Рони, дочь разбойника». 1958 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ногие поколения читателей России знают и любят литературных героев шведской писательницы, обаятельных озорников и мечтателе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5" descr=" Астрид Линдгрен"/>
          <p:cNvPicPr/>
          <p:nvPr/>
        </p:nvPicPr>
        <p:blipFill>
          <a:blip r:embed="rId1"/>
          <a:stretch/>
        </p:blipFill>
        <p:spPr>
          <a:xfrm>
            <a:off x="4284720" y="0"/>
            <a:ext cx="3708360" cy="3184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pic31"/>
          <p:cNvPicPr/>
          <p:nvPr/>
        </p:nvPicPr>
        <p:blipFill>
          <a:blip r:embed="rId2"/>
          <a:stretch/>
        </p:blipFill>
        <p:spPr>
          <a:xfrm>
            <a:off x="4067280" y="3645000"/>
            <a:ext cx="2449440" cy="3213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pic30"/>
          <p:cNvPicPr/>
          <p:nvPr/>
        </p:nvPicPr>
        <p:blipFill>
          <a:blip r:embed="rId3"/>
          <a:stretch/>
        </p:blipFill>
        <p:spPr>
          <a:xfrm>
            <a:off x="6516720" y="3141720"/>
            <a:ext cx="22669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5508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уве Янссон (1914-2001), «Шляпа Волшебника», «Мемуары папы Муми - тролля», «Опасное лето», «Волшебная зима», «Папа и море».  1966 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вестная финская писательница сама создавала рисунки к своим произведениям, и этот своеобразный зрительский ряд помогает читателю активнее воспринимать её творчеств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5" descr="Туве Янссон"/>
          <p:cNvPicPr/>
          <p:nvPr/>
        </p:nvPicPr>
        <p:blipFill>
          <a:blip r:embed="rId1"/>
          <a:stretch/>
        </p:blipFill>
        <p:spPr>
          <a:xfrm>
            <a:off x="6694560" y="0"/>
            <a:ext cx="2449440" cy="2665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pic27"/>
          <p:cNvPicPr/>
          <p:nvPr/>
        </p:nvPicPr>
        <p:blipFill>
          <a:blip r:embed="rId2"/>
          <a:stretch/>
        </p:blipFill>
        <p:spPr>
          <a:xfrm>
            <a:off x="5435640" y="2205000"/>
            <a:ext cx="2016000" cy="2735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pic28"/>
          <p:cNvPicPr/>
          <p:nvPr/>
        </p:nvPicPr>
        <p:blipFill>
          <a:blip r:embed="rId3"/>
          <a:stretch/>
        </p:blipFill>
        <p:spPr>
          <a:xfrm>
            <a:off x="6804000" y="3716280"/>
            <a:ext cx="20509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536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жанни Родари (1920-1980). «Приключения Чипполино», «Путешествие Голубой стрелы», «Джельсомино в стране лжецов», «Сказки по телефону», «Торт в небе». Его книги по праву вошли в золотой фонд мировой детской литературы. Талантливый итальянский писатель Золотой медали Х.К.Андерсена удостоен в 1970 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5" descr="Джанни Родари"/>
          <p:cNvPicPr/>
          <p:nvPr/>
        </p:nvPicPr>
        <p:blipFill>
          <a:blip r:embed="rId1"/>
          <a:stretch/>
        </p:blipFill>
        <p:spPr>
          <a:xfrm>
            <a:off x="6227640" y="260280"/>
            <a:ext cx="2592360" cy="295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pic38"/>
          <p:cNvPicPr/>
          <p:nvPr/>
        </p:nvPicPr>
        <p:blipFill>
          <a:blip r:embed="rId2"/>
          <a:stretch/>
        </p:blipFill>
        <p:spPr>
          <a:xfrm>
            <a:off x="7234200" y="3760920"/>
            <a:ext cx="1909800" cy="3097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pic39"/>
          <p:cNvPicPr/>
          <p:nvPr/>
        </p:nvPicPr>
        <p:blipFill>
          <a:blip r:embed="rId3"/>
          <a:stretch/>
        </p:blipFill>
        <p:spPr>
          <a:xfrm>
            <a:off x="5292720" y="2997360"/>
            <a:ext cx="21225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7:04:09Z</dcterms:created>
  <dc:creator>1</dc:creator>
  <dc:description/>
  <dc:language>en-US</dc:language>
  <cp:lastModifiedBy>наталия</cp:lastModifiedBy>
  <dcterms:modified xsi:type="dcterms:W3CDTF">2010-03-31T17:15:21Z</dcterms:modified>
  <cp:revision>22</cp:revision>
  <dc:subject/>
  <dc:title>Международный день детской книги</dc:title>
</cp:coreProperties>
</file>