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1.jpeg" ContentType="image/jpeg"/>
  <Override PartName="/ppt/media/image20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32.gif" ContentType="image/gif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CDAF-F5A3-4226-9C65-3A5B5F9DA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AAB5-12BE-4138-90EB-066DC5DDF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92DE-5117-4E60-A554-F707E3687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1757-3ECF-4466-A0BE-C7622D3FD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081C2-CBF1-445C-A140-F8C267E76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BAEA9-C95D-4475-BC3E-43F74E169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952E1-10EF-4CCE-AFE1-6A26182AF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38DC1-21F0-403A-8A82-86B125D7A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73022-4E70-4713-BD00-D41D9B6C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E3F24-9FE6-4796-AC1A-4F024A8A7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A5B3C-0CE4-4AB7-8F67-2FA0DC73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841D-39C8-4EFD-8128-A2AD01947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A29DA-3E02-4921-BEFF-540C1630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AA971-77C6-47F4-AEE2-876DEA57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2FDF6-1465-4160-9E7A-D22ACE5DC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B7C54-01FB-4BC3-92C3-2887F92C9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B8E99-E489-4790-A680-5FA6683A5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9C0D-BC55-4486-9C7E-E586702D5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3647-0623-4BAD-8CC1-BF16C5257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B313-C7DE-42E9-86C7-39418D7AE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AA83-0C9C-487E-9308-703EDCDE3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4843-F117-4CFA-B402-F3ACC504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DD46-F5B2-41D7-8FC1-B263D613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023B-122C-4ACD-A8FF-BC3FFF39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3C2EE-1107-4D03-8FAF-A7A49B28B9C9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B8F91-8EA6-45F7-B08C-FDA11CAC9AB4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WordArt 4"/>
          <p:cNvSpPr txBox="1"/>
          <p:nvPr/>
        </p:nvSpPr>
        <p:spPr>
          <a:xfrm>
            <a:off x="468360" y="1700280"/>
            <a:ext cx="82072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ffff"/>
                  </a:solidFill>
                  <a:miter/>
                </a:ln>
                <a:solidFill>
                  <a:srgbClr val="00cc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еждународный день детской книги</a:t>
            </a:r>
            <a:endParaRPr b="0" lang="en-US" sz="1800" spc="1" strike="noStrike">
              <a:ln w="12600">
                <a:solidFill>
                  <a:srgbClr val="00ffff"/>
                </a:solidFill>
                <a:miter/>
              </a:ln>
              <a:solidFill>
                <a:srgbClr val="00cc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1403280" y="48690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1908000" y="5805360"/>
            <a:ext cx="540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гра – путешеств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23640" y="0"/>
            <a:ext cx="856908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той или иной степени читателям России известно творчество лауреатов премии - немецких писателей Джеймса Крюса («Тим Талер, или проданный смех», «Мой прадедушка, герои и я») и Эриха Кестнера (1899-1974)«Кнопка и Антон», «Проделки близнецов»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Шведской писательницы Марии Грипе («Эльвис Карлссон», «Эльвис! Эльвис!», «Просто Эльвис»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огумила Ржиги из Чехословаки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встрийской писательницы Кристине Нестлингер..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егодня – более сорока лауреатов премии Х.К.Андерсена. К сожалению, творчество многих нам совсем неизвестно – их книги на русский язык не переводились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0" y="-603360"/>
            <a:ext cx="5904000" cy="746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За международный вклад в дело иллюстрации детских книг, Золотой медалью в 1976 г. удостоена замечательная русская художница, книжный график Татьяна Алексеевна Маврина(1902-1996).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Picture 5" descr="Татьяна Алексеевна Маврина "/>
          <p:cNvPicPr/>
          <p:nvPr/>
        </p:nvPicPr>
        <p:blipFill>
          <a:blip r:embed="rId1"/>
          <a:stretch/>
        </p:blipFill>
        <p:spPr>
          <a:xfrm>
            <a:off x="5651640" y="1268280"/>
            <a:ext cx="324144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-360" y="259920"/>
            <a:ext cx="622764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обое место в творчестве Т. А. Мавриной занимали сказки Пушкина. Она создала в своих произведениях самобытные образы знаменитых «ученых» котов, сказочны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вушек – лебедей, иллюстрировала собственные книги: «Сказочные звери», «Сказочная азбука», «Пряники пекутся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ту в лапы не даются»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6" name="Picture 5" descr="pic35"/>
          <p:cNvPicPr/>
          <p:nvPr/>
        </p:nvPicPr>
        <p:blipFill>
          <a:blip r:embed="rId1"/>
          <a:stretch/>
        </p:blipFill>
        <p:spPr>
          <a:xfrm>
            <a:off x="6516720" y="333360"/>
            <a:ext cx="2303280" cy="3097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pic34"/>
          <p:cNvPicPr/>
          <p:nvPr/>
        </p:nvPicPr>
        <p:blipFill>
          <a:blip r:embed="rId2"/>
          <a:stretch/>
        </p:blipFill>
        <p:spPr>
          <a:xfrm>
            <a:off x="5867280" y="3645000"/>
            <a:ext cx="22338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« Сказка моей жизни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9" name="Picture 6" descr="attach"/>
          <p:cNvPicPr/>
          <p:nvPr/>
        </p:nvPicPr>
        <p:blipFill>
          <a:blip r:embed="rId1"/>
          <a:stretch/>
        </p:blipFill>
        <p:spPr>
          <a:xfrm>
            <a:off x="2195640" y="1143000"/>
            <a:ext cx="4981320" cy="53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-360" y="0"/>
            <a:ext cx="45068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Х.К.Андерсе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явился на свет в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аленьком датско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ородке Оденсе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адалка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едсказала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 ему суждено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ославить свою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одину. Так оно и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ышло..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(На рис. – домик, где род. Андерсен 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2" name="Picture 9" descr="рис6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382752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вою автобиографию Андерсен назвал «Сказка моей жизни». Пожалуй, точнее не скажешь. Но не только жизнь самого писателя была сказкой. Любое существо, любой предмет или явление рассказывали ему свою историю, а он пересказывал её своим читателям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4" name="Picture 6" descr="image001"/>
          <p:cNvPicPr/>
          <p:nvPr/>
        </p:nvPicPr>
        <p:blipFill>
          <a:blip r:embed="rId1"/>
          <a:stretch/>
        </p:blipFill>
        <p:spPr>
          <a:xfrm>
            <a:off x="5472000" y="0"/>
            <a:ext cx="3672000" cy="39607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pic7"/>
          <p:cNvPicPr/>
          <p:nvPr/>
        </p:nvPicPr>
        <p:blipFill>
          <a:blip r:embed="rId2"/>
          <a:stretch/>
        </p:blipFill>
        <p:spPr>
          <a:xfrm>
            <a:off x="4572000" y="4076640"/>
            <a:ext cx="401472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а из любимых героинь писателя – Русалочка – стала символом датской столицы и уже много лет сидит на берегу и смотрит вдаль.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7" name="Picture 9" descr="0_527d_912c7506_L"/>
          <p:cNvPicPr/>
          <p:nvPr/>
        </p:nvPicPr>
        <p:blipFill>
          <a:blip r:embed="rId1"/>
          <a:stretch/>
        </p:blipFill>
        <p:spPr>
          <a:xfrm>
            <a:off x="4572000" y="26028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4356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тчане чтят память своего великого соотечественника. В столице Дании Копенгагене в Королевском саду стоит памятник Х.К.Андерсену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9" name="Picture 15" descr="Рисунок1"/>
          <p:cNvPicPr/>
          <p:nvPr/>
        </p:nvPicPr>
        <p:blipFill>
          <a:blip r:embed="rId1"/>
          <a:stretch/>
        </p:blipFill>
        <p:spPr>
          <a:xfrm>
            <a:off x="4390920" y="620640"/>
            <a:ext cx="475308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-360"/>
            <a:ext cx="4495680" cy="73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в родном городе Оденсе, в саду, как его еще называют, Андерсена, или, в саду Сказки, стоит памятник писателю и скульптура «Дикие лебеди», созданная по мотивам его одноименного произведени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1" name="Picture 8" descr="рис7"/>
          <p:cNvPicPr/>
          <p:nvPr/>
        </p:nvPicPr>
        <p:blipFill>
          <a:blip r:embed="rId1"/>
          <a:stretch/>
        </p:blipFill>
        <p:spPr>
          <a:xfrm>
            <a:off x="4356000" y="2637000"/>
            <a:ext cx="4498920" cy="39337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9" descr="pic2"/>
          <p:cNvPicPr/>
          <p:nvPr/>
        </p:nvPicPr>
        <p:blipFill>
          <a:blip r:embed="rId2"/>
          <a:stretch/>
        </p:blipFill>
        <p:spPr>
          <a:xfrm>
            <a:off x="6012000" y="0"/>
            <a:ext cx="23032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0" y="0"/>
            <a:ext cx="57592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-то в детстве Андерсен спросил отца, что такое сказка. Тот ответил: «Если сказка настоящая, в ней прекрасно сочетаются действительная жизнь и та, к которой мы стремимся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амой удивительной сказкой является жизнь человека» - так любил повторять Андерсен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4" name="Picture 8" descr="рис8"/>
          <p:cNvPicPr/>
          <p:nvPr/>
        </p:nvPicPr>
        <p:blipFill>
          <a:blip r:embed="rId1"/>
          <a:stretch/>
        </p:blipFill>
        <p:spPr>
          <a:xfrm>
            <a:off x="5724360" y="333360"/>
            <a:ext cx="341964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 апреля – Международный день детской книг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 Сказка моей жизни» - слово о Х.К. Андерсен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еликий сказочник» - литературная игр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6840" y="260280"/>
            <a:ext cx="78598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цветущей Дании, где свет увидел я,                      Берет мой мир своё начало:                                         На датском  языке мать песни мне певала,                                                Шептала сказки мне родимая моя...                       Люблю тебя, родных морей волна,                         Люблю я вас, старинные курганы,                                  Цветы садов, родных лесов поляны,                            Люблю тебя, отцов моих страна!                                                        Х.К.Андерсен.                                                               «Дания – моя родина»  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Picture 4" descr="рис10"/>
          <p:cNvPicPr/>
          <p:nvPr/>
        </p:nvPicPr>
        <p:blipFill>
          <a:blip r:embed="rId1"/>
          <a:stretch/>
        </p:blipFill>
        <p:spPr>
          <a:xfrm>
            <a:off x="826920" y="4149720"/>
            <a:ext cx="3600720" cy="27082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205053OrIx"/>
          <p:cNvPicPr/>
          <p:nvPr/>
        </p:nvPicPr>
        <p:blipFill>
          <a:blip r:embed="rId2"/>
          <a:stretch/>
        </p:blipFill>
        <p:spPr>
          <a:xfrm>
            <a:off x="5148360" y="3573360"/>
            <a:ext cx="367344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«Великий сказочник» - литературная игра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Звездный час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Бюро находок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Угадай сказку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ртреты героев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Кто и о ком говорит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0" name="Picture 4" descr="9785040057030"/>
          <p:cNvPicPr/>
          <p:nvPr/>
        </p:nvPicPr>
        <p:blipFill>
          <a:blip r:embed="rId1"/>
          <a:stretch/>
        </p:blipFill>
        <p:spPr>
          <a:xfrm>
            <a:off x="5796000" y="1557360"/>
            <a:ext cx="309708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«Звездный час»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акой стране жил великий сказочник Х.К.АНДЕРСЕН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предлагаемых вариантов ответов, выберите верный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вец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ерма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Франц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рвег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3" name="Picture 5" descr="pic8m"/>
          <p:cNvPicPr/>
          <p:nvPr/>
        </p:nvPicPr>
        <p:blipFill>
          <a:blip r:embed="rId1"/>
          <a:stretch/>
        </p:blipFill>
        <p:spPr>
          <a:xfrm>
            <a:off x="3492360" y="3500280"/>
            <a:ext cx="532764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7" dur="5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пяти произведений одно не принадлежит перу Х.К.Андерсена. Назовите его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ле – Лукойе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ринцесса на горошине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нежная королева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Гадкий утенок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Золотой гусь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5" name="Picture 6" descr="pic24"/>
          <p:cNvPicPr/>
          <p:nvPr/>
        </p:nvPicPr>
        <p:blipFill>
          <a:blip r:embed="rId1"/>
          <a:stretch/>
        </p:blipFill>
        <p:spPr>
          <a:xfrm>
            <a:off x="6659640" y="2565360"/>
            <a:ext cx="223344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5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250560" y="-360"/>
            <a:ext cx="8893080" cy="73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из героев сказок Андерсена мог сказать о себе так: «Это было тогда, когда на наших окнах зацвели прекрасные розы. Мы жили дружно и весело, но однажды мне в глаз попал осколок зеркала троллей, и я всё стал видеть злым и безобразным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ерд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юймовочк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лиз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да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7" name="Picture 4" descr="1732423"/>
          <p:cNvPicPr/>
          <p:nvPr/>
        </p:nvPicPr>
        <p:blipFill>
          <a:blip r:embed="rId1"/>
          <a:stretch/>
        </p:blipFill>
        <p:spPr>
          <a:xfrm>
            <a:off x="5867280" y="3573360"/>
            <a:ext cx="274032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«Бюро находок»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ужно определить, кому принадлежат следующие предметы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нти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ле – Лукой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ошин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цессе, «Принцесса на горошине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н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ю, «Снежная королева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лупа грецкого орех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юймовочке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мажный корабли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датику, «Стойкий оловянный   солдатик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апив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лизе, «Дикие лебеди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лая и красная розы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ерде и Каю, «Снежная королева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узыкальный горшоче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цу, «Свинопас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«Угадай сказку»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ужно определить, к какой сказке относятся следующие подборки слов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це, снег, стекло, зеркало, утро, роза, ворона, олень, дружб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нежная королева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юфяк, карета, кресло, ливень, калоши, принцесс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ринцесса на горошине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«Портреты героев»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каких персонажах идет речь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 самой чашечке цветка сидел маленький человечек, беленький и прозрачный, точно хрустальный. На голове у него сияла корона, за плечами развевались блестящие крылышки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льф, «Дюймовочка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56840" y="691920"/>
            <a:ext cx="821844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на была так прелестна, так нежна, вся из ослепительного льда и всё – таки живая! Глаза её сверкали как звёзды, но в них не было ни теплоты, ни красоты...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нежная королева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2 апреля – Международный день детской книг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ешением ЮНЕСКО 2 апреля – день рождения Х.К.Андерсена стал Международным днем детской книг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этот день один раз в два года присуждается детским писателям и художникам - иллюстраторам главная награда – Международная премия имени Х.К.Андерсен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«Кто и о ком говорит»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Я бы ни за что не рассталась с тобой. Уж очень смешно ты мотаешь головой и брыкаешься, когда я щекочу тебя острым ножом. Ну, да так и быть! Я отпускаю тебя на вольную волю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ленькая разбойница о северном олене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нежная королева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Летите на все четыре стороны и промышляйте о себе сами! – сказала она. –Летите большими птицами без голоса.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лая королева одиннадцати братьям из сказки «Дикие лебеди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067280" y="259920"/>
            <a:ext cx="507672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...Вряд ли найдется человек, который не знал бы Ханса Кристиана Андерсена. Он прославился во всём мире как гениальный сказочник. Между тем он написал пять романов, пьесы, стихи, путевые заметк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исатель родился 2 апреля 1805 года в Дании, в старинном городе Оденсе, на острове Фюн...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0" name="Picture 4" descr="destiny_photo"/>
          <p:cNvPicPr/>
          <p:nvPr/>
        </p:nvPicPr>
        <p:blipFill>
          <a:blip r:embed="rId1"/>
          <a:stretch/>
        </p:blipFill>
        <p:spPr>
          <a:xfrm>
            <a:off x="250920" y="620640"/>
            <a:ext cx="3384360" cy="56167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svecha1"/>
          <p:cNvPicPr/>
          <p:nvPr/>
        </p:nvPicPr>
        <p:blipFill>
          <a:blip r:embed="rId2"/>
          <a:stretch/>
        </p:blipFill>
        <p:spPr>
          <a:xfrm>
            <a:off x="8172360" y="4581360"/>
            <a:ext cx="97164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067280" y="3573360"/>
            <a:ext cx="4897440" cy="32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лаю вам новых встреч с хорошими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обрыми книгами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3" name="Picture 4" descr="116"/>
          <p:cNvPicPr/>
          <p:nvPr/>
        </p:nvPicPr>
        <p:blipFill>
          <a:blip r:embed="rId1"/>
          <a:stretch/>
        </p:blipFill>
        <p:spPr>
          <a:xfrm>
            <a:off x="324000" y="549360"/>
            <a:ext cx="3400200" cy="6048360"/>
          </a:xfrm>
          <a:prstGeom prst="rect">
            <a:avLst/>
          </a:prstGeom>
          <a:ln w="0">
            <a:noFill/>
          </a:ln>
        </p:spPr>
      </p:pic>
      <p:sp>
        <p:nvSpPr>
          <p:cNvPr id="234" name="WordArt 5"/>
          <p:cNvSpPr txBox="1"/>
          <p:nvPr/>
        </p:nvSpPr>
        <p:spPr>
          <a:xfrm>
            <a:off x="4140360" y="333360"/>
            <a:ext cx="43192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орогие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читатели!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-360" y="0"/>
            <a:ext cx="9396360" cy="746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мия имени Х.К.Андерсена, которую называют «Малой Нобелевской премией» является самой престижной международной наградой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ё история неразрывно связана с именем выдающейся деятельницы мировой детской литературы Еллы Лепман (1891 -1970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енно Елла Лепман способствовала учреждению в 1956 году Международной премии имени Х.К.Андерсена , которая присуждается за выдающийся вклад в детскую литературу с вручением Золотой медали с профилем великого сказочник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022"/>
          <p:cNvPicPr/>
          <p:nvPr/>
        </p:nvPicPr>
        <p:blipFill>
          <a:blip r:embed="rId1"/>
          <a:stretch/>
        </p:blipFill>
        <p:spPr>
          <a:xfrm>
            <a:off x="684360" y="0"/>
            <a:ext cx="7775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«Золотой» список лауреатов премии Андерсена: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5184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леонор Фарджон (1881-1956) («Седьмая принцесса», «Хочу луну»), 1956г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ая любимая и почитаемая сказочница в Англии стала первым лауреатом преми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8" name="Picture 5" descr="Элеанор Фарджон"/>
          <p:cNvPicPr/>
          <p:nvPr/>
        </p:nvPicPr>
        <p:blipFill>
          <a:blip r:embed="rId1"/>
          <a:stretch/>
        </p:blipFill>
        <p:spPr>
          <a:xfrm>
            <a:off x="6877080" y="3284640"/>
            <a:ext cx="1979640" cy="3311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pic33"/>
          <p:cNvPicPr/>
          <p:nvPr/>
        </p:nvPicPr>
        <p:blipFill>
          <a:blip r:embed="rId2"/>
          <a:stretch/>
        </p:blipFill>
        <p:spPr>
          <a:xfrm>
            <a:off x="4572000" y="1628640"/>
            <a:ext cx="24573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-360" y="0"/>
            <a:ext cx="42116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Астрид Линдгрен (1907-2002),    «Пеппи Длинный», «Малыш и Карлсон», «Расмусс - Бродяга», «Братья Львиное Сердце»,    «Эмиль из Лённеберги»,   «Рони, дочь разбойника». 1958 г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Многие поколения читателей России знают и любят литературных героев шведской писательницы, обаятельных озорников и мечтателей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1" name="Picture 5" descr=" Астрид Линдгрен"/>
          <p:cNvPicPr/>
          <p:nvPr/>
        </p:nvPicPr>
        <p:blipFill>
          <a:blip r:embed="rId1"/>
          <a:stretch/>
        </p:blipFill>
        <p:spPr>
          <a:xfrm>
            <a:off x="4284720" y="0"/>
            <a:ext cx="3708360" cy="3184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pic31"/>
          <p:cNvPicPr/>
          <p:nvPr/>
        </p:nvPicPr>
        <p:blipFill>
          <a:blip r:embed="rId2"/>
          <a:stretch/>
        </p:blipFill>
        <p:spPr>
          <a:xfrm>
            <a:off x="4067280" y="3645000"/>
            <a:ext cx="2449440" cy="3213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pic30"/>
          <p:cNvPicPr/>
          <p:nvPr/>
        </p:nvPicPr>
        <p:blipFill>
          <a:blip r:embed="rId3"/>
          <a:stretch/>
        </p:blipFill>
        <p:spPr>
          <a:xfrm>
            <a:off x="6516720" y="3141720"/>
            <a:ext cx="226692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0" y="0"/>
            <a:ext cx="5508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уве Янссон (1914-2001), «Шляпа Волшебника», «Мемуары папы Муми - тролля», «Опасное лето», «Волшебная зима», «Папа и море».  1966 г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звестная финская писательница сама создавала рисунки к своим произведениям, и этот своеобразный зрительский ряд помогает читателю активнее воспринимать её творчество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Picture 5" descr="Туве Янссон"/>
          <p:cNvPicPr/>
          <p:nvPr/>
        </p:nvPicPr>
        <p:blipFill>
          <a:blip r:embed="rId1"/>
          <a:stretch/>
        </p:blipFill>
        <p:spPr>
          <a:xfrm>
            <a:off x="6694560" y="0"/>
            <a:ext cx="2449440" cy="26654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pic27"/>
          <p:cNvPicPr/>
          <p:nvPr/>
        </p:nvPicPr>
        <p:blipFill>
          <a:blip r:embed="rId2"/>
          <a:stretch/>
        </p:blipFill>
        <p:spPr>
          <a:xfrm>
            <a:off x="5435640" y="2205000"/>
            <a:ext cx="2016000" cy="27352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pic28"/>
          <p:cNvPicPr/>
          <p:nvPr/>
        </p:nvPicPr>
        <p:blipFill>
          <a:blip r:embed="rId3"/>
          <a:stretch/>
        </p:blipFill>
        <p:spPr>
          <a:xfrm>
            <a:off x="6804000" y="3716280"/>
            <a:ext cx="20509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0" y="0"/>
            <a:ext cx="536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жанни Родари (1920-1980). «Приключения Чипполино», «Путешествие Голубой стрелы», «Джельсомино в стране лжецов», «Сказки по телефону», «Торт в небе». Его книги по праву вошли в золотой фонд мировой детской литературы. Талантливый итальянский писатель Золотой медали Х.К.Андерсена удостоен в 1970 г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9" name="Picture 5" descr="Джанни Родари"/>
          <p:cNvPicPr/>
          <p:nvPr/>
        </p:nvPicPr>
        <p:blipFill>
          <a:blip r:embed="rId1"/>
          <a:stretch/>
        </p:blipFill>
        <p:spPr>
          <a:xfrm>
            <a:off x="6227640" y="260280"/>
            <a:ext cx="2592360" cy="29527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pic38"/>
          <p:cNvPicPr/>
          <p:nvPr/>
        </p:nvPicPr>
        <p:blipFill>
          <a:blip r:embed="rId2"/>
          <a:stretch/>
        </p:blipFill>
        <p:spPr>
          <a:xfrm>
            <a:off x="7234200" y="3760920"/>
            <a:ext cx="1909800" cy="30970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" descr="pic39"/>
          <p:cNvPicPr/>
          <p:nvPr/>
        </p:nvPicPr>
        <p:blipFill>
          <a:blip r:embed="rId3"/>
          <a:stretch/>
        </p:blipFill>
        <p:spPr>
          <a:xfrm>
            <a:off x="5292720" y="2997360"/>
            <a:ext cx="21225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07:04:09Z</dcterms:created>
  <dc:creator>1</dc:creator>
  <dc:description/>
  <dc:language>en-US</dc:language>
  <cp:lastModifiedBy>наталия</cp:lastModifiedBy>
  <dcterms:modified xsi:type="dcterms:W3CDTF">2010-03-31T17:15:21Z</dcterms:modified>
  <cp:revision>22</cp:revision>
  <dc:subject/>
  <dc:title>Международный день детской книги</dc:title>
</cp:coreProperties>
</file>