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AF9E-E3E6-4593-9FFB-01CB9B3BAE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мы проверим, как вы знаете части слова. Вам необходимо «собрать» известную русскую пословицу и объяснить её смысл. Итак, какая пословица зашифрована на дос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4292-9A51-41AB-87D8-C2D3149FEE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B28-5BDD-400D-8604-A5D1C6A7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B0A-9E20-4592-9882-DB213B39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D35A-568B-41F3-A262-73E700EF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66AC-64A5-4FC8-8249-2E631409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00E3-44C5-4C87-8345-8F126078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63F3-DC68-4AA9-8AAC-D6E7595E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089-8CE7-4385-86B2-9F2E1C55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BA4-8A53-4CC2-8508-C211482F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4B48-5684-42CF-9E49-09497385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E85C-E399-4868-B8C9-1469D10C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8B5-CB35-42BA-BA2F-3CBE9366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88C8-9A52-40D6-B1A2-9611E364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8082-9D13-4255-A885-345C6E9BCF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1"/>
          <p:cNvGraphicFramePr/>
          <p:nvPr/>
        </p:nvGraphicFramePr>
        <p:xfrm>
          <a:off x="0" y="0"/>
          <a:ext cx="9144000" cy="686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 Black"/>
              </a:rPr>
              <a:t>СОБЕРИ ПОСЛОВИЦ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Береги землю родимую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как мать любиму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Arial Black"/>
              </a:rPr>
              <a:t>Найдите</a:t>
            </a:r>
            <a:r>
              <a:rPr b="1" lang="ru-RU" sz="2000" spc="-1" strike="noStrike">
                <a:solidFill>
                  <a:srgbClr val="800080"/>
                </a:solidFill>
                <a:latin typeface="Arial Black"/>
              </a:rPr>
              <a:t> в пословице слова, называющие предме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Arial Black"/>
              </a:rPr>
              <a:t>На какие вопросы они отвечаю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990000"/>
                </a:solidFill>
                <a:latin typeface="Arial Black"/>
              </a:rPr>
              <a:t>РАСПРЕДЕЛИТЕ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2880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 Black"/>
              </a:rPr>
              <a:t>Кто?</a:t>
            </a:r>
            <a:r>
              <a:rPr b="1" lang="ru-RU" sz="17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 </a:t>
            </a:r>
            <a:r>
              <a:rPr b="1" lang="ru-RU" sz="2500" spc="-1" strike="noStrike">
                <a:solidFill>
                  <a:srgbClr val="ff0000"/>
                </a:solidFill>
                <a:latin typeface="Arial Black"/>
              </a:rPr>
              <a:t>Что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тель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ерой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етер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еловек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лк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олод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аус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уч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рж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чтальон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C:\Documents and Settings\All Users\Документы\Мои рисунки\Мои рисунки\Школа\LETTER.GIF"/>
          <p:cNvPicPr/>
          <p:nvPr/>
        </p:nvPicPr>
        <p:blipFill>
          <a:blip r:embed="rId1"/>
          <a:stretch/>
        </p:blipFill>
        <p:spPr>
          <a:xfrm>
            <a:off x="6429240" y="4500720"/>
            <a:ext cx="2273400" cy="20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C:\Documents and Settings\All Users\Документы\Мои рисунки\Мои рисунки\Школа\LETTER.GIF"/>
          <p:cNvPicPr/>
          <p:nvPr/>
        </p:nvPicPr>
        <p:blipFill>
          <a:blip r:embed="rId2"/>
          <a:stretch/>
        </p:blipFill>
        <p:spPr>
          <a:xfrm>
            <a:off x="0" y="1714680"/>
            <a:ext cx="23544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 Black"/>
              </a:rPr>
              <a:t>ПРОВЕРЬ СЕБ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ТО?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ЕРОЙ                                     МЕ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ЕЛОВЕК                                ВЕТ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ЛК                                       ХОЛ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АУС                                    ТУ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Р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ЧТАЛЬ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 Black"/>
              </a:rPr>
              <a:t>Как изменяются имена существитель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599840"/>
            <a:ext cx="4495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 Black"/>
              </a:rPr>
              <a:t>По числа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динственное числ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2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дерев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ножественное числ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26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800080"/>
                </a:solidFill>
                <a:latin typeface="Calibri"/>
              </a:rPr>
              <a:t>д</a:t>
            </a:r>
            <a:r>
              <a:rPr b="1" lang="ru-RU" sz="2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инозавры</a:t>
            </a:r>
            <a:r>
              <a:rPr b="1" lang="ru-RU" sz="26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 Black"/>
              </a:rPr>
              <a:t>По падежа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адеж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менительный  кто? что?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(лиса, стол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дительный кого? чего?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(лисы, стол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ательный кому? чему?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(лисе, столу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инительный кого? что?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(лису, стол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ворительный кем? чем?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(лисой, столом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едложный о ком? о чем?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(о лисе, о столе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83" descr="NA01441_"/>
          <p:cNvPicPr/>
          <p:nvPr/>
        </p:nvPicPr>
        <p:blipFill>
          <a:blip r:embed="rId1"/>
          <a:stretch/>
        </p:blipFill>
        <p:spPr>
          <a:xfrm>
            <a:off x="395280" y="2492280"/>
            <a:ext cx="1357200" cy="1433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Documents and Settings\All Users\Документы\Мои рисунки\Мои рисунки\животные\D_046.BMP"/>
          <p:cNvPicPr/>
          <p:nvPr/>
        </p:nvPicPr>
        <p:blipFill>
          <a:blip r:embed="rId2"/>
          <a:stretch/>
        </p:blipFill>
        <p:spPr>
          <a:xfrm>
            <a:off x="0" y="5214960"/>
            <a:ext cx="2286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 Black"/>
              </a:rPr>
              <a:t>Запишите предложения, вставив подходящие по смыслу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Пролетело жаркое __________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Прошла золотая ____________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Выпал пушистый ___________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Пришла холодная ________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 Black"/>
              </a:rPr>
              <a:t>ОБОБЩЕНИЕ МАТЕРИ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360" y="1599840"/>
            <a:ext cx="8929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libri"/>
              </a:rPr>
              <a:t>Имя существительное-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это часть речи, которая обозначает предмет и отвечает на вопросы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Calibri"/>
              </a:rPr>
              <a:t>КТО?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или </a:t>
            </a:r>
            <a:r>
              <a:rPr b="0" lang="ru-RU" sz="3200" spc="-1" strike="noStrike">
                <a:solidFill>
                  <a:srgbClr val="ff0066"/>
                </a:solidFill>
                <a:latin typeface="Calibri"/>
              </a:rPr>
              <a:t>ЧТО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66"/>
                </a:solidFill>
                <a:latin typeface="Calibri"/>
              </a:rPr>
              <a:t>Имена существительные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зменяются по числам и падеж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Имена существительные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бывают мужского, женского или среднего 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 предложении имена существите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являются подлежащим, дополнением и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обстоятельств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Calibri"/>
              </a:rPr>
              <a:t>Всему название дано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Calibri"/>
              </a:rPr>
              <a:t>И зверю и предмет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Calibri"/>
              </a:rPr>
              <a:t>Вещей вокруг полным- полно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Calibri"/>
              </a:rPr>
              <a:t>А безымянных нет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Calibri"/>
              </a:rPr>
              <a:t>И всё, что может видеть глаз,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Calibri"/>
              </a:rPr>
              <a:t>Над нами и под нам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Calibri"/>
              </a:rPr>
              <a:t>И всё что в памяти у нас,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Calibri"/>
              </a:rPr>
              <a:t>Означено слова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2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4-06T01:49:16Z</dcterms:modified>
  <cp:revision>59</cp:revision>
  <dc:subject/>
  <dc:title>Слайд 1</dc:title>
</cp:coreProperties>
</file>