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BC0-D156-4F2C-8EAF-A05DD7BF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760-B036-42D1-AA0E-E84A8DB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A7B-9C8E-4738-9B3B-B821BE13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31C-258D-44B5-92D4-B9E56B30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DFE6-013A-4078-9CDA-93EB022E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A2B9-3E2F-43EF-9FCF-2A534F7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537-DE97-4495-B0C0-C5E31C52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A8DD-BCA4-435F-8F39-91DE4C4B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A04-923F-4A2A-8C38-B2DAF24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9ABB-A23F-4A52-A4CA-E46494A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0050-CC44-463E-A193-93D7974B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6C4-DF68-4EE3-84BA-9043017D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5C99-C33D-4F2A-AA6B-B2EAD4A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976-64DF-4C77-8260-98BD163A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669-0E45-4338-A7CC-8A8FECD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97A-DE8B-4E93-8334-948F8421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2E5-B65B-49D2-9C52-65E1BB6F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7CB-F6B7-4F43-B26F-17FA5BA6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24D-710B-4DFE-B7B5-7E35799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B36-C775-4B4B-A1A3-9DD97EFA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62D-060C-4782-BA80-1B0B7732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9C3-079C-45F6-B6A6-ACB8A2F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20B-FC9B-4959-A354-D169114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661-D6AD-44A0-A298-D350E9B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9594-DF7C-4C31-9673-F0D4BED288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2346-DB97-4904-A619-DEC9C40FC7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зык художественной литературы</a:t>
            </a:r>
            <a:br>
              <a:rPr sz="54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зительные возмож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лю 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зу в начале ма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весенний пе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й гР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бы 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звяся и и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я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e4fa78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хочет в небе голуб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Ф.И. Тютчев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лночной порою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болотной гл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уть слышно, бесшумн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уршат камыши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К. Бальмонт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носное зна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круг меня кольцо сжим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слышно подползает со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В. Ходасевич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Динам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намизм художественного текста заключается в постоянном движении авторской мысли, смене изображаемых событий или чувств, что составляет развитие сю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Эмоциональность и экспрессив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свойства художественной речи призваны воздействовать на читателя, вызвать у него определенный эмоциональный откл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ействие через образное моделирование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. Недопустимость стандар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пустимость штампов, клише обусловлена установкой на творчество, неповторимость, своеобразие каждого художествен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Ярко выраженная авторская индивидуа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ярких писателей и поэтов можно узнать по свойственным только им особенностям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индивидуальные особенности стиля отдельного автора составляют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идиости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иса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80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овые особенност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еоднородность лексического состава: сочетание книжной лексики с разговорной, просторечной, диалектной и т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2602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зрел ковыль. Степь на многие версты оделась колышущимся серебром. Ветер упруго принимал его, наплывая, шершавил, бугрил, гнал то к югу, то к западу сизо-опаловые волны. Там, где пробегала текучая воздушная струя, ковыль молитвенно клонился, и на седой его </a:t>
            </a:r>
            <a:r>
              <a:rPr b="0" lang="ru-RU" sz="2400" spc="-1" strike="noStrike">
                <a:solidFill>
                  <a:srgbClr val="e4fa78"/>
                </a:solidFill>
                <a:latin typeface="Arial"/>
              </a:rPr>
              <a:t>хребти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лго лежала чернеющая тро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цвели разномастные травы. На гребнях никла безрадостная выгоревшая полынь. Ночи истлевали быстр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ночам на обугленно-черном небе, несчетные, сияли звезды; месяц - казачье солнышко, темнея ущербленной боковиной, светил скупо, бело; просторный </a:t>
            </a:r>
            <a:r>
              <a:rPr b="0" lang="ru-RU" sz="2400" spc="-1" strike="noStrike">
                <a:solidFill>
                  <a:srgbClr val="e4fa78"/>
                </a:solidFill>
                <a:latin typeface="Arial"/>
              </a:rPr>
              <a:t>Млечный Шля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летался с иными звездными путями. Терпкий воздух был густ, ветер сух, полынен; земля, напитанная все той же горечью всесильной полыни, тосковала о прохл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спользование всех пластов русской лексики в целях реализации эстетической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рья нам минуту замешкалась и отказ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т, нет, я одна.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Ту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 од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«туды» - она и близко не знала и, выйдя за ворота, направилась к Ангаре (В. Распутин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Художественный ст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особую сферу использования – эстетичес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языковые средства используются не в их первичной функции, а в функции эстетической.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Язык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ет средства др. сти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щается к нелитературным средствам язы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имеет специфических языковых особен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Активность многозначных слов всех стилевых разновидносте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лит река вся в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кружев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елой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п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бархате лу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леют м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ассвете </a:t>
            </a:r>
            <a:r>
              <a:rPr b="0" lang="ru-RU" sz="3200" spc="-1" strike="noStrike">
                <a:solidFill>
                  <a:srgbClr val="e4fa78"/>
                </a:solidFill>
                <a:latin typeface="Arial"/>
              </a:rPr>
              <a:t>родился моро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. Пришви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омбинаторные приращения смысла (Б.Лар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в художественном контексте получают новое семантическое и эмоциональное содержание, что воплощает образную мысль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мечтою ловил уходящи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ходящие тени погасавшего д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а башню всходил. И дрожали сту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ожали ступени под ногой к ме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К. Бальмо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Большая предпочтительность использования конкретной лексики и меньшая – абстракт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еловек вышел из дома в сад. Было прохладно и пахло акацией. Вокруг росли деревья. Пела пт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й толкнул тяжелую дверь. Под его ногой едва слышно всхлипнула   ступенька крыльца. Еще два шага – и он уже в са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хладный вечерний  воздух   был напоен дурманящим ароматом цветущей акации. Где-то в ветвях переливчато и тонко выводил свои трели солов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Минимум родовых поня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е один существенный для прозаика совет. Побольше конкретности. Образность тем выразительнее, чем точнее, конкретнее назван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Вас: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ошад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жую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ер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Крестьяне готовят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треннюю пищ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, «шумел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тиц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… В поэтической прозе художника, требующей зримой ясности, не должно быть родовых понятий, если это не диктуется самой смысловой задачей содержания…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вес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е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ач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уместны, чем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тиц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нстантин Фед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Широкое употребление народно-поэтических слов, эмоциональной и экспрессивной лексики, синонимов, антони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повник, наверное, с весны еще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пробралс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тволу к молодой осинке, и вот теперь, когда   время пришло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справлять осинке свои имени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ся она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вспыхну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расными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благоухан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ими розами.  (М. Пришви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ртелевом переулке помещалось «Новое время». Я сказал «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помещалос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. Это не то слово. </a:t>
            </a:r>
            <a:r>
              <a:rPr b="0" lang="ru-RU" sz="2800" spc="-1" strike="noStrike">
                <a:solidFill>
                  <a:srgbClr val="e4fa78"/>
                </a:solidFill>
                <a:latin typeface="Arial"/>
              </a:rPr>
              <a:t>Царило, властвовало.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. Иван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8. Глагольное рече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тель называет каждое движение (физическое 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психическое) и изменение состояния поэтапно. Нагнетание глаголов активизирует читательское напря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.А. Шолохов «Тихий Д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игорий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устил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к Дону, осторож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ле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рез плетень астаховского база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оше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прикрытому ставнями окну. Он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лыш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олько частые удары сердца…Тих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туч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переплет рамы… Аксинья молч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ош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окну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мотре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н увидел, как он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жа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груди руки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лыша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вавшийся с губ ее невнятный стон. Григорий знако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каз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бы он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кры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кно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ня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интовку. Аксинь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ахну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ворки.. Он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завалинку, голые руки Аксинь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хвати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го шею. Они так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ожа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или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его плечах, эти родные руки, что дрожь их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Григор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Сфера использ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художественная лит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Основная функ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стетическая (создани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удожественного обра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Художественный обра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бобщенное отражение действительности в искусстве в форме конкретного индивидуального я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дожественная речь отличается не только образностью, но и явной эмоциональностью, эстетической направлен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ой призна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удожественной реч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з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эстетическая знач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х элементов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фические черты  языка художественной литерату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бразная конкретизация – перевод слова-понятия в слово-образ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совокупность существенных признаков предм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л – предмет мебели в виде широкой горизонтальной  пластины на   опорах, нож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зговорно-бытовой сфере слово конкретизируется и называет конкретные предметы, известные говорящи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слово выражает уже не понятие, а </a:t>
            </a:r>
            <a:r>
              <a:rPr b="0" lang="ru-RU" sz="3200" spc="-1" strike="noStrike">
                <a:solidFill>
                  <a:srgbClr val="86d1ec"/>
                </a:solidFill>
                <a:latin typeface="Arial"/>
              </a:rPr>
              <a:t>представл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оспроизведение в сознании ранее пережитых восприят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ойди к моему столу; Вон тот круглый ст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.И. Цветае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письменный верный ст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то, что ш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мною по всем пу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я охранял – как  шр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й письменный вьючный му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, что ног не гну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ношей, поклажу грёз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-  что нёс и нёс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удожественный об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ихотворении М.И. Цветаевой мы встречаем художественный образ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л как друг и помощник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од понятийного плана в образный происходит при участи ВСЕХ языковых уровней: от фонетического до синтаксическ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вукопис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лю грозу в начале ма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весенний первый гр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бы резвяся и играя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охочет в небе голуб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Ф.И. Тютчев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8:28:56Z</dcterms:created>
  <dc:creator>cool</dc:creator>
  <dc:description/>
  <dc:language>en-US</dc:language>
  <cp:lastModifiedBy>Admin</cp:lastModifiedBy>
  <dcterms:modified xsi:type="dcterms:W3CDTF">2020-04-06T11:27:20Z</dcterms:modified>
  <cp:revision>14</cp:revision>
  <dc:subject/>
  <dc:title>Художественный стиль</dc:title>
</cp:coreProperties>
</file>