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630F-D455-429E-B896-B5220654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1783-FE6C-44D0-99E2-A38EB0FA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F7E7-0F15-415B-B843-E5BE08947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9C50-2DBF-4A58-B676-3F83903BF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05AA-7D60-48E8-8061-77B18A88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F9CA-5922-4B16-AD6A-1B52D4C8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F83A-EA14-440C-BB29-2527A577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F716-0B6D-467F-B64A-3ECCC6C1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69A1-E544-47F4-9E4F-1F4DAC77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71DA-E8C3-4DA9-9408-12463D54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728B-056D-4328-B717-5848429A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C4EC-82E7-4586-8E98-8F23545B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1628-5E07-45A1-9F96-0BA883E4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2423-4441-43D1-A5AE-8BC02A8B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A0A1-7B4D-4E62-A93F-CCB76CBF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7427-37B3-46DD-9408-6193491E5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75DE-9539-48E4-9496-7541EFD36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C216-732C-44BC-9994-94A5E5CA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771C-E110-4E2B-8769-06C58F8B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E833-FA73-41CB-B356-DA001CBC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D39F-F1CB-4750-ACEA-FFB82F70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36E2-80CC-439B-B5A6-7982962E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5A11-70DE-4D6D-B96F-F8434A49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DF9E-E20A-4273-A3AB-BB84AD15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C83C-8300-4F31-A08E-2C37FEAC414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A2BC-0751-4FB0-A4A9-BE557321D7F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Язык художественной литературы</a:t>
            </a:r>
            <a:br>
              <a:rPr sz="5400"/>
            </a:b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е призна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разительные возмож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250"/>
                            </p:stCondLst>
                            <p:childTnLst>
                              <p:par>
                                <p:cTn id="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Звукопис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юблю г</a:t>
            </a:r>
            <a:r>
              <a:rPr b="0" lang="ru-RU" sz="4400" spc="-1" strike="noStrike">
                <a:solidFill>
                  <a:srgbClr val="e4fa78"/>
                </a:solidFill>
                <a:latin typeface="Arial"/>
              </a:rPr>
              <a:t>Р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зу в начале мая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гда весенний пе</a:t>
            </a:r>
            <a:r>
              <a:rPr b="0" lang="ru-RU" sz="4400" spc="-1" strike="noStrike">
                <a:solidFill>
                  <a:srgbClr val="e4fa78"/>
                </a:solidFill>
                <a:latin typeface="Arial"/>
              </a:rPr>
              <a:t>Р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ый гРом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ак бы </a:t>
            </a:r>
            <a:r>
              <a:rPr b="0" lang="ru-RU" sz="4400" spc="-1" strike="noStrike">
                <a:solidFill>
                  <a:srgbClr val="e4fa78"/>
                </a:solidFill>
                <a:latin typeface="Arial"/>
              </a:rPr>
              <a:t>Р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езвяся и иг</a:t>
            </a:r>
            <a:r>
              <a:rPr b="0" lang="ru-RU" sz="4400" spc="-1" strike="noStrike">
                <a:solidFill>
                  <a:srgbClr val="e4fa78"/>
                </a:solidFill>
                <a:latin typeface="Arial"/>
              </a:rPr>
              <a:t>Р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я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4400" spc="-1" strike="noStrike">
                <a:solidFill>
                  <a:srgbClr val="e4fa78"/>
                </a:solidFill>
                <a:latin typeface="Arial"/>
              </a:rPr>
              <a:t>Р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хочет в небе голубом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Ф.И. Тютчев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вукопис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олночной порою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 болотной глуш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Чуть слышно, бесшумн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Шуршат камыши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(К. Бальмонт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ереносное знач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округ меня кольцо сжимаетс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еслышно подползает сон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В. Ходасевич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 Динамиз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намизм художественного текста заключается в постоянном движении авторской мысли, смене изображаемых событий или чувств, что составляет развитие сюж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 Эмоциональность и экспрессивн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и свойства художественной речи призваны воздействовать на читателя, вызвать у него определенный эмоциональный откли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здействие через образное моделирование ми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4. Недопустимость стандар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допустимость штампов, клише обусловлена установкой на творчество, неповторимость, своеобразие каждого художественного произве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5. Ярко выраженная авторская индивидуальн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более ярких писателей и поэтов можно узнать по свойственным только им особенностям ре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и индивидуальные особенности стиля отдельного автора составляют </a:t>
            </a:r>
            <a:r>
              <a:rPr b="0" lang="ru-RU" sz="3200" spc="-1" strike="noStrike">
                <a:solidFill>
                  <a:srgbClr val="86d1ec"/>
                </a:solidFill>
                <a:latin typeface="Arial"/>
              </a:rPr>
              <a:t>идиостил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исат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80" dur="2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Языковые особенности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Неоднородность лексического состава: сочетание книжной лексики с разговорной, просторечной, диалектной и т.п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457200" y="260280"/>
            <a:ext cx="8229600" cy="58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зрел ковыль. Степь на многие версты оделась колышущимся серебром. Ветер упруго принимал его, наплывая, шершавил, бугрил, гнал то к югу, то к западу сизо-опаловые волны. Там, где пробегала текучая воздушная струя, ковыль молитвенно клонился, и на седой его </a:t>
            </a:r>
            <a:r>
              <a:rPr b="0" lang="ru-RU" sz="2400" spc="-1" strike="noStrike">
                <a:solidFill>
                  <a:srgbClr val="e4fa78"/>
                </a:solidFill>
                <a:latin typeface="Arial"/>
              </a:rPr>
              <a:t>хребтин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долго лежала чернеющая троп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цвели разномастные травы. На гребнях никла безрадостная выгоревшая полынь. Ночи истлевали быстро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ночам на обугленно-черном небе, несчетные, сияли звезды; месяц - казачье солнышко, темнея ущербленной боковиной, светил скупо, бело; просторный </a:t>
            </a:r>
            <a:r>
              <a:rPr b="0" lang="ru-RU" sz="2400" spc="-1" strike="noStrike">
                <a:solidFill>
                  <a:srgbClr val="e4fa78"/>
                </a:solidFill>
                <a:latin typeface="Arial"/>
              </a:rPr>
              <a:t>Млечный Шлях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летался с иными звездными путями. Терпкий воздух был густ, ветер сух, полынен; земля, напитанная все той же горечью всесильной полыни, тосковала о прохла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Использование всех пластов русской лексики в целях реализации эстетической фун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рья нам минуту замешкалась и отказал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т, нет, я одна. </a:t>
            </a:r>
            <a:r>
              <a:rPr b="0" lang="ru-RU" sz="3200" spc="-1" strike="noStrike">
                <a:solidFill>
                  <a:srgbClr val="e4fa78"/>
                </a:solidFill>
                <a:latin typeface="Arial"/>
              </a:rPr>
              <a:t>Туд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я од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да «туды» - она и близко не знала и, выйдя за ворота, направилась к Ангаре (В. Распутин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40384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fa78"/>
                </a:solidFill>
                <a:latin typeface="Arial"/>
              </a:rPr>
              <a:t>Художественный сти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еет особую сферу использования – эстетическу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 языковые средства используются не в их первичной функции, а в функции эстетической.</a:t>
            </a:r>
            <a:r>
              <a:rPr b="0" lang="ru-RU" sz="2800" spc="-1" strike="noStrike">
                <a:solidFill>
                  <a:srgbClr val="e4fa7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333360"/>
            <a:ext cx="403848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fa78"/>
                </a:solidFill>
                <a:latin typeface="Arial"/>
              </a:rPr>
              <a:t>Язык художественной литера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ует средства др. сти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щается к нелитературным средствам язы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имеет специфических языковых особенност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Активность многозначных слов всех стилевых разновидностей ре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рлит река вся в </a:t>
            </a:r>
            <a:r>
              <a:rPr b="0" lang="ru-RU" sz="3200" spc="-1" strike="noStrike">
                <a:solidFill>
                  <a:srgbClr val="e4fa78"/>
                </a:solidFill>
                <a:latin typeface="Arial"/>
              </a:rPr>
              <a:t>кружев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белой </a:t>
            </a:r>
            <a:r>
              <a:rPr b="0" lang="ru-RU" sz="3200" spc="-1" strike="noStrike">
                <a:solidFill>
                  <a:srgbClr val="e4fa78"/>
                </a:solidFill>
                <a:latin typeface="Arial"/>
              </a:rPr>
              <a:t>пе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0" lang="ru-RU" sz="3200" spc="-1" strike="noStrike">
                <a:solidFill>
                  <a:srgbClr val="e4fa78"/>
                </a:solidFill>
                <a:latin typeface="Arial"/>
              </a:rPr>
              <a:t>бархате луг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алеют ма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рассвете </a:t>
            </a:r>
            <a:r>
              <a:rPr b="0" lang="ru-RU" sz="3200" spc="-1" strike="noStrike">
                <a:solidFill>
                  <a:srgbClr val="e4fa78"/>
                </a:solidFill>
                <a:latin typeface="Arial"/>
              </a:rPr>
              <a:t>родился мороз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М. Пришвин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Комбинаторные приращения смысла (Б.Ларин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ова в художественном контексте получают новое семантическое и эмоциональное содержание, что воплощает образную мысль авто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 мечтою ловил уходящие тен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ходящие тени погасавшего дн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 на башню всходил. И дрожали ступе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дрожали ступени под ногой к ме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К. Бальмон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000"/>
                            </p:stCondLst>
                            <p:childTnLst>
                              <p:par>
                                <p:cTn id="3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Большая предпочтительность использования конкретной лексики и меньшая – абстракт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Человек вышел из дома в сад. Было прохладно и пахло акацией. Вокруг росли деревья. Пела птиц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гей толкнул тяжелую дверь. Под его ногой едва слышно всхлипнула   ступенька крыльца. Еще два шага – и он уже в сад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хладный вечерний  воздух   был напоен дурманящим ароматом цветущей акации. Где-то в ветвях переливчато и тонко выводил свои трели солов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Минимум родовых понят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ще один существенный для прозаика совет. Побольше конкретности. Образность тем выразительнее, чем точнее, конкретнее назван предм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Вас: «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Лошад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жуют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зерн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Крестьяне готовят «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утреннюю пищу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, «шумели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тиц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… В поэтической прозе художника, требующей зримой ясности, не должно быть родовых понятий, если это не диктуется самой смысловой задачей содержания…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Овес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учше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зер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Грач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ее уместны, чем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тицы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Константин Федин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 Широкое употребление народно-поэтических слов, эмоциональной и экспрессивной лексики, синонимов, антоним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иповник, наверное, с весны еще </a:t>
            </a:r>
            <a:r>
              <a:rPr b="0" lang="ru-RU" sz="2800" spc="-1" strike="noStrike">
                <a:solidFill>
                  <a:srgbClr val="e4fa78"/>
                </a:solidFill>
                <a:latin typeface="Arial"/>
              </a:rPr>
              <a:t>пробрался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стволу к молодой осинке, и вот теперь, когда   время пришло </a:t>
            </a:r>
            <a:r>
              <a:rPr b="0" lang="ru-RU" sz="2800" spc="-1" strike="noStrike">
                <a:solidFill>
                  <a:srgbClr val="e4fa78"/>
                </a:solidFill>
                <a:latin typeface="Arial"/>
              </a:rPr>
              <a:t>справлять осинке свои именин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вся она </a:t>
            </a:r>
            <a:r>
              <a:rPr b="0" lang="ru-RU" sz="2800" spc="-1" strike="noStrike">
                <a:solidFill>
                  <a:srgbClr val="e4fa78"/>
                </a:solidFill>
                <a:latin typeface="Arial"/>
              </a:rPr>
              <a:t>вспыхнул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красными </a:t>
            </a:r>
            <a:r>
              <a:rPr b="0" lang="ru-RU" sz="2800" spc="-1" strike="noStrike">
                <a:solidFill>
                  <a:srgbClr val="e4fa78"/>
                </a:solidFill>
                <a:latin typeface="Arial"/>
              </a:rPr>
              <a:t>благоуханным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кими розами.  (М. Пришвин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Эртелевом переулке помещалось «Новое время». Я сказал «</a:t>
            </a:r>
            <a:r>
              <a:rPr b="0" lang="ru-RU" sz="2800" spc="-1" strike="noStrike">
                <a:solidFill>
                  <a:srgbClr val="e4fa78"/>
                </a:solidFill>
                <a:latin typeface="Arial"/>
              </a:rPr>
              <a:t>помещалос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. Это не то слово. </a:t>
            </a:r>
            <a:r>
              <a:rPr b="0" lang="ru-RU" sz="2800" spc="-1" strike="noStrike">
                <a:solidFill>
                  <a:srgbClr val="e4fa78"/>
                </a:solidFill>
                <a:latin typeface="Arial"/>
              </a:rPr>
              <a:t>Царило, властвовало.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Г. Иванов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8. Глагольное речевед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сатель называет каждое движение (физическое 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ли психическое) и изменение состояния поэтапно. Нагнетание глаголов активизирует читательское напря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.А. Шолохов «Тихий Дон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игорий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пустилс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к Дону, осторожно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ерелез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через плетень астаховского база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доше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 прикрытому ставнями окну. Он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лыша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только частые удары сердца…Тихо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стуча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переплет рамы… Аксинья молча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дошл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 окну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смотрелас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Он увидел, как она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жал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 груди руки и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слышал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рвавшийся с губ ее невнятный стон. Григорий знаком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каза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чтобы она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ткрыл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кно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ня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интовку. Аксинья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спахнул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творки.. Он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та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а завалинку, голые руки Аксиньи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хватил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его шею. Они так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рожал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билис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а его плечах, эти родные руки, что дрожь их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ередалас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Григор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86d1ec"/>
                </a:solidFill>
                <a:latin typeface="Arial"/>
              </a:rPr>
              <a:t>Сфера использова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 художественная литерату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86d1ec"/>
                </a:solidFill>
                <a:latin typeface="Arial"/>
              </a:rPr>
              <a:t>Основная функц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эстетическая (создание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художественного образ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86d1ec"/>
                </a:solidFill>
                <a:latin typeface="Arial"/>
              </a:rPr>
              <a:t>Художественный образ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обобщенное отражение действительности в искусстве в форме конкретного индивидуального явл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удожественная речь отличается не только образностью, но и явной эмоциональностью, эстетической направленн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сновной признак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художественной речи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разн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 эстетическая значим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сех элементов реч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пецифические черты  языка художественной литератур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Образная конкретизация – перевод слова-понятия в слово-образ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86d1ec"/>
                </a:solidFill>
                <a:latin typeface="Arial"/>
              </a:rPr>
              <a:t>Понят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совокупность существенных признаков предм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тол – предмет мебели в виде широкой горизонтальной  пластины на   опорах, ножк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азговорно-бытовой сфере слово конкретизируется и называет конкретные предметы, известные говорящи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им образом, слово выражает уже не понятие, а </a:t>
            </a:r>
            <a:r>
              <a:rPr b="0" lang="ru-RU" sz="3200" spc="-1" strike="noStrike">
                <a:solidFill>
                  <a:srgbClr val="86d1ec"/>
                </a:solidFill>
                <a:latin typeface="Arial"/>
              </a:rPr>
              <a:t>представлен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воспроизведение в сознании ранее пережитых восприяти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одойди к моему столу; Вон тот круглый сто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.И. Цветаев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й письменный верный стол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асибо за то, что ше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 мною по всем путя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ня охранял – как  шр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й письменный вьючный мул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асибо, что ног не гну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 ношей, поклажу грёз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асибо -  что нёс и нёс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7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70" fill="hold"/>
                                        <p:tgtEl>
                                          <p:spTgt spid="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Художественный обр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тихотворении М.И. Цветаевой мы встречаем художественный образ –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тол как друг и помощник поэ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вод понятийного плана в образный происходит при участи ВСЕХ языковых уровней: от фонетического до синтаксическог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Звукопис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юблю грозу в начале мая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гда весенний первый гром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ак бы резвяся и играя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рохочет в небе голубом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Ф.И. Тютчев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8:28:56Z</dcterms:created>
  <dc:creator>cool</dc:creator>
  <dc:description/>
  <dc:language>en-US</dc:language>
  <cp:lastModifiedBy>Admin</cp:lastModifiedBy>
  <dcterms:modified xsi:type="dcterms:W3CDTF">2020-04-06T11:27:20Z</dcterms:modified>
  <cp:revision>14</cp:revision>
  <dc:subject/>
  <dc:title>Художественный стиль</dc:title>
</cp:coreProperties>
</file>