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BDDD0-EBEF-4730-9433-C9278730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47F0-2529-4D91-887F-C44EC766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38DC-A553-400A-BA2C-58B229DE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D1D56-AC97-43DC-92CE-B77E61B9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72EF-693A-4B8F-AF78-8E99839C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4B47-3D3B-4FB1-9280-489F2932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F7E7-0830-47DF-BA17-1E6446F5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60BA-BBB2-4599-94BE-921497F9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D83E-8301-4646-81AE-DC917714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10FE-ED3C-48A2-B296-B376320F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BAEE-8E00-4DF8-8936-24216425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598F-E2BE-4D79-A4F9-952CA3BE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E6B0-4F81-4E77-9249-851F7D54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6DC5-FCF0-4258-A830-41C3EADC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9276-7560-43B8-9AAD-8EB07F6F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27E2-B9BC-45FD-91F0-ACA2BB65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73A8-D720-4256-B378-06D186B5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B6F7-7334-4A47-849B-75CB15B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3DAB-A7C3-4241-A533-336D3296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F583-ACC6-4E8E-9CF0-7DFDACDA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4123-BCE4-42C5-AF0F-AB8986CB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2657-18FF-4B25-AFDF-3C243B01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C587-B58E-4D4B-9363-527B3ABE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D8A8-4541-43A9-B3B0-F06D5599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FEE8-6E62-4FF3-82A7-55183D4D23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D37C-573B-4A68-BE7C-4EDDC75524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yandex.ru/video/search?text=&#1090;&#1072;&#1081;&#1085;&#1072;%20&#1090;&#1088;&#1077;&#1090;&#1100;&#1077;&#1081;%20&#1087;&#1083;&#1072;&#1085;&#1077;&#1090;&#1099;%20&#1084;&#1091;&#1083;&#1100;&#1090;&#1092;&#1080;&#1083;&#1100;&#1084;%201981&amp;path=wizard&amp;parent-reqid=1586181475696837-939852875529628359800154-production-app-host-vla-web-yp-272&amp;noreask=1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12 апрел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нь космонавт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Древние люди представляли наш мир так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1703520"/>
            <a:ext cx="68724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о, с течением времени, люди поняли, что Земля не является центром вселенной. Что она всего лишь одна из планет, вращающихся, вокруг Солнц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3354480"/>
            <a:ext cx="7490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Шло время… Проходили годы, столетия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И…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первые 12 апреля 1961 года человек полетел к звёзда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403960" cy="3989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02240" y="5950080"/>
            <a:ext cx="725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Это был наш соотечественник. Первый космонавт плане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Юрий Алексеевич Гагар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Гагарин в Центре подготовки космонавтов: Королёву требовался кандидат с идеальным здоровьем"/>
          <p:cNvPicPr/>
          <p:nvPr/>
        </p:nvPicPr>
        <p:blipFill>
          <a:blip r:embed="rId1"/>
          <a:stretch/>
        </p:blipFill>
        <p:spPr>
          <a:xfrm>
            <a:off x="324000" y="189000"/>
            <a:ext cx="4190760" cy="292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Взлёт ракеты-носителя утром 12 апреля 1961 года"/>
          <p:cNvPicPr/>
          <p:nvPr/>
        </p:nvPicPr>
        <p:blipFill>
          <a:blip r:embed="rId2"/>
          <a:stretch/>
        </p:blipFill>
        <p:spPr>
          <a:xfrm>
            <a:off x="108000" y="4149720"/>
            <a:ext cx="4464000" cy="2452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Гагарин первым увидел Землю из космоса и восхитился её красотой"/>
          <p:cNvPicPr/>
          <p:nvPr/>
        </p:nvPicPr>
        <p:blipFill>
          <a:blip r:embed="rId3"/>
          <a:stretch/>
        </p:blipFill>
        <p:spPr>
          <a:xfrm>
            <a:off x="4788000" y="2060640"/>
            <a:ext cx="4140000" cy="2925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58920" y="2637000"/>
            <a:ext cx="283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арарина выбрали сред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тен претендентов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вый полёт в косм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6320" y="621648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кета стартовала утр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2 апреля 1961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80600" y="4249800"/>
            <a:ext cx="333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Юрий Алексеевич перв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видел нашу плане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з космо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ногие летали и продолжали летать в космос после Юрия Гагари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 всегда пытались и будут пытаться узнать больше про свою планету и своё место во вселенн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Посмотри вместе с родителям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Тайна третьей планет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</a:rPr>
              <a:t>Главный звёзд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</a:rPr>
              <a:t>Полёт на лу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</a:rPr>
              <a:t>Мурзилка на спутни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</a:rPr>
              <a:t>Белка и стрелка: лунные приключ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омашнее зада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ставьте себя космонавтом и нарисуйте своё видение космос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ДАЧИ!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нятие по формированию целостности представления об окружающем мире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дготовительная групп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оспитатель ГБОУ ШКОЛА №138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ЙЛЕНКОВА Е. 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Что это, ребята? Посмотрите и подумайте. Как вы можете назвать это одним словом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985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89520" y="76500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лан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9120" y="2565360"/>
            <a:ext cx="20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вёзды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4797360"/>
            <a:ext cx="333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Космос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 древних времён люди задавались вопросом: что там, на неб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751040"/>
            <a:ext cx="82072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юди искали объяснения вопросам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5640" cy="2400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2080" y="335772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Что такое солнечное затм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728880" cy="2468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3520" y="331488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чему падают звё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843280" y="4149720"/>
            <a:ext cx="2770200" cy="2355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15280" y="616572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чему каждое утро солнце вста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И многие другие вопросы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ногие астрономы древности искали ответы на эти вопрос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298680" cy="2475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5073840" cy="2452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5211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СТРОНОМ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человек, изучающий звезды, планеты и другие небесные тела и явления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6T12:40:05Z</dcterms:created>
  <dc:creator>Самойленковы</dc:creator>
  <dc:description/>
  <dc:language>en-US</dc:language>
  <cp:lastModifiedBy>Самойленковы</cp:lastModifiedBy>
  <dcterms:modified xsi:type="dcterms:W3CDTF">2020-04-06T14:04:53Z</dcterms:modified>
  <cp:revision>2</cp:revision>
  <dc:subject/>
  <dc:title>12 апреля</dc:title>
</cp:coreProperties>
</file>