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31F-CC9D-4CB5-9FDC-922A1C41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7D8-8DC3-4A14-B59D-B8E4EE96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542-86D4-4C83-8329-D76BE87E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98A-C3DA-45E0-8B02-83EC628F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1A44-3B85-47FA-BB02-5364F90F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E079-AB85-43B5-A19A-C7234A4E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BDF9-1E7D-4636-9729-1C924911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0902-4B47-4F51-A612-DC983441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B1D6-A6DE-412A-A0C1-64D2B396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C371-EAC0-46E5-BA79-F363FF0D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5A03-EC91-46D3-9585-D94A521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98B-F682-4B31-AC8B-33D373B7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A1CA-C5D2-4A65-A758-C1CABA1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5EF0-24B4-448C-892D-80187CD8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0FD7-FFE0-44A2-A726-922799EE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E2BB-C41E-409A-A052-6E700BF5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3F01-D7E6-472E-9D6F-D767E26C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5BD3-20F5-4009-BB48-420683E2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EB7D7-1514-4BE8-BD1E-CB31B4AF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2DCE-2AAB-4263-922A-FAE50A31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4CDA4-641F-4799-8D8C-40F75B71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5EF0-49E7-4F8E-A13F-43E46261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F2B-8C88-4F88-AE5B-F974C52C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4BC9-583D-4DDB-B869-4DAB6144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6DAF4-F873-4FD3-A70C-6FB0DE1F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8AA8-823C-4F1B-9AF9-A85FAF2B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9622-8FF2-4D17-82EC-82B0A773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284E-3BAD-4F39-8101-A479CD69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BE90-F808-4BF5-B6F0-F0D9D770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2464D-5A5C-4F08-A39D-00D5D18A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93EE9-2514-4870-8960-F4DB1EF4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B187E-8A80-47FA-9C72-B8D9B591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6239B-0058-4562-8539-AE9953B0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811-F44A-42CC-B30E-2C146B06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0993F-CEB9-4FCE-856A-30A69DAF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6493C-011A-43A3-BBB0-11FBA4C8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9841-31F8-4D8A-A8D8-35436028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9263-FADE-40F3-AD31-30B45B7C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0E84-3AD7-4ED5-91F6-2BDF0C13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7EBC-AE46-43F3-AD40-ECD84DE0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1BA2-F312-4E3A-A97D-C8884830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27B9-214D-460D-8E25-0B00AF75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4791-7BC8-4F51-A595-098E0D9A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C26-D82B-409E-89E7-24CEEC25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5EE-C2AF-4F27-8D21-6E82B2D7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5D7-CA4E-4602-BACC-FFAA0067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AC0-72FC-4E2B-9BDA-4BE1A8AC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351-86E7-4A45-92EA-C898C05F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62F7-6493-46D8-9B6B-F60D17191C5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5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EA55-D972-486B-957B-8E1402C1D79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A3B6-D1A7-4A3C-AC06-751C910ED79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8EE4-76C1-4C71-AECC-2B9D09E35C9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700" spc="-1" strike="noStrike">
              <a:solidFill>
                <a:srgbClr val="dc9e1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9" name="Picture 2" descr="C:\Users\Alexsey\Desktop\img0.jpg"/>
          <p:cNvPicPr/>
          <p:nvPr/>
        </p:nvPicPr>
        <p:blipFill>
          <a:blip r:embed="rId1"/>
          <a:stretch/>
        </p:blipFill>
        <p:spPr>
          <a:xfrm>
            <a:off x="611280" y="23796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белка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белка 3"/>
          <p:cNvPicPr/>
          <p:nvPr/>
        </p:nvPicPr>
        <p:blipFill>
          <a:blip r:embed="rId1"/>
          <a:stretch/>
        </p:blipFill>
        <p:spPr>
          <a:xfrm>
            <a:off x="31680" y="1676520"/>
            <a:ext cx="9112320" cy="5181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ЮРИЙ АЛЕКСЕЕВИЧ ГАГАРИН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белка 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ЗЕМЛЯ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7" name="Picture 2" descr="C:\Users\Alexsey\Desktop\94253-1.jpg"/>
          <p:cNvPicPr/>
          <p:nvPr/>
        </p:nvPicPr>
        <p:blipFill>
          <a:blip r:embed="rId1"/>
          <a:stretch/>
        </p:blipFill>
        <p:spPr>
          <a:xfrm>
            <a:off x="1116000" y="351000"/>
            <a:ext cx="691200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190960" y="1267920"/>
            <a:ext cx="47664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Есть у каждой из план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вой характер, свой секр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вой особый колори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центре - Солнышко горит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м влекомы, им согрет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круг него летят плане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РАСКИНУВ СВОЙ ОГНИСТЫЙ ХВОСТ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КОМЕТА МЧИТСЯ МЕЖДУ ЗВЁЗД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1" name="Picture 5" descr="1_5254fdd018bd55254fdd018c13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5508720" y="4551480"/>
            <a:ext cx="33480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11:39:13Z</dcterms:created>
  <dc:creator>Admin</dc:creator>
  <dc:description/>
  <dc:language>en-US</dc:language>
  <cp:lastModifiedBy>Alexsey</cp:lastModifiedBy>
  <dcterms:modified xsi:type="dcterms:W3CDTF">2020-04-06T14:05:37Z</dcterms:modified>
  <cp:revision>9</cp:revision>
  <dc:subject/>
  <dc:title>Путешествие в космос (средняя группа)</dc:title>
</cp:coreProperties>
</file>