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375-4EE6-485C-B450-1EF15FAE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14D-064F-42CB-9FEF-7EB9D264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E16-8E35-48C4-AB84-38F0A65B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C8C-AA3B-48B5-892C-08795F8F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F638-55F9-4C25-A43D-B038D5CB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CAA2-0FCD-4230-8C28-491F65A9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B566-B37E-4432-BBA2-BBE6E58B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EEE0-6A7B-4212-96A2-7F2752C2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1E61-9B38-448E-8539-7221834C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BDEE-C93B-465D-B7C1-E4E3BC90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8C7A-D187-43AD-B6FF-9BB2E625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532-CC01-42E6-A5D6-94FCD444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40EE-1413-4E5C-8C29-BE5A858C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9194-AA5D-4762-8C77-72A43E4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0524-1245-4B1F-83B9-F27DBC81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4B76-5A67-4FD0-A022-815DF158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9B0B-EC50-466D-B768-F3566916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0438-EC02-4358-9A89-427E99DC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393CB-4EF2-4CD3-B3B0-5EAD3F73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AAF9-75CF-4D9C-8279-D137AEBB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F7F17-B22F-4E8E-874A-F30078AC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B1A2-972F-48EA-9DA4-89DC546D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8EB-047F-47B1-A6D4-B4097E10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26BB8-81E1-4390-97A8-587DA8B8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20A4-26A2-4EDD-8E8B-6612A840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ED92C-D6FC-44B9-8C77-DD05D8E5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0750-D610-4B2B-9274-4004148C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C2DDE-FE08-4C36-A68F-D7869D50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536E-5E55-44A9-8489-15BAF169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54D8-E119-4017-8136-C91060F8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66E09-1622-4DF6-BD73-DC87CD42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71CC-94C5-46A2-8A0F-3CE11257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4388-1734-46A6-A031-2724BF83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508-41FD-4F08-B228-74A86451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C63B-6241-4279-A96A-634C84B1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2840-E47A-4D11-9917-E53ADD76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159C-1C54-448A-AFF1-A66E5D4B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EEB1-C9ED-42E3-AB58-A8D1FE48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3BA4-1375-4EF1-8D4D-8ED99339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51CC-F4C3-4031-B82B-B2559F83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7D9C-D8B6-4BCD-AD0E-461A454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C01E-0C75-4FAB-857E-5AEF7120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66A1E-2A3A-4F69-9A58-6E6AB487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BE1-94B9-4AB5-9708-42C250BC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646-9219-458F-9C44-96935696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673-803A-4A3C-B41B-2C11A8FD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0CC-C7F5-4859-9800-0C3B15A4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077-3473-401B-AC61-4357B59C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AC86-4E16-4F5F-9CD6-3B86DD8AE11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5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8133-4D5B-486D-9250-08EEE33119F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37D3-C1BC-4434-A130-4827A71CFB7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27C0-F1D9-455B-845E-75A97E53B02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700" spc="-1" strike="noStrike">
              <a:solidFill>
                <a:srgbClr val="dc9e1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9" name="Picture 2" descr="C:\Users\Alexsey\Desktop\img0.jpg"/>
          <p:cNvPicPr/>
          <p:nvPr/>
        </p:nvPicPr>
        <p:blipFill>
          <a:blip r:embed="rId1"/>
          <a:stretch/>
        </p:blipFill>
        <p:spPr>
          <a:xfrm>
            <a:off x="611280" y="23796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белка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белка 3"/>
          <p:cNvPicPr/>
          <p:nvPr/>
        </p:nvPicPr>
        <p:blipFill>
          <a:blip r:embed="rId1"/>
          <a:stretch/>
        </p:blipFill>
        <p:spPr>
          <a:xfrm>
            <a:off x="31680" y="1676520"/>
            <a:ext cx="9112320" cy="5181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ЮРИЙ АЛЕКСЕЕВИЧ ГАГАРИН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белка 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ЗЕМЛЯ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7" name="Picture 2" descr="C:\Users\Alexsey\Desktop\94253-1.jpg"/>
          <p:cNvPicPr/>
          <p:nvPr/>
        </p:nvPicPr>
        <p:blipFill>
          <a:blip r:embed="rId1"/>
          <a:stretch/>
        </p:blipFill>
        <p:spPr>
          <a:xfrm>
            <a:off x="1116000" y="351000"/>
            <a:ext cx="691200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190960" y="1267920"/>
            <a:ext cx="47664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Есть у каждой из план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вой характер, свой секр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вой особый колори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центре - Солнышко горит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м влекомы, им согрет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круг него летят плане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РАСКИНУВ СВОЙ ОГНИСТЫЙ ХВОСТ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КОМЕТА МЧИТСЯ МЕЖДУ ЗВЁЗД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1" name="Picture 5" descr="1_5254fdd018bd55254fdd018c13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5508720" y="4551480"/>
            <a:ext cx="33480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11:39:13Z</dcterms:created>
  <dc:creator>Admin</dc:creator>
  <dc:description/>
  <dc:language>en-US</dc:language>
  <cp:lastModifiedBy>Alexsey</cp:lastModifiedBy>
  <dcterms:modified xsi:type="dcterms:W3CDTF">2020-04-06T14:05:37Z</dcterms:modified>
  <cp:revision>9</cp:revision>
  <dc:subject/>
  <dc:title>Путешествие в космос (средняя группа)</dc:title>
</cp:coreProperties>
</file>