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B30-AE7A-4B7E-9ED4-8629DCAB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A96-7D1F-4FFB-9D79-D89837F7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FA7-6D1A-480A-96C7-EA47B7AF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795-47A1-4B30-87F9-5D673470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360C-577E-4FB2-A797-A6F47BEC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F1BD-DB52-43C0-A1EF-8E6FD44A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3BAF-C481-4772-9DD1-17AE4295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E2D3-79D0-4338-9987-7FA9909C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AAA8-853E-4D50-94BC-54BE4E0E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97B0-2274-40FC-8243-B4F2DE43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C78E-8C47-4F14-ADC0-C0F01DBA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42F-D61A-4204-B2D8-4CB3E8C0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5EB4-8015-4E0D-AC75-E2369DDB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D8D6-DA0E-4A7B-9EE1-00612F99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C061-939E-47D9-90F8-DBF45672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B4EC-F591-4C8E-A077-D734CE67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6C56-269A-4FA2-972E-7F9CDAD3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885-03F1-4932-9D01-1C89B5F0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EE0-CA3E-4E28-871E-84640E1A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F01A-A89A-4C36-8307-CA03F2C5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4A9-7889-4487-A498-4DDEF9C9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E5AD-7704-4431-8CF3-34C11CFA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094-6063-4889-8168-3D9D766A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890-6998-4A00-9170-F1F8D6A2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F1BE-092D-4C63-9EDB-1C949610FF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DC48-DC35-4FD1-85D6-83A3F7D67CBC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умма бесконечной геометрической прогре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476360" y="26028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Рассмотрим бесконечную геометрическую прогрессию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5"/>
              <p:cNvSpPr txBox="1"/>
              <p:nvPr/>
            </p:nvSpPr>
            <p:spPr>
              <a:xfrm>
                <a:off x="3132000" y="1052640"/>
                <a:ext cx="3456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2"/>
              <p:cNvSpPr txBox="1"/>
              <p:nvPr/>
            </p:nvSpPr>
            <p:spPr>
              <a:xfrm>
                <a:off x="2989440" y="3954600"/>
                <a:ext cx="29509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4"/>
              <p:cNvSpPr txBox="1"/>
              <p:nvPr/>
            </p:nvSpPr>
            <p:spPr>
              <a:xfrm>
                <a:off x="2484360" y="4869000"/>
                <a:ext cx="43927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Text Box 7"/>
          <p:cNvSpPr/>
          <p:nvPr/>
        </p:nvSpPr>
        <p:spPr>
          <a:xfrm>
            <a:off x="1547640" y="184464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Будем последовательно вычислять суммы двух, трех и т. д.  членов прогрессии. Получим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859280" y="278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8"/>
              <p:cNvSpPr txBox="1"/>
              <p:nvPr/>
            </p:nvSpPr>
            <p:spPr>
              <a:xfrm>
                <a:off x="3780000" y="2708280"/>
                <a:ext cx="1298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9"/>
              <p:cNvSpPr txBox="1"/>
              <p:nvPr/>
            </p:nvSpPr>
            <p:spPr>
              <a:xfrm>
                <a:off x="3419640" y="3357720"/>
                <a:ext cx="21380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Text Box 20"/>
          <p:cNvSpPr/>
          <p:nvPr/>
        </p:nvSpPr>
        <p:spPr>
          <a:xfrm>
            <a:off x="5364000" y="3429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5869080" y="4051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4282920" y="44845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6732720" y="5013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324000" y="580536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Получили последовательность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0"/>
              <p:cNvSpPr txBox="1"/>
              <p:nvPr/>
            </p:nvSpPr>
            <p:spPr>
              <a:xfrm>
                <a:off x="4932360" y="5753160"/>
                <a:ext cx="2971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619280" y="404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Если последовательность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5651640" y="333360"/>
                <a:ext cx="536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Text Box 6"/>
          <p:cNvSpPr/>
          <p:nvPr/>
        </p:nvSpPr>
        <p:spPr>
          <a:xfrm>
            <a:off x="6372360" y="404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сходится к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763640" y="981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пределу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3132000" y="907920"/>
                <a:ext cx="4208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3564000" y="98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, то число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5087880" y="907920"/>
                <a:ext cx="4208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 Box 11"/>
          <p:cNvSpPr/>
          <p:nvPr/>
        </p:nvSpPr>
        <p:spPr>
          <a:xfrm>
            <a:off x="5651640" y="9558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называю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1835280" y="1700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66"/>
                </a:solidFill>
                <a:latin typeface="Arial"/>
              </a:rPr>
              <a:t>суммой геометрической прогресс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468360" y="2673360"/>
            <a:ext cx="8424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!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Обратите внимание: называют не суммой       членов геометрической прогрессии, а суммой геометрической прогресс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395280" y="2637000"/>
            <a:ext cx="8280360" cy="1584000"/>
          </a:xfrm>
          <a:prstGeom prst="rect">
            <a:avLst/>
          </a:prstGeom>
          <a:noFill/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24000" y="4329000"/>
            <a:ext cx="8351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Если же эта последовательность расходится, то о сумме геометрической прогрессии не говорят, хотя о сумме        членов -         можно, естественно, и в том случае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6"/>
              <p:cNvSpPr txBox="1"/>
              <p:nvPr/>
            </p:nvSpPr>
            <p:spPr>
              <a:xfrm>
                <a:off x="8604360" y="4438800"/>
                <a:ext cx="390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7"/>
              <p:cNvSpPr txBox="1"/>
              <p:nvPr/>
            </p:nvSpPr>
            <p:spPr>
              <a:xfrm>
                <a:off x="1692360" y="5114880"/>
                <a:ext cx="536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8"/>
              <p:cNvSpPr txBox="1"/>
              <p:nvPr/>
            </p:nvSpPr>
            <p:spPr>
              <a:xfrm>
                <a:off x="6773760" y="2781360"/>
                <a:ext cx="390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1440000" y="0"/>
            <a:ext cx="77040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66"/>
                </a:solidFill>
                <a:latin typeface="Arial"/>
              </a:rPr>
              <a:t>Если знаменатель       геометрической прогрессии                                                                          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66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336666"/>
                </a:solidFill>
                <a:latin typeface="Arial"/>
              </a:rPr>
              <a:t>удовлетворяет неравенству                , то сумма          прогрессии вычисляется по формул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"/>
              <p:cNvSpPr txBox="1"/>
              <p:nvPr/>
            </p:nvSpPr>
            <p:spPr>
              <a:xfrm>
                <a:off x="4367160" y="44280"/>
                <a:ext cx="4208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1479600" y="620640"/>
                <a:ext cx="6444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6659640" y="568440"/>
                <a:ext cx="936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q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3708360" y="1268280"/>
                <a:ext cx="14400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Text Box 10"/>
          <p:cNvSpPr/>
          <p:nvPr/>
        </p:nvSpPr>
        <p:spPr>
          <a:xfrm>
            <a:off x="5076720" y="1773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250920" y="2205000"/>
            <a:ext cx="882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Как известно ,сумма первых       членов геометрической прогрессии                                              может быть высчитана по формуле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4468680" y="2782800"/>
                <a:ext cx="390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3"/>
              <p:cNvSpPr txBox="1"/>
              <p:nvPr/>
            </p:nvSpPr>
            <p:spPr>
              <a:xfrm>
                <a:off x="2193840" y="3068640"/>
                <a:ext cx="3457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3924360" y="3483000"/>
                <a:ext cx="259236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Text Box 15"/>
          <p:cNvSpPr/>
          <p:nvPr/>
        </p:nvSpPr>
        <p:spPr>
          <a:xfrm>
            <a:off x="6732720" y="3789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0" y="48434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Как ранее мы установи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8"/>
              <p:cNvSpPr txBox="1"/>
              <p:nvPr/>
            </p:nvSpPr>
            <p:spPr>
              <a:xfrm>
                <a:off x="3924360" y="4653000"/>
                <a:ext cx="18511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Text Box 19"/>
          <p:cNvSpPr/>
          <p:nvPr/>
        </p:nvSpPr>
        <p:spPr>
          <a:xfrm>
            <a:off x="5867280" y="47721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250920" y="5589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А так как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1"/>
              <p:cNvSpPr txBox="1"/>
              <p:nvPr/>
            </p:nvSpPr>
            <p:spPr>
              <a:xfrm>
                <a:off x="1547640" y="5589720"/>
                <a:ext cx="871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Text Box 22"/>
          <p:cNvSpPr/>
          <p:nvPr/>
        </p:nvSpPr>
        <p:spPr>
          <a:xfrm>
            <a:off x="2484360" y="55897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мы назвали суммой геометрическо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252360" y="616572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прогрессии,  то  формула доказа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4"/>
              <p:cNvSpPr txBox="1"/>
              <p:nvPr/>
            </p:nvSpPr>
            <p:spPr>
              <a:xfrm>
                <a:off x="5508720" y="5950080"/>
                <a:ext cx="1224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25"/>
          <p:cNvSpPr/>
          <p:nvPr/>
        </p:nvSpPr>
        <p:spPr>
          <a:xfrm>
            <a:off x="6588000" y="609300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1476360" y="0"/>
            <a:ext cx="7667640" cy="2276640"/>
          </a:xfrm>
          <a:prstGeom prst="rect">
            <a:avLst/>
          </a:prstGeom>
          <a:noFill/>
          <a:ln w="316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3"/>
              <p:cNvSpPr txBox="1"/>
              <p:nvPr/>
            </p:nvSpPr>
            <p:spPr>
              <a:xfrm>
                <a:off x="2268360" y="3186000"/>
                <a:ext cx="1151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5"/>
              <p:cNvSpPr txBox="1"/>
              <p:nvPr/>
            </p:nvSpPr>
            <p:spPr>
              <a:xfrm>
                <a:off x="3708360" y="2781360"/>
                <a:ext cx="1144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9"/>
              <p:cNvSpPr txBox="1"/>
              <p:nvPr/>
            </p:nvSpPr>
            <p:spPr>
              <a:xfrm>
                <a:off x="5435640" y="3860640"/>
                <a:ext cx="6904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Text Box 4"/>
          <p:cNvSpPr/>
          <p:nvPr/>
        </p:nvSpPr>
        <p:spPr>
          <a:xfrm>
            <a:off x="826920" y="160344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Найти сумму геометрической прогресси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987640" y="2060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7, 9, 3, 1, …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11280" y="2637000"/>
            <a:ext cx="489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Имеем:                    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788000" y="3187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539640" y="400536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Так как знаменатель прогрессии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084720" y="400536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, то можно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395280" y="4627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воспользоваться формулой, доказанной нами только чт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3"/>
              <p:cNvSpPr txBox="1"/>
              <p:nvPr/>
            </p:nvSpPr>
            <p:spPr>
              <a:xfrm>
                <a:off x="539640" y="5229360"/>
                <a:ext cx="11527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Text Box 25"/>
          <p:cNvSpPr/>
          <p:nvPr/>
        </p:nvSpPr>
        <p:spPr>
          <a:xfrm>
            <a:off x="1908000" y="53737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. Значит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6"/>
              <p:cNvSpPr txBox="1"/>
              <p:nvPr/>
            </p:nvSpPr>
            <p:spPr>
              <a:xfrm>
                <a:off x="3492360" y="5157720"/>
                <a:ext cx="41040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800080"/>
                </a:solidFill>
                <a:latin typeface="Arial"/>
              </a:rPr>
              <a:t>Практические зада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826920" y="2060640"/>
                <a:ext cx="2592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t xml:space="preserve">8,4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4354560" y="1916280"/>
                <a:ext cx="24494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0"/>
              <p:cNvSpPr txBox="1"/>
              <p:nvPr/>
            </p:nvSpPr>
            <p:spPr>
              <a:xfrm>
                <a:off x="787320" y="2946240"/>
                <a:ext cx="30639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limLow>
                      <m:e/>
                      <m:lim/>
                    </m:limLow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4"/>
          <p:cNvSpPr/>
          <p:nvPr/>
        </p:nvSpPr>
        <p:spPr>
          <a:xfrm>
            <a:off x="324000" y="1557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1. Найдите сумму геометрической прогресси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89080" y="249228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2. Вычислите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4356000" y="2849400"/>
                <a:ext cx="2808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limLow>
                      <m:e/>
                      <m:lim/>
                    </m:limLow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Text Box 14"/>
          <p:cNvSpPr/>
          <p:nvPr/>
        </p:nvSpPr>
        <p:spPr>
          <a:xfrm>
            <a:off x="360360" y="350028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3. Найдите знаменатель геометрической прогрессии        , ес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5"/>
              <p:cNvSpPr txBox="1"/>
              <p:nvPr/>
            </p:nvSpPr>
            <p:spPr>
              <a:xfrm>
                <a:off x="8180280" y="3573360"/>
                <a:ext cx="495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6"/>
              <p:cNvSpPr txBox="1"/>
              <p:nvPr/>
            </p:nvSpPr>
            <p:spPr>
              <a:xfrm>
                <a:off x="826920" y="4221000"/>
                <a:ext cx="25797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7"/>
              <p:cNvSpPr txBox="1"/>
              <p:nvPr/>
            </p:nvSpPr>
            <p:spPr>
              <a:xfrm>
                <a:off x="4356000" y="4365720"/>
                <a:ext cx="23241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Text Box 18"/>
          <p:cNvSpPr/>
          <p:nvPr/>
        </p:nvSpPr>
        <p:spPr>
          <a:xfrm>
            <a:off x="395280" y="5013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4. Найдите     член геометрической прогрессии       , ес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9"/>
              <p:cNvSpPr txBox="1"/>
              <p:nvPr/>
            </p:nvSpPr>
            <p:spPr>
              <a:xfrm>
                <a:off x="7308720" y="5038560"/>
                <a:ext cx="495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0"/>
              <p:cNvSpPr txBox="1"/>
              <p:nvPr/>
            </p:nvSpPr>
            <p:spPr>
              <a:xfrm>
                <a:off x="2124000" y="5157720"/>
                <a:ext cx="22392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1"/>
              <p:cNvSpPr txBox="1"/>
              <p:nvPr/>
            </p:nvSpPr>
            <p:spPr>
              <a:xfrm>
                <a:off x="844560" y="5589720"/>
                <a:ext cx="32958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2"/>
              <p:cNvSpPr txBox="1"/>
              <p:nvPr/>
            </p:nvSpPr>
            <p:spPr>
              <a:xfrm>
                <a:off x="4334040" y="5754600"/>
                <a:ext cx="3551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09:00:44Z</dcterms:created>
  <dc:creator>User</dc:creator>
  <dc:description/>
  <dc:language>en-US</dc:language>
  <cp:lastModifiedBy>Коля</cp:lastModifiedBy>
  <dcterms:modified xsi:type="dcterms:W3CDTF">2013-03-27T15:37:42Z</dcterms:modified>
  <cp:revision>7</cp:revision>
  <dc:subject/>
  <dc:title>Сумма бесконечно геометрической прогрессии</dc:title>
</cp:coreProperties>
</file>