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499-5E4D-466C-9397-39D4DE06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36A-12CA-42BE-9C96-57F50FA4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93C-5747-4286-9DBB-3AC282FF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974-81B4-4944-B220-122E283B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0A3-341C-4312-9BDA-9B066D30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DE7-C93A-4785-ADED-87850CD4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76B-F858-4CDA-B76E-92EFBB2D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A43-D859-46C2-BAA7-69ABDE32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AE3-8F21-42BB-A507-87EBF0D8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D5C-4B56-4D01-9778-32D10BF1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47F-1FFD-4DFA-B3E2-7852B8B5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6FE-7AAE-465F-B2BB-B7997AD7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B0A8-8012-475D-AD01-02F2E32783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haroni"/>
              </a:rPr>
              <a:t>Урок русского язы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haroni"/>
              </a:rPr>
              <a:t>в 5 классе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Aharon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  <a:ea typeface="Aharoni"/>
              </a:rPr>
              <a:t>Буквы Е-И в корнях с чередованием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- Что нужно помнить о чередующихся гласных?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971640" y="3573360"/>
            <a:ext cx="7200720" cy="1511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чередующиеся гласные проверять ударением нельз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ы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ть – 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ы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м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ть - з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м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26"/>
          <p:cNvSpPr/>
          <p:nvPr/>
        </p:nvSpPr>
        <p:spPr>
          <a:xfrm>
            <a:off x="3203640" y="2924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6"/>
          <p:cNvSpPr/>
          <p:nvPr/>
        </p:nvSpPr>
        <p:spPr>
          <a:xfrm>
            <a:off x="5940360" y="2924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6"/>
          <p:cNvSpPr/>
          <p:nvPr/>
        </p:nvSpPr>
        <p:spPr>
          <a:xfrm>
            <a:off x="3203640" y="4221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5867280" y="422100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3995640" y="306864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4140360" y="3068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 flipV="1">
            <a:off x="3995640" y="4365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140360" y="4365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1029"/>
          <p:cNvSpPr/>
          <p:nvPr/>
        </p:nvSpPr>
        <p:spPr>
          <a:xfrm>
            <a:off x="468360" y="549360"/>
            <a:ext cx="4862520" cy="4465440"/>
          </a:xfrm>
          <a:prstGeom prst="wedgeRoundRectCallout">
            <a:avLst>
              <a:gd name="adj1" fmla="val 75986"/>
              <a:gd name="adj2" fmla="val 3304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стоит за корнем,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 корне пишем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всег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j0300119"/>
          <p:cNvPicPr/>
          <p:nvPr/>
        </p:nvPicPr>
        <p:blipFill>
          <a:blip r:embed="rId1"/>
          <a:stretch/>
        </p:blipFill>
        <p:spPr>
          <a:xfrm>
            <a:off x="6659640" y="3645000"/>
            <a:ext cx="23032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a0000"/>
                </a:solidFill>
                <a:latin typeface="Comic Sans MS"/>
              </a:rPr>
              <a:t>Проверь себя</a:t>
            </a:r>
            <a:r>
              <a:rPr b="0" lang="ru-RU" sz="4000" spc="-1" strike="noStrike">
                <a:solidFill>
                  <a:srgbClr val="9a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рдце замирает от восторга при виде чудесной картины природы. За селом расстилается гладкое зеркало большого озера, и низко от него над лугами стелется туман. Трудно пробираться сквозь густые заросли кустов. Но вот скоро заблестит солнце на небе, исчезнет туман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cc"/>
                </a:solidFill>
                <a:uFillTx/>
                <a:latin typeface="Comic Sans MS"/>
              </a:rPr>
              <a:t>Самостоятельная работа с текс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ъяснить слова с изученной орфограмм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хематически объяснить знаки препин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казать, что это тек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ределить стиль текста, тип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тилается (морфемный разбор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тилается  (морфологический разбор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a0000"/>
                </a:solidFill>
                <a:latin typeface="Comic Sans MS"/>
              </a:rPr>
              <a:t>Проверь себя</a:t>
            </a:r>
            <a:r>
              <a:rPr b="0" lang="ru-RU" sz="4000" spc="-1" strike="noStrike">
                <a:solidFill>
                  <a:srgbClr val="9a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 Замирает, расстилается, стелется, пробираться, заросли, заблест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2400" spc="-1" strike="noStrike">
                <a:solidFill>
                  <a:srgbClr val="c0504d"/>
                </a:solidFill>
                <a:latin typeface="Comic Sans MS"/>
              </a:rPr>
              <a:t>[ ], и [ ]. (ССП)      [ ],  [ ]. (СБ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ru-RU" sz="24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дложения связаны по смыслу и грамматичес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. Стиль текста – художественный, опис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6. Расстилае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7. Расстилается - – глагол, н.ф. расстилаться, несов. в., 1 спр., ед.ч. наст. вр., 3 л., сказ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547640" y="4076640"/>
            <a:ext cx="576360" cy="144360"/>
          </a:xfrm>
          <a:custGeom>
            <a:avLst/>
            <a:gdLst>
              <a:gd name="textAreaLeft" fmla="*/ 0 w 576360"/>
              <a:gd name="textAreaRight" fmla="*/ 576720 w 576360"/>
              <a:gd name="textAreaTop" fmla="*/ 0 h 144360"/>
              <a:gd name="textAreaBottom" fmla="*/ 51480 h 144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226836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H="1" flipV="1">
            <a:off x="2268000" y="4149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226836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2195640" y="414972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34000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H="1" flipV="1">
            <a:off x="2626920" y="42210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V="1">
            <a:off x="234000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2340000" y="44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 flipH="1">
            <a:off x="270000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H="1" flipV="1">
            <a:off x="284292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97164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1476360" y="4149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90000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262692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 u="sng">
              <a:solidFill>
                <a:srgbClr val="0000cc"/>
              </a:solidFill>
              <a:uFillTx/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пасибо за урок 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Я утверждаю, что ..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Глаго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это часть речи, обозначающая действие предм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Слово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ени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это глаго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 слове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(?)навидеть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е пишется отдель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Глаголы  неопределённой формы не показывают ни времени, ни числа, ни лица, ни род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В слове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оздать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нулевое оконча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 В неопр. форме глагола после Ч пишется 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Брат учит(?)ся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анный глагол стоит в 3-ем лице и пишется с 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. Глаголы совершенного вида отвечают на вопросы: Что сделать? Что сделал? Что сделаю?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. В предложени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Я поклал ручку на парту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есть грамматическая ошиб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0. Глагол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ложить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овершенного в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a0000"/>
                </a:solidFill>
                <a:latin typeface="Calibri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 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.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. 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.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. 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. н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. 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9. 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0. 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до свидания"/>
          <p:cNvPicPr/>
          <p:nvPr/>
        </p:nvPicPr>
        <p:blipFill>
          <a:blip r:embed="rId1"/>
          <a:stretch/>
        </p:blipFill>
        <p:spPr>
          <a:xfrm>
            <a:off x="755640" y="3213000"/>
            <a:ext cx="2087640" cy="29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амооценка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ет ошибок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-2 ошибки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3-4 ошибки-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pok31b87d48687e73b722e7e5cb7ac6c819"/>
          <p:cNvPicPr/>
          <p:nvPr/>
        </p:nvPicPr>
        <p:blipFill>
          <a:blip r:embed="rId1"/>
          <a:stretch/>
        </p:blipFill>
        <p:spPr>
          <a:xfrm>
            <a:off x="7020000" y="765000"/>
            <a:ext cx="100008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5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Буквы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о — </a:t>
            </a: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6600"/>
                </a:solidFill>
                <a:latin typeface="Comic Sans MS"/>
              </a:rPr>
              <a:t>в </a:t>
            </a: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корне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-лаг- — -лож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ед</a:t>
            </a:r>
            <a:r>
              <a:rPr b="1" i="1" lang="ru-RU" sz="3200" spc="-1" strike="noStrike">
                <a:solidFill>
                  <a:srgbClr val="6600cc"/>
                </a:solidFill>
                <a:latin typeface="Comic Sans MS"/>
              </a:rPr>
              <a:t>лаг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ь — пред</a:t>
            </a:r>
            <a:r>
              <a:rPr b="1" i="1" lang="ru-RU" sz="3200" spc="-1" strike="noStrike">
                <a:solidFill>
                  <a:srgbClr val="6600cc"/>
                </a:solidFill>
                <a:latin typeface="Comic Sans MS"/>
              </a:rPr>
              <a:t>лож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и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i="1" lang="ru-RU" sz="3200" spc="-1" strike="noStrike">
                <a:solidFill>
                  <a:srgbClr val="6600cc"/>
                </a:solidFill>
                <a:latin typeface="Comic Sans MS"/>
              </a:rPr>
              <a:t>лаг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мое — с</a:t>
            </a:r>
            <a:r>
              <a:rPr b="1" i="1" lang="ru-RU" sz="3200" spc="-1" strike="noStrike">
                <a:solidFill>
                  <a:srgbClr val="6600cc"/>
                </a:solidFill>
                <a:latin typeface="Comic Sans MS"/>
              </a:rPr>
              <a:t>лож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и</a:t>
            </a:r>
            <a:r>
              <a:rPr b="1" i="1" lang="ru-RU" sz="3200" spc="-1" strike="noStrike">
                <a:solidFill>
                  <a:srgbClr val="6600cc"/>
                </a:solidFill>
                <a:latin typeface="Comic Sans MS"/>
              </a:rPr>
              <a:t>лаг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ь — при</a:t>
            </a:r>
            <a:r>
              <a:rPr b="1" i="1" lang="ru-RU" sz="3200" spc="-1" strike="noStrike">
                <a:solidFill>
                  <a:srgbClr val="6600cc"/>
                </a:solidFill>
                <a:latin typeface="Comic Sans MS"/>
              </a:rPr>
              <a:t>лож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и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гда в корне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–лаг - лож-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до писать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 когда —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3203640" y="1916280"/>
            <a:ext cx="647640" cy="360360"/>
          </a:xfrm>
          <a:custGeom>
            <a:avLst/>
            <a:gdLst>
              <a:gd name="textAreaLeft" fmla="*/ 0 w 647640"/>
              <a:gd name="textAreaRight" fmla="*/ 648000 w 64764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6"/>
          <p:cNvSpPr/>
          <p:nvPr/>
        </p:nvSpPr>
        <p:spPr>
          <a:xfrm>
            <a:off x="6084720" y="1916280"/>
            <a:ext cx="719280" cy="360360"/>
          </a:xfrm>
          <a:custGeom>
            <a:avLst/>
            <a:gdLst>
              <a:gd name="textAreaLeft" fmla="*/ 0 w 719280"/>
              <a:gd name="textAreaRight" fmla="*/ 719640 w 71928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6"/>
          <p:cNvSpPr/>
          <p:nvPr/>
        </p:nvSpPr>
        <p:spPr>
          <a:xfrm>
            <a:off x="2771640" y="2997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6"/>
          <p:cNvSpPr/>
          <p:nvPr/>
        </p:nvSpPr>
        <p:spPr>
          <a:xfrm>
            <a:off x="5580000" y="3068640"/>
            <a:ext cx="576360" cy="2890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9080"/>
              <a:gd name="textAreaBottom" fmla="*/ 103320 h 2890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6"/>
          <p:cNvSpPr/>
          <p:nvPr/>
        </p:nvSpPr>
        <p:spPr>
          <a:xfrm>
            <a:off x="5940360" y="407664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6"/>
          <p:cNvSpPr/>
          <p:nvPr/>
        </p:nvSpPr>
        <p:spPr>
          <a:xfrm>
            <a:off x="3203640" y="407664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385128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3995640" y="206064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3995640" y="414972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492360" y="314172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 flipV="1">
            <a:off x="3348000" y="3141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385128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1029"/>
          <p:cNvSpPr/>
          <p:nvPr/>
        </p:nvSpPr>
        <p:spPr>
          <a:xfrm>
            <a:off x="468360" y="549360"/>
            <a:ext cx="4862520" cy="4465440"/>
          </a:xfrm>
          <a:prstGeom prst="wedgeRoundRectCallout">
            <a:avLst>
              <a:gd name="adj1" fmla="val 75986"/>
              <a:gd name="adj2" fmla="val 3304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ЕСЛИ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А </a:t>
            </a: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СТОИТ ЗА КОРНЕ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В КОРНЕ ПИШЕМ ТОЖЕ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300119"/>
          <p:cNvPicPr/>
          <p:nvPr/>
        </p:nvPicPr>
        <p:blipFill>
          <a:blip r:embed="rId1"/>
          <a:stretch/>
        </p:blipFill>
        <p:spPr>
          <a:xfrm>
            <a:off x="6659640" y="3645000"/>
            <a:ext cx="23032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5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Буквы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 — </a:t>
            </a: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006600"/>
                </a:solidFill>
                <a:latin typeface="Comic Sans MS"/>
              </a:rPr>
              <a:t>в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корне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-раст-ращ- — -рос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ст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ние — 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Вы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ст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и — вы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и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щ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ние - зар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с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гда в корне 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–раст - рос-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до писа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когда —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3276720" y="1844640"/>
            <a:ext cx="863640" cy="360360"/>
          </a:xfrm>
          <a:custGeom>
            <a:avLst/>
            <a:gdLst>
              <a:gd name="textAreaLeft" fmla="*/ 0 w 863640"/>
              <a:gd name="textAreaRight" fmla="*/ 864000 w 86364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5796000" y="191628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/>
          <p:cNvSpPr/>
          <p:nvPr/>
        </p:nvSpPr>
        <p:spPr>
          <a:xfrm>
            <a:off x="3708360" y="2565360"/>
            <a:ext cx="792360" cy="360360"/>
          </a:xfrm>
          <a:custGeom>
            <a:avLst/>
            <a:gdLst>
              <a:gd name="textAreaLeft" fmla="*/ 0 w 792360"/>
              <a:gd name="textAreaRight" fmla="*/ 792720 w 792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5940360" y="256536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6"/>
          <p:cNvSpPr/>
          <p:nvPr/>
        </p:nvSpPr>
        <p:spPr>
          <a:xfrm>
            <a:off x="3419640" y="3141720"/>
            <a:ext cx="720720" cy="360360"/>
          </a:xfrm>
          <a:custGeom>
            <a:avLst/>
            <a:gdLst>
              <a:gd name="textAreaLeft" fmla="*/ 0 w 720720"/>
              <a:gd name="textAreaRight" fmla="*/ 721080 w 72072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6"/>
          <p:cNvSpPr/>
          <p:nvPr/>
        </p:nvSpPr>
        <p:spPr>
          <a:xfrm>
            <a:off x="6084720" y="3141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6"/>
          <p:cNvSpPr/>
          <p:nvPr/>
        </p:nvSpPr>
        <p:spPr>
          <a:xfrm>
            <a:off x="3708360" y="4149720"/>
            <a:ext cx="647640" cy="360360"/>
          </a:xfrm>
          <a:custGeom>
            <a:avLst/>
            <a:gdLst>
              <a:gd name="textAreaLeft" fmla="*/ 0 w 647640"/>
              <a:gd name="textAreaRight" fmla="*/ 648000 w 64764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5003640" y="414972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029"/>
          <p:cNvSpPr/>
          <p:nvPr/>
        </p:nvSpPr>
        <p:spPr>
          <a:xfrm>
            <a:off x="468360" y="549360"/>
            <a:ext cx="4862520" cy="4465440"/>
          </a:xfrm>
          <a:prstGeom prst="wedgeRoundRectCallout">
            <a:avLst>
              <a:gd name="adj1" fmla="val 75986"/>
              <a:gd name="adj2" fmla="val 3304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еред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СТ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Щ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 корне пишем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сег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0300119"/>
          <p:cNvPicPr/>
          <p:nvPr/>
        </p:nvPicPr>
        <p:blipFill>
          <a:blip r:embed="rId1"/>
          <a:stretch/>
        </p:blipFill>
        <p:spPr>
          <a:xfrm>
            <a:off x="6659640" y="3645000"/>
            <a:ext cx="23032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82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Comic Sans MS"/>
              </a:rPr>
              <a:t>Исключения из правила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ост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вщик в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ост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ве жил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ост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славом звали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н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ост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к себе купил прямо на базар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+ от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ас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ь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2:41:06Z</dcterms:created>
  <dc:creator>0812137888</dc:creator>
  <dc:description/>
  <dc:language>en-US</dc:language>
  <cp:lastModifiedBy>Admin</cp:lastModifiedBy>
  <dcterms:modified xsi:type="dcterms:W3CDTF">2020-04-06T17:08:14Z</dcterms:modified>
  <cp:revision>27</cp:revision>
  <dc:subject/>
  <dc:title>Урок русского языка в 5 классе Буквы Е-И в корнях с чередованием</dc:title>
</cp:coreProperties>
</file>