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C1D-8004-426A-9AD8-2F86019F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6AF-8760-4CA3-8C2C-25DA21F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A47-B829-44D6-8DC0-B4B773B0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098-03FA-4B00-B684-6765C35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67D-3425-4926-8561-13089120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B09D-35AA-4CA4-B8E3-5104449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954E-BB6F-44FB-9ED0-23F929F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8BF-BE8E-4F7E-B48E-0263770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D0BB-8E6A-4222-84EC-F3B25053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9D11-62F2-4AAE-B4BB-BC82641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13D3-95E7-43FF-8769-9D0CF51F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E1F-3928-4E69-ABEF-3462F4F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488-CF7F-43B8-A276-DD98400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675E-D512-4951-88D3-EAF636A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F921-41FC-4118-BBA2-AF64B4EB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CF7F-6690-403D-BE9E-A86B6749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3F5-F31A-40C4-BFD3-A2845F88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C257-DD5A-48E0-B36F-06BEB20F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F8C9-A6C3-405F-BEA6-1F49689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A7A3-A7D3-45EE-9072-3A71E8B2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8B1D-5F49-47BF-BD38-69C87F1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E2AD-30CB-4670-A035-CFA0415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4B1-F6A3-46C1-9070-D821B00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8D03-0DF3-4D6F-B075-B35821F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81D0-8BCF-4B0F-89A4-39EDDBB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A4F4-2FCD-47BD-8DE6-D730731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80C8-7490-41EF-B7D9-C047DBD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924A-5AF9-4663-830B-5A1F228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924F-295C-4C26-BF1C-8BD88338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16F9-AECB-4E9A-9599-2F37D3FC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7A8B-02CE-4FAC-B3CF-AB560FDC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804D-5B8E-4BF4-8F1A-084451EF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8A3E-0FD7-44F9-A2FE-FDE070B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F35-804E-47CE-83E4-8F38FD3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195E-0D89-46CA-A64E-CBAB810C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78C0-6859-4EC8-92CC-6B87D6A2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DED2-676D-4713-9FFE-BCD68F45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1E57-3E7D-4EB3-9D75-F2977D0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EC65-FED2-4504-8488-D40F265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4A12-BA3B-4B00-814B-E3421B2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F751-9946-40D5-AD19-855D92C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2FFB-E239-4E5A-9AB7-6BB38997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E8A3-F5D4-446F-9546-3CACFD60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DFB-4C29-4DBF-81A7-FFBACCC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433-D361-4EE2-8A39-27BA491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D71-44D5-4746-9D5D-41DF3E6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123-E722-47DB-9259-3CFCF49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E9B-521E-4A2D-AEF3-ECA3BF8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83F-1793-4D27-BF8F-454F9131E75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B9A-B617-46D9-8E44-CE76292305D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08D-455E-411D-872B-4259C8500071}" type="datetime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F4A-B05C-4288-8477-666D520E87F6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5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4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192-34D9-44D7-9CE4-089D93DE61A1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A83-2867-4A1F-B23E-5D5A693860A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AFF-14F0-49FD-AB23-0E89F644D6FF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1493-5A96-4BA3-BA0A-AFB80458DF0E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4572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304920" y="762120"/>
            <a:ext cx="8534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ЛЕГКАЯ АТЛЕТ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Бег на результат 60 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43000" y="5715000"/>
            <a:ext cx="7162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089-4C99-42E3-9349-C07742F0296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304920" y="45720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French Script MT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886200" y="3505320"/>
            <a:ext cx="5257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641-3CF5-4EBE-8CCB-966979D20E3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048120" y="457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28600" y="32004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360" cy="259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FD0-0F74-4C7E-BFBE-690ABF0C61A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urier New"/>
              </a:rPr>
              <a:t>Бег на короткие дистанции (спринт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Для учащихся 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II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 классов  - 30, 60 метров – условно разделяется на четыре фазы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;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овый разго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ег по дистанци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Финишир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4290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B34-F960-4623-B851-99B40FD49C1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28191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Courier New"/>
              </a:rPr>
              <a:t>Высокий старт</a:t>
            </a:r>
            <a:r>
              <a:rPr b="0" lang="ru-RU" sz="5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5400"/>
            </a:br>
            <a:r>
              <a:rPr b="0" lang="ru-RU" sz="2800" spc="-1" strike="noStrike">
                <a:solidFill>
                  <a:srgbClr val="ffcc00"/>
                </a:solidFill>
                <a:latin typeface="Courier New"/>
              </a:rPr>
              <a:t>Применяется практически на всех дистанциях бега.</a:t>
            </a: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5" name="Picture 9" descr="bd0149-001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8AD-EB29-4F19-9BA1-0D251156282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>
            <a:lum contrast="42000"/>
          </a:blip>
          <a:srcRect l="4354" t="0" r="62242" b="-1086"/>
          <a:stretch/>
        </p:blipFill>
        <p:spPr>
          <a:xfrm>
            <a:off x="5638680" y="304920"/>
            <a:ext cx="306576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533520" y="16765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подходит к стартовой линии и ставит сильнейшую ногу носком к ней.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80880" y="42670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Другую ногу отставляет назад, упираясь в грунт носком. Туловище выпрямлено, руки свободно опущены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04920" y="2286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409760" y="99072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НА СТАРТ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6AF7-2327-4993-97C8-7274BA01BE2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слегка сгибае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ногу, перенося ве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тела на вперед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стоящую ногу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>
            <a:lum contrast="42000"/>
          </a:blip>
          <a:srcRect l="33414" t="0" r="37430" b="0"/>
          <a:stretch/>
        </p:blipFill>
        <p:spPr>
          <a:xfrm>
            <a:off x="5715000" y="380880"/>
            <a:ext cx="2925720" cy="4876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380880" y="4724280"/>
            <a:ext cx="84582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Руки чуть согнуты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в локтях. Взгляд направлен вперед</a:t>
            </a:r>
            <a:r>
              <a:rPr b="0" lang="ru-RU" sz="1800" spc="-1" strike="noStrike">
                <a:solidFill>
                  <a:srgbClr val="ffcc00"/>
                </a:solidFill>
                <a:latin typeface="French Script M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049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120680" y="114300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ВНИМАНИЕ!»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FCA-859D-452D-A375-742A39B9C8B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учащийся, энергично отталкиваясь ногам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от земли, начинает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бег, стараясь быстро набрать скорость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>
            <a:lum contrast="42000"/>
          </a:blip>
          <a:srcRect l="60340" t="0" r="1786" b="0"/>
          <a:stretch/>
        </p:blipFill>
        <p:spPr>
          <a:xfrm>
            <a:off x="5486400" y="1371600"/>
            <a:ext cx="3384720" cy="43434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7"/>
          <p:cNvSpPr/>
          <p:nvPr/>
        </p:nvSpPr>
        <p:spPr>
          <a:xfrm>
            <a:off x="152280" y="152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1188360" y="838080"/>
            <a:ext cx="26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МАРШ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DC0-2EC2-4498-BFF0-EF926B29408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92240"/>
            <a:ext cx="80802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French Script MT"/>
              </a:rPr>
              <a:t>СТАРТОВЫЙ РАЗ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Ученик энергично выполняет беговые движения ногами и работая руками. Туловище наклонено вперед. </a:t>
            </a:r>
            <a:r>
              <a:rPr b="0" lang="ru-RU" sz="3200" spc="-1" strike="noStrike">
                <a:solidFill>
                  <a:srgbClr val="ffcc00"/>
                </a:solidFill>
                <a:latin typeface="French Script MT"/>
              </a:rPr>
              <a:t>С удлинением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12" descr="bd0149-001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849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380880" y="5105520"/>
            <a:ext cx="8763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шагов туловище постепенно выпрямляется, и бегун набирает максимальную скорость, которая поддерживается до конца бег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E97-FCD1-41D6-B8AF-9B6AB5EB6F3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French Script MT"/>
              </a:rPr>
              <a:t>БЕГ ПО ДИСТАН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2558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0"/>
          <p:cNvSpPr/>
          <p:nvPr/>
        </p:nvSpPr>
        <p:spPr>
          <a:xfrm>
            <a:off x="30492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бег по дистанции должен быть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ритмичным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и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свободным,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с небольшим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наклоном туловища вперед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(взгляд устремлен вперед); нога 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5-08-14T09:11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