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BBE-69CB-47CC-B276-9AC6942D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EEB-FCF4-47AD-924A-169E099F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9FA-05BA-40D8-827B-63E36AFA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41E-A523-478C-AA86-024E7E2B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2E4-21A3-4485-A2FF-BEF104C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960-463A-4C27-AAFC-FFB21064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E99-4D6C-4EAA-88DB-BA5485BC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FE8-037C-4518-B258-44BE23A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A32-9830-4EEA-AA43-3C28DE0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538-93EC-4C87-8BCD-60FB3AA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471-7022-476F-AF98-D59EFCC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B83-F945-49B2-85A7-375D0EF0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0BF-F361-4A57-A33B-D28CB2C46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АРТИНКИ\Супер картинки\Природа\76939_1024_768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685800"/>
            <a:ext cx="791064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cc3300"/>
                </a:solidFill>
                <a:latin typeface="Times New Roman"/>
              </a:rPr>
              <a:t>Редьярд Киплинг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cc3300"/>
                </a:solidFill>
                <a:latin typeface="Times New Roman"/>
              </a:rPr>
              <a:t>«Рикки-Тикки-Тави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ig"/>
          <p:cNvPicPr/>
          <p:nvPr/>
        </p:nvPicPr>
        <p:blipFill>
          <a:blip r:embed="rId2"/>
          <a:stretch/>
        </p:blipFill>
        <p:spPr>
          <a:xfrm>
            <a:off x="7048440" y="36194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659afd267c77fb7108c3222772d"/>
          <p:cNvPicPr/>
          <p:nvPr/>
        </p:nvPicPr>
        <p:blipFill>
          <a:blip r:embed="rId3"/>
          <a:stretch/>
        </p:blipFill>
        <p:spPr>
          <a:xfrm>
            <a:off x="0" y="3429000"/>
            <a:ext cx="30002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447920" y="17524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Заголовок 1 ч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Рикки  в  доме  у  людей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143000" y="1295280"/>
            <a:ext cx="72388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.Ответить на вопросы и выполнить задания на с.1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2.Пересказ 1 ч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tvorchestvo_kipling_plakat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192"/>
          <p:cNvPicPr/>
          <p:nvPr/>
        </p:nvPicPr>
        <p:blipFill>
          <a:blip r:embed="rId2"/>
          <a:stretch/>
        </p:blipFill>
        <p:spPr>
          <a:xfrm>
            <a:off x="4724280" y="3457440"/>
            <a:ext cx="4229280" cy="340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Ruddy_mongoose"/>
          <p:cNvPicPr/>
          <p:nvPr/>
        </p:nvPicPr>
        <p:blipFill>
          <a:blip r:embed="rId3"/>
          <a:stretch/>
        </p:blipFill>
        <p:spPr>
          <a:xfrm>
            <a:off x="228600" y="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1377749768_6311190373_9841bc29e7_z"/>
          <p:cNvPicPr/>
          <p:nvPr/>
        </p:nvPicPr>
        <p:blipFill>
          <a:blip r:embed="rId4"/>
          <a:stretch/>
        </p:blipFill>
        <p:spPr>
          <a:xfrm>
            <a:off x="4724280" y="0"/>
            <a:ext cx="4191120" cy="3216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Malagasy-ring-tailed-mongoose-by-water"/>
          <p:cNvPicPr/>
          <p:nvPr/>
        </p:nvPicPr>
        <p:blipFill>
          <a:blip r:embed="rId5"/>
          <a:stretch/>
        </p:blipFill>
        <p:spPr>
          <a:xfrm>
            <a:off x="228600" y="3564000"/>
            <a:ext cx="388620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1" descr="http://static.file-imperium.ru/saveimg/090611155157.jpg"/>
          <p:cNvPicPr/>
          <p:nvPr/>
        </p:nvPicPr>
        <p:blipFill>
          <a:blip r:embed="rId2"/>
          <a:stretch/>
        </p:blipFill>
        <p:spPr>
          <a:xfrm>
            <a:off x="533520" y="457200"/>
            <a:ext cx="807408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creen2"/>
          <p:cNvPicPr/>
          <p:nvPr/>
        </p:nvPicPr>
        <p:blipFill>
          <a:blip r:embed="rId2"/>
          <a:stretch/>
        </p:blipFill>
        <p:spPr>
          <a:xfrm>
            <a:off x="0" y="2895480"/>
            <a:ext cx="2743200" cy="216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592129__rikki"/>
          <p:cNvPicPr/>
          <p:nvPr/>
        </p:nvPicPr>
        <p:blipFill>
          <a:blip r:embed="rId3"/>
          <a:stretch/>
        </p:blipFill>
        <p:spPr>
          <a:xfrm>
            <a:off x="2286000" y="3429000"/>
            <a:ext cx="2666880" cy="215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Film_shot00000"/>
          <p:cNvPicPr/>
          <p:nvPr/>
        </p:nvPicPr>
        <p:blipFill>
          <a:blip r:embed="rId4"/>
          <a:stretch/>
        </p:blipFill>
        <p:spPr>
          <a:xfrm>
            <a:off x="4191120" y="4114800"/>
            <a:ext cx="2666880" cy="21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ilm_shot00001"/>
          <p:cNvPicPr/>
          <p:nvPr/>
        </p:nvPicPr>
        <p:blipFill>
          <a:blip r:embed="rId5"/>
          <a:stretch/>
        </p:blipFill>
        <p:spPr>
          <a:xfrm>
            <a:off x="6400800" y="4691160"/>
            <a:ext cx="27432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1676E-006 L -0.4625 -0.52555 E">
                                      <p:cBhvr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08624 L -0.40833 -0.49687 E">
                                      <p:cBhvr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.05549 L 0.6 -0.13526 E">
                                      <p:cBhvr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111 L 0.45417 0.0985 E">
                                      <p:cBhvr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143000" y="1295280"/>
            <a:ext cx="7162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«Беги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разузнай и  разнюхай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43695_640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555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1304520101_rikki"/>
          <p:cNvPicPr/>
          <p:nvPr/>
        </p:nvPicPr>
        <p:blipFill>
          <a:blip r:embed="rId2"/>
          <a:stretch/>
        </p:blipFill>
        <p:spPr>
          <a:xfrm>
            <a:off x="990720" y="609480"/>
            <a:ext cx="7391160" cy="572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КАРТИНКИ\Супер картинки\Природа\Nature_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b40fb6ad16ec"/>
          <p:cNvPicPr/>
          <p:nvPr/>
        </p:nvPicPr>
        <p:blipFill>
          <a:blip r:embed="rId2"/>
          <a:stretch/>
        </p:blipFill>
        <p:spPr>
          <a:xfrm>
            <a:off x="990720" y="533520"/>
            <a:ext cx="7238880" cy="579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Светлана</cp:lastModifiedBy>
  <dcterms:modified xsi:type="dcterms:W3CDTF">2020-04-06T18:07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