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38B7-7444-40D3-81A4-58CE30BB7A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D7F8-6903-4C52-A74B-33C091C19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648-F08D-485B-A9AD-6912B9930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D36-474B-486E-A3C4-285377104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B8DB-C693-4D3F-9ED7-708EBCD01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5898-CAD8-4595-8737-53EC7E3B8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7CD-5F79-4CA5-8D79-B3CF6F464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16F-CA79-4087-8718-C074CE997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CD6-6EBC-4E1C-8E22-DC3512595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E24-2398-42E0-A05D-AB06FA83B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0007-7330-4ACD-99FA-3C9EA8721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498-CB90-46D9-9B59-DE2DB124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D7F-8AF2-46BF-ACFC-0234EB13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A83-2DB3-4475-AC41-26282770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45C-FB6F-40BF-9D1E-DE2E0683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170E-7D73-444D-871C-411CEFD8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9FB4-4F46-49DE-8337-348D48E9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4D8E-EB63-46A8-97BC-83B1222C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AB8-8399-4899-B2CF-CEA57A9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7A03-F4E1-4C53-8CC2-9796AEF3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68E-0771-4710-B239-293237C7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49F-1D53-44D1-B48C-932EDCA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216-488D-4B48-B4BF-CD3416AF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7AFE-2753-4DE1-BF36-743562F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C41D-FB68-42F8-9B0E-A0AACC3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88E-CB65-4DEE-B611-264C5D9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5B5C-18DB-4CA3-A87F-79686F6A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9DC-DDD2-42BF-8046-D3E354EE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3125-CCC9-4367-816A-FB178F54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0E1E-4362-4C63-92FD-AD59D71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0AF3-9C19-41C1-827D-374D9E8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D96E-F192-4EBB-98EA-251E6CC2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236F-3157-4CCC-811A-9AD4279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6BF-7F7E-4442-8586-1246BA58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8C53-3CF7-4312-90B6-97EAD6C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0C3E-D7FF-4A8E-8214-F199EAB1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4A87-56A3-4F4D-A6B9-7EAB74E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5117-F5ED-4983-A8F6-9E82D96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836B-D435-4F6C-B2A3-0D23F6E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2B54-CE6E-42DC-BF3F-97DD6222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7442-2065-4F00-907F-28361909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EE7C-F77B-4239-88F2-2129DEFF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1AD3-99C9-4565-9B41-2ECCD1BF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892E-3C02-4710-81E3-23A9B79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845-E4A2-4F1C-A871-F57F6D6A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CFD5-F5F7-4DCB-AA56-1EA6B24F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562E-692D-4080-AB1E-1983FFB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4F84-D591-418F-805A-FC1878E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A064-8009-4B95-9788-6A35CA58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990E-5D7E-48C0-AD7D-609E5BE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0AA6-65C1-44E4-AE84-AD9D66E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1480-C23D-44FA-A263-90A2146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B313-ADA2-4F00-999A-F47B0358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F17F-94C2-4B3A-9443-6F60AE92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055-39A4-4ECA-8A9F-7805BB05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6B6-D340-40DA-B748-4F07FDC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19F-8B98-40C8-9AF3-67FF7A8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077-95A9-4901-BE78-2B11515F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F22-4DE3-499C-9274-E79053F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1700-9E1D-4542-898E-1A2D6C4BCC2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C902-3AB9-41F9-B9FF-6746071E3EE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826-BABD-410E-A345-C0B6B6E0967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896C-6F07-4B43-8105-8DF3C49DC89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3"/>
          <p:cNvSpPr txBox="1"/>
          <p:nvPr/>
        </p:nvSpPr>
        <p:spPr>
          <a:xfrm>
            <a:off x="1523880" y="1752480"/>
            <a:ext cx="619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Частица как часть речи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Формообразующие час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2513520" y="451440"/>
            <a:ext cx="4153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ыл бы я девчон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время не теря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 на улице не прыг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 рубашки пости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вымыл в кухне п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в комнате подм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ыл бы чашки, ло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начистил бы карто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вои игрушки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 расставил по мест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чего ж я не девчо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 маме так помо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 сразу бы сказ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лодчина ты, сынок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00800" y="617544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9"/>
          <p:cNvGrpSpPr/>
          <p:nvPr/>
        </p:nvGrpSpPr>
        <p:grpSpPr>
          <a:xfrm>
            <a:off x="3505320" y="838080"/>
            <a:ext cx="609480" cy="76320"/>
            <a:chOff x="3505320" y="838080"/>
            <a:chExt cx="609480" cy="76320"/>
          </a:xfrm>
        </p:grpSpPr>
        <p:sp>
          <p:nvSpPr>
            <p:cNvPr id="262" name="Line 7"/>
            <p:cNvSpPr/>
            <p:nvPr/>
          </p:nvSpPr>
          <p:spPr>
            <a:xfrm>
              <a:off x="3505320" y="83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3505320" y="914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10"/>
          <p:cNvSpPr/>
          <p:nvPr/>
        </p:nvSpPr>
        <p:spPr>
          <a:xfrm>
            <a:off x="4191120" y="83808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1"/>
          <p:cNvGrpSpPr/>
          <p:nvPr/>
        </p:nvGrpSpPr>
        <p:grpSpPr>
          <a:xfrm>
            <a:off x="5257800" y="1219320"/>
            <a:ext cx="761760" cy="75960"/>
            <a:chOff x="5257800" y="1219320"/>
            <a:chExt cx="761760" cy="75960"/>
          </a:xfrm>
        </p:grpSpPr>
        <p:sp>
          <p:nvSpPr>
            <p:cNvPr id="266" name="Line 12"/>
            <p:cNvSpPr/>
            <p:nvPr/>
          </p:nvSpPr>
          <p:spPr>
            <a:xfrm>
              <a:off x="5257800" y="1219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5257800" y="12952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14"/>
          <p:cNvSpPr/>
          <p:nvPr/>
        </p:nvSpPr>
        <p:spPr>
          <a:xfrm>
            <a:off x="3352680" y="121932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5257800" y="1600200"/>
            <a:ext cx="990360" cy="76320"/>
            <a:chOff x="5257800" y="1600200"/>
            <a:chExt cx="990360" cy="76320"/>
          </a:xfrm>
        </p:grpSpPr>
        <p:sp>
          <p:nvSpPr>
            <p:cNvPr id="270" name="Line 16"/>
            <p:cNvSpPr/>
            <p:nvPr/>
          </p:nvSpPr>
          <p:spPr>
            <a:xfrm>
              <a:off x="5257800" y="16002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5257800" y="1676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>
            <a:off x="3200400" y="160020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4876920" y="1981080"/>
            <a:ext cx="1294560" cy="76320"/>
            <a:chOff x="4876920" y="1981080"/>
            <a:chExt cx="1294560" cy="76320"/>
          </a:xfrm>
        </p:grpSpPr>
        <p:sp>
          <p:nvSpPr>
            <p:cNvPr id="274" name="Line 20"/>
            <p:cNvSpPr/>
            <p:nvPr/>
          </p:nvSpPr>
          <p:spPr>
            <a:xfrm>
              <a:off x="4876920" y="1981080"/>
              <a:ext cx="12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4876920" y="2057400"/>
              <a:ext cx="12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22"/>
          <p:cNvSpPr/>
          <p:nvPr/>
        </p:nvSpPr>
        <p:spPr>
          <a:xfrm>
            <a:off x="3200400" y="198108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"/>
          <p:cNvGrpSpPr/>
          <p:nvPr/>
        </p:nvGrpSpPr>
        <p:grpSpPr>
          <a:xfrm>
            <a:off x="3352680" y="4532400"/>
            <a:ext cx="1447200" cy="75960"/>
            <a:chOff x="3352680" y="4532400"/>
            <a:chExt cx="1447200" cy="75960"/>
          </a:xfrm>
        </p:grpSpPr>
        <p:sp>
          <p:nvSpPr>
            <p:cNvPr id="278" name="Line 24"/>
            <p:cNvSpPr/>
            <p:nvPr/>
          </p:nvSpPr>
          <p:spPr>
            <a:xfrm>
              <a:off x="3352680" y="4532400"/>
              <a:ext cx="144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>
              <a:off x="3352680" y="4608360"/>
              <a:ext cx="144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Line 26"/>
          <p:cNvSpPr/>
          <p:nvPr/>
        </p:nvSpPr>
        <p:spPr>
          <a:xfrm>
            <a:off x="3048120" y="454500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7"/>
          <p:cNvGrpSpPr/>
          <p:nvPr/>
        </p:nvGrpSpPr>
        <p:grpSpPr>
          <a:xfrm>
            <a:off x="5410080" y="5943600"/>
            <a:ext cx="1142640" cy="76320"/>
            <a:chOff x="5410080" y="5943600"/>
            <a:chExt cx="1142640" cy="76320"/>
          </a:xfrm>
        </p:grpSpPr>
        <p:sp>
          <p:nvSpPr>
            <p:cNvPr id="282" name="Line 28"/>
            <p:cNvSpPr/>
            <p:nvPr/>
          </p:nvSpPr>
          <p:spPr>
            <a:xfrm>
              <a:off x="5410080" y="594360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5410080" y="601992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30"/>
          <p:cNvSpPr/>
          <p:nvPr/>
        </p:nvSpPr>
        <p:spPr>
          <a:xfrm>
            <a:off x="4876920" y="594360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5" descr=""/>
          <p:cNvPicPr/>
          <p:nvPr/>
        </p:nvPicPr>
        <p:blipFill>
          <a:blip r:embed="rId1"/>
          <a:stretch/>
        </p:blipFill>
        <p:spPr>
          <a:xfrm>
            <a:off x="603360" y="298440"/>
            <a:ext cx="7900920" cy="11653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457200" y="222984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ликолепен у нас новый нападающий. Что за удар у него!  2. К открытию спортклуба пусть готовится каждый спортсмен.  3. Именно он в прошлом году был чемпионом области.  4. В солнечный день мы отправились бы в поход.  5. Обещанная инсценировка будет подготовлена. Мы же хозяева своего слова.  6. Что бы вы ещё включили в программу веч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Равнобедренный треугольник 8"/>
          <p:cNvSpPr/>
          <p:nvPr/>
        </p:nvSpPr>
        <p:spPr>
          <a:xfrm>
            <a:off x="6019920" y="5335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9"/>
          <p:cNvSpPr/>
          <p:nvPr/>
        </p:nvSpPr>
        <p:spPr>
          <a:xfrm>
            <a:off x="585000" y="2291040"/>
            <a:ext cx="848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амым интересным на уроке мне показалос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не было трудно, когда работали над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я работа на уроке мне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3276720" y="91440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тоги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2819520" y="83808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061360" y="2513880"/>
            <a:ext cx="54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а 138, упражнение 3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1" descr="office5.gif"/>
          <p:cNvPicPr/>
          <p:nvPr/>
        </p:nvPicPr>
        <p:blipFill>
          <a:blip r:embed="rId1"/>
          <a:stretch/>
        </p:blipFill>
        <p:spPr>
          <a:xfrm rot="2673000">
            <a:off x="4266720" y="4038120"/>
            <a:ext cx="762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990720" y="114300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90720" y="202788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функциональное значение частиц в речи, их отличие от предлогов и сою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роль частицы в предложении и в тек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ить сведения  об образовании условного и повелительного наклонений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485200" cy="1150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но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яшлив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рьки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етл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жн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бит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ссивный-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56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ной -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ж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ряшлив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курат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рький-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ад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етл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жн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и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битый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л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ссивный -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ив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480" y="195120"/>
            <a:ext cx="8766000" cy="95724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3" descr=""/>
          <p:cNvPicPr/>
          <p:nvPr/>
        </p:nvPicPr>
        <p:blipFill>
          <a:blip r:embed="rId2"/>
          <a:stretch/>
        </p:blipFill>
        <p:spPr>
          <a:xfrm>
            <a:off x="3481560" y="3541680"/>
            <a:ext cx="2773080" cy="835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429000" y="5486400"/>
            <a:ext cx="2133720" cy="82548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член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380880" y="5410080"/>
            <a:ext cx="2438640" cy="82548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яемо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6019920" y="5334120"/>
            <a:ext cx="2666880" cy="82548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ая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553080" y="2971800"/>
            <a:ext cx="2590920" cy="192276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выражения дополнительных оттенков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6248520" y="1828800"/>
            <a:ext cx="243828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6400800" y="1066680"/>
            <a:ext cx="243828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2514600" y="2819520"/>
            <a:ext cx="289548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л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3657600" y="1905120"/>
            <a:ext cx="213372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3657600" y="1066680"/>
            <a:ext cx="2362320" cy="459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 стрелкой 19"/>
          <p:cNvCxnSpPr/>
          <p:nvPr/>
        </p:nvCxnSpPr>
        <p:spPr>
          <a:xfrm>
            <a:off x="5562720" y="4647960"/>
            <a:ext cx="1219680" cy="610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2" name="Прямая со стрелкой 22"/>
          <p:cNvCxnSpPr/>
          <p:nvPr/>
        </p:nvCxnSpPr>
        <p:spPr>
          <a:xfrm flipH="1">
            <a:off x="4419360" y="4572000"/>
            <a:ext cx="2160" cy="9165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3" name="Прямая со стрелкой 24"/>
          <p:cNvCxnSpPr/>
          <p:nvPr/>
        </p:nvCxnSpPr>
        <p:spPr>
          <a:xfrm flipH="1">
            <a:off x="2514240" y="4572000"/>
            <a:ext cx="838800" cy="8388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24" name="Прямая со стрелкой 28"/>
          <p:cNvCxnSpPr/>
          <p:nvPr/>
        </p:nvCxnSpPr>
        <p:spPr>
          <a:xfrm flipV="1">
            <a:off x="7845840" y="4572720"/>
            <a:ext cx="3960" cy="762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Прямая со стрелкой 31"/>
          <p:cNvCxnSpPr/>
          <p:nvPr/>
        </p:nvCxnSpPr>
        <p:spPr>
          <a:xfrm flipH="1" flipV="1">
            <a:off x="6019200" y="3123360"/>
            <a:ext cx="53388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6" name="Прямая со стрелкой 33"/>
          <p:cNvCxnSpPr/>
          <p:nvPr/>
        </p:nvCxnSpPr>
        <p:spPr>
          <a:xfrm flipV="1">
            <a:off x="7999560" y="2363400"/>
            <a:ext cx="3600" cy="534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7" name="Прямая со стрелкой 35"/>
          <p:cNvCxnSpPr/>
          <p:nvPr/>
        </p:nvCxnSpPr>
        <p:spPr>
          <a:xfrm flipH="1" flipV="1">
            <a:off x="5638320" y="2361600"/>
            <a:ext cx="91512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8" name="Прямая со стрелкой 37"/>
          <p:cNvCxnSpPr/>
          <p:nvPr/>
        </p:nvCxnSpPr>
        <p:spPr>
          <a:xfrm flipH="1" flipV="1">
            <a:off x="5637960" y="1523520"/>
            <a:ext cx="1296360" cy="1448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Прямая со стрелкой 39"/>
          <p:cNvCxnSpPr/>
          <p:nvPr/>
        </p:nvCxnSpPr>
        <p:spPr>
          <a:xfrm flipV="1">
            <a:off x="8760240" y="1525320"/>
            <a:ext cx="3960" cy="1372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1295280" y="990720"/>
            <a:ext cx="16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c9f8"/>
                </a:solidFill>
                <a:latin typeface="Times New Roman"/>
              </a:rPr>
              <a:t>Пред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0c9f8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6400800" y="914400"/>
            <a:ext cx="104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c9f8"/>
                </a:solidFill>
                <a:latin typeface="Times New Roman"/>
              </a:rPr>
              <a:t>Сою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0c9f8"/>
              </a:solidFill>
              <a:latin typeface="Times New Roman"/>
              <a:ea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3809880" y="4419720"/>
            <a:ext cx="15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0c9f8"/>
                </a:solidFill>
                <a:latin typeface="Times New Roman"/>
              </a:rPr>
              <a:t>Час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0c9f8"/>
              </a:solidFill>
              <a:latin typeface="Times New Roman"/>
              <a:ea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057400" y="1523880"/>
            <a:ext cx="0" cy="9907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6934320" y="1600200"/>
            <a:ext cx="0" cy="9144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-4986000" y="2514600"/>
            <a:ext cx="1904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ют смыслов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словами                                между однород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ами пред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астями предложений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3276720" y="1219320"/>
            <a:ext cx="281916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820960" y="5335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ловечки отнош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4572000" y="4952880"/>
            <a:ext cx="0" cy="838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581760" y="5791320"/>
            <a:ext cx="831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дополнительные смысловые отт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лов и пред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676520" y="53352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Наблюдение за ролью частиц в реч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300320" y="190620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 принесут кисточки и 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01280" y="320184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ребята принесут кисточки и 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85800" y="320040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666160" y="15238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ъявит. на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04812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лит. на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62480" y="2819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http://www.kinomania.ru/movies/d/Dreamer/hor/1.jpg"/>
          <p:cNvPicPr/>
          <p:nvPr/>
        </p:nvPicPr>
        <p:blipFill>
          <a:blip r:embed="rId1"/>
          <a:stretch/>
        </p:blipFill>
        <p:spPr>
          <a:xfrm>
            <a:off x="685800" y="4343400"/>
            <a:ext cx="3352680" cy="2236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4572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убрал игрушки.  Я почитал кн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ыполнила задание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33520" y="2395440"/>
            <a:ext cx="4038480" cy="1524240"/>
          </a:xfrm>
          <a:prstGeom prst="cloudCallout">
            <a:avLst>
              <a:gd name="adj1" fmla="val -9078"/>
              <a:gd name="adj2" fmla="val 85416"/>
            </a:avLst>
          </a:prstGeom>
          <a:solidFill>
            <a:srgbClr val="d9f3e6"/>
          </a:solidFill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 выполнила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ы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задание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http://club.itdrom.com/files/gallery/gal_photo/me_fiends_family/6455.jpg"/>
          <p:cNvPicPr/>
          <p:nvPr/>
        </p:nvPicPr>
        <p:blipFill>
          <a:blip r:embed="rId2"/>
          <a:stretch/>
        </p:blipFill>
        <p:spPr>
          <a:xfrm>
            <a:off x="5181480" y="4235400"/>
            <a:ext cx="3108600" cy="23065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8"/>
          <p:cNvSpPr/>
          <p:nvPr/>
        </p:nvSpPr>
        <p:spPr>
          <a:xfrm>
            <a:off x="4343400" y="2057400"/>
            <a:ext cx="4572000" cy="2209680"/>
          </a:xfrm>
          <a:prstGeom prst="cloudCallout">
            <a:avLst>
              <a:gd name="adj1" fmla="val 2814"/>
              <a:gd name="adj2" fmla="val 50287"/>
            </a:avLst>
          </a:prstGeom>
          <a:solidFill>
            <a:srgbClr val="d9f3e6"/>
          </a:solidFill>
          <a:ln cap="rnd" w="3816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 убрал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ы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 почитал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ы   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2286000" y="457200"/>
            <a:ext cx="4581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омечтаем с частицей БЫ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1752480" y="609480"/>
            <a:ext cx="5867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Формообразующие час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895480" y="137160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5480" y="2438280"/>
            <a:ext cx="36576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895480" y="350532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895480" y="457200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2895480" y="5562720"/>
            <a:ext cx="36576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7:01:36Z</dcterms:created>
  <dc:creator>Toshiba</dc:creator>
  <dc:description/>
  <dc:language>en-US</dc:language>
  <cp:lastModifiedBy>Admin</cp:lastModifiedBy>
  <dcterms:modified xsi:type="dcterms:W3CDTF">2020-04-06T16:19:2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