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7C69-1363-4B1D-8BB0-7C3CC64F85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9322-86A1-4E3F-9BD9-2ABA35E9B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42F2-309A-43B7-B2D1-16C3758C4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5470-B580-44F5-8D01-17F1C21C1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1768-763E-4155-9D94-764EAACF4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DFB5-5BCD-4F23-94E2-1430B5219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9A11-7982-46E3-A04B-F3C527B01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85AD-8138-48C5-8807-FD899F7D7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5C9D-C317-4A65-BB44-E644FFBE3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A659-0381-4E53-B103-B2883D1BB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F1EB-485B-4360-9E97-AB746806B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E91-C829-4819-9062-1B8CD77D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F7B-D168-4617-A61F-232E97D3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708-F81A-4D5F-8FED-B82546C6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C1A-7D4B-4F48-BA5E-CA704337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1357-D4D5-45F1-A7E7-CC32E2CE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3662-8CC0-427A-B5E1-D12E4390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64F7-0F71-4042-A6CC-8C27F6B3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FE73-9217-42EF-8D0D-95735659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7C0E-D52E-4161-84F9-AAD12D52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6EC4-6BA6-4192-A39C-53BADACE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143E-B1C7-4CA4-A789-826CA821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332-6E92-4FD2-8321-36C6F38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98EB-97A2-43D9-A0DA-051D6CB7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645A-9E71-4F7F-A62A-0CF0330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06DD-766E-4A61-B5D7-A5CD8F6D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344C-7470-41D5-ACDC-DF106055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7340-D38C-469E-96C3-BE4513EC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AD5D9-3EF0-44EC-8872-49F2B559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D48D-B661-40F0-A3C6-803F0BB2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7880-FC69-4767-A275-148DC8A6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F11E-2191-444F-901F-F4D899CE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9443-4A63-460D-9A74-E4AFE82D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66D-D8CB-4EBE-80CB-65B161C2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86A6-8B5E-48D1-B2A1-921D09AF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72A6-F5FD-46CD-8318-327171C5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E945-97E2-4B35-A1F3-75C3139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A9E9-0105-416C-A1D3-D5A11C6A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2469-F9A6-4216-8E7F-6A2E6681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BEAF-256C-4153-81C7-0424EE4D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D227-53C3-48FA-A7FE-0669D677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C6244-5013-4321-82FE-5A29185B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1F73-50FF-47FF-A524-C87B668E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A8E42-4579-4CED-9226-A7232376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805-E699-4DF0-B5D1-DAF77408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1CD5-1FED-4A3C-A8F8-8D8F8D2F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CE1EE-AAA2-4E93-801E-D619434F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45A1-71FB-4E0D-BE43-1624E334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F3C16-B08B-4569-91CA-9B9D5FC6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BA2B-58D4-4165-A8F9-758F9D0C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93D3-8DFC-4024-BDDB-DA12C8E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EEDF-93C8-4A01-AA1A-C8F01D9F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47BB0-4A45-4CDC-AB52-8DC74BBA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E66A8-BD55-4547-9C12-AE555AB4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502-D8CC-4C70-B00B-695D5125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C4E-D326-444A-AE51-B465904D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F62-AF78-4748-A614-DBBFD057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3D9-BF99-4A30-8B55-8A6E2A5C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923-1C6B-45BB-B579-15691C7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6A02-A3F6-41A1-B529-8F8B219E761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57A5-2C61-47A1-BCD6-5BC478CEFD4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6CAE-B224-4EBA-BE54-6931D3EE148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576B-2B86-484C-99C1-26C20AC7AA8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3"/>
          <p:cNvSpPr txBox="1"/>
          <p:nvPr/>
        </p:nvSpPr>
        <p:spPr>
          <a:xfrm>
            <a:off x="1523880" y="1752480"/>
            <a:ext cx="6191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Частица как часть речи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Формообразующие час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2513520" y="451440"/>
            <a:ext cx="4153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ыл бы я девчон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 время не теря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 на улице не прыг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 рубашки пости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 вымыл в кухне п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 в комнате подм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ыл бы чашки, ло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 начистил бы карто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вои игрушки 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 расставил по мест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чего ж я не девчо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 маме так помо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ма сразу бы сказ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лодчина ты, сынок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00800" y="617544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 Усп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9"/>
          <p:cNvGrpSpPr/>
          <p:nvPr/>
        </p:nvGrpSpPr>
        <p:grpSpPr>
          <a:xfrm>
            <a:off x="3505320" y="838080"/>
            <a:ext cx="609480" cy="76320"/>
            <a:chOff x="3505320" y="838080"/>
            <a:chExt cx="609480" cy="76320"/>
          </a:xfrm>
        </p:grpSpPr>
        <p:sp>
          <p:nvSpPr>
            <p:cNvPr id="262" name="Line 7"/>
            <p:cNvSpPr/>
            <p:nvPr/>
          </p:nvSpPr>
          <p:spPr>
            <a:xfrm>
              <a:off x="3505320" y="838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3505320" y="914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10"/>
          <p:cNvSpPr/>
          <p:nvPr/>
        </p:nvSpPr>
        <p:spPr>
          <a:xfrm>
            <a:off x="4191120" y="83808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1"/>
          <p:cNvGrpSpPr/>
          <p:nvPr/>
        </p:nvGrpSpPr>
        <p:grpSpPr>
          <a:xfrm>
            <a:off x="5257800" y="1219320"/>
            <a:ext cx="761760" cy="75960"/>
            <a:chOff x="5257800" y="1219320"/>
            <a:chExt cx="761760" cy="75960"/>
          </a:xfrm>
        </p:grpSpPr>
        <p:sp>
          <p:nvSpPr>
            <p:cNvPr id="266" name="Line 12"/>
            <p:cNvSpPr/>
            <p:nvPr/>
          </p:nvSpPr>
          <p:spPr>
            <a:xfrm>
              <a:off x="5257800" y="12193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>
              <a:off x="5257800" y="12952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Line 14"/>
          <p:cNvSpPr/>
          <p:nvPr/>
        </p:nvSpPr>
        <p:spPr>
          <a:xfrm>
            <a:off x="3352680" y="121932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5257800" y="1600200"/>
            <a:ext cx="990360" cy="76320"/>
            <a:chOff x="5257800" y="1600200"/>
            <a:chExt cx="990360" cy="76320"/>
          </a:xfrm>
        </p:grpSpPr>
        <p:sp>
          <p:nvSpPr>
            <p:cNvPr id="270" name="Line 16"/>
            <p:cNvSpPr/>
            <p:nvPr/>
          </p:nvSpPr>
          <p:spPr>
            <a:xfrm>
              <a:off x="5257800" y="16002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5257800" y="16765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>
            <a:off x="3200400" y="160020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4876920" y="1981080"/>
            <a:ext cx="1294560" cy="76320"/>
            <a:chOff x="4876920" y="1981080"/>
            <a:chExt cx="1294560" cy="76320"/>
          </a:xfrm>
        </p:grpSpPr>
        <p:sp>
          <p:nvSpPr>
            <p:cNvPr id="274" name="Line 20"/>
            <p:cNvSpPr/>
            <p:nvPr/>
          </p:nvSpPr>
          <p:spPr>
            <a:xfrm>
              <a:off x="4876920" y="1981080"/>
              <a:ext cx="12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4876920" y="2057400"/>
              <a:ext cx="12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22"/>
          <p:cNvSpPr/>
          <p:nvPr/>
        </p:nvSpPr>
        <p:spPr>
          <a:xfrm>
            <a:off x="3200400" y="198108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352680" y="4532400"/>
            <a:ext cx="1447200" cy="75960"/>
            <a:chOff x="3352680" y="4532400"/>
            <a:chExt cx="1447200" cy="75960"/>
          </a:xfrm>
        </p:grpSpPr>
        <p:sp>
          <p:nvSpPr>
            <p:cNvPr id="278" name="Line 24"/>
            <p:cNvSpPr/>
            <p:nvPr/>
          </p:nvSpPr>
          <p:spPr>
            <a:xfrm>
              <a:off x="3352680" y="4532400"/>
              <a:ext cx="144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5"/>
            <p:cNvSpPr/>
            <p:nvPr/>
          </p:nvSpPr>
          <p:spPr>
            <a:xfrm>
              <a:off x="3352680" y="4608360"/>
              <a:ext cx="144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Line 26"/>
          <p:cNvSpPr/>
          <p:nvPr/>
        </p:nvSpPr>
        <p:spPr>
          <a:xfrm>
            <a:off x="3048120" y="454500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7"/>
          <p:cNvGrpSpPr/>
          <p:nvPr/>
        </p:nvGrpSpPr>
        <p:grpSpPr>
          <a:xfrm>
            <a:off x="5410080" y="5943600"/>
            <a:ext cx="1142640" cy="76320"/>
            <a:chOff x="5410080" y="5943600"/>
            <a:chExt cx="1142640" cy="76320"/>
          </a:xfrm>
        </p:grpSpPr>
        <p:sp>
          <p:nvSpPr>
            <p:cNvPr id="282" name="Line 28"/>
            <p:cNvSpPr/>
            <p:nvPr/>
          </p:nvSpPr>
          <p:spPr>
            <a:xfrm>
              <a:off x="5410080" y="5943600"/>
              <a:ext cx="114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9"/>
            <p:cNvSpPr/>
            <p:nvPr/>
          </p:nvSpPr>
          <p:spPr>
            <a:xfrm>
              <a:off x="5410080" y="6019920"/>
              <a:ext cx="114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Line 30"/>
          <p:cNvSpPr/>
          <p:nvPr/>
        </p:nvSpPr>
        <p:spPr>
          <a:xfrm>
            <a:off x="4876920" y="594360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5" descr=""/>
          <p:cNvPicPr/>
          <p:nvPr/>
        </p:nvPicPr>
        <p:blipFill>
          <a:blip r:embed="rId1"/>
          <a:stretch/>
        </p:blipFill>
        <p:spPr>
          <a:xfrm>
            <a:off x="603360" y="298440"/>
            <a:ext cx="7900920" cy="11653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7"/>
          <p:cNvSpPr/>
          <p:nvPr/>
        </p:nvSpPr>
        <p:spPr>
          <a:xfrm>
            <a:off x="457200" y="222984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ликолепен у нас новый нападающий. Что за удар у него!  2. К открытию спортклуба пусть готовится каждый спортсмен.  3. Именно он в прошлом году был чемпионом области.  4. В солнечный день мы отправились бы в поход.  5. Обещанная инсценировка будет подготовлена. Мы же хозяева своего слова.  6. Что бы вы ещё включили в программу веч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Равнобедренный треугольник 8"/>
          <p:cNvSpPr/>
          <p:nvPr/>
        </p:nvSpPr>
        <p:spPr>
          <a:xfrm>
            <a:off x="6019920" y="5335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9"/>
          <p:cNvSpPr/>
          <p:nvPr/>
        </p:nvSpPr>
        <p:spPr>
          <a:xfrm>
            <a:off x="585000" y="2291040"/>
            <a:ext cx="848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амым интересным на уроке мне показалос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не было трудно, когда работали над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я работа на уроке мне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3276720" y="914400"/>
            <a:ext cx="2590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тоги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4"/>
          <p:cNvSpPr txBox="1"/>
          <p:nvPr/>
        </p:nvSpPr>
        <p:spPr>
          <a:xfrm>
            <a:off x="2819520" y="838080"/>
            <a:ext cx="371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061360" y="2513880"/>
            <a:ext cx="546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а 138, упражнение 3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1" descr="office5.gif"/>
          <p:cNvPicPr/>
          <p:nvPr/>
        </p:nvPicPr>
        <p:blipFill>
          <a:blip r:embed="rId1"/>
          <a:stretch/>
        </p:blipFill>
        <p:spPr>
          <a:xfrm rot="2673000">
            <a:off x="4266720" y="4038120"/>
            <a:ext cx="762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990720" y="114300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90720" y="202788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функциональное значение частиц в речи, их отличие от предлогов и сою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роль частицы в предложении и в текс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ить сведения  об образовании условного и повелительного наклонений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485200" cy="1150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но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яшлив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рьки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етл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жн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бит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ссивн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85200" cy="156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ной -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ж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яшливый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курат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рький-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ад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етлый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м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жный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и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битый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Ц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л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ссивный -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ив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6480" y="195120"/>
            <a:ext cx="8766000" cy="95724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3" descr=""/>
          <p:cNvPicPr/>
          <p:nvPr/>
        </p:nvPicPr>
        <p:blipFill>
          <a:blip r:embed="rId2"/>
          <a:stretch/>
        </p:blipFill>
        <p:spPr>
          <a:xfrm>
            <a:off x="3481560" y="3541680"/>
            <a:ext cx="2773080" cy="8352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3429000" y="5486400"/>
            <a:ext cx="2133720" cy="82548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лен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380880" y="5410080"/>
            <a:ext cx="2438640" cy="82548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яемо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6019920" y="5334120"/>
            <a:ext cx="2666880" cy="82548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ая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6553080" y="2971800"/>
            <a:ext cx="2590920" cy="192276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для выражения дополнительных оттенков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6248520" y="1828800"/>
            <a:ext cx="243828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6400800" y="1066680"/>
            <a:ext cx="243828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2514600" y="2819520"/>
            <a:ext cx="289548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лиц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3657600" y="1905120"/>
            <a:ext cx="213372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3657600" y="1066680"/>
            <a:ext cx="236232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Прямая со стрелкой 19"/>
          <p:cNvCxnSpPr/>
          <p:nvPr/>
        </p:nvCxnSpPr>
        <p:spPr>
          <a:xfrm>
            <a:off x="5562720" y="4647960"/>
            <a:ext cx="1219680" cy="6102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2" name="Прямая со стрелкой 22"/>
          <p:cNvCxnSpPr/>
          <p:nvPr/>
        </p:nvCxnSpPr>
        <p:spPr>
          <a:xfrm flipH="1">
            <a:off x="4419360" y="4572000"/>
            <a:ext cx="2160" cy="9165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" name="Прямая со стрелкой 24"/>
          <p:cNvCxnSpPr/>
          <p:nvPr/>
        </p:nvCxnSpPr>
        <p:spPr>
          <a:xfrm flipH="1">
            <a:off x="2514240" y="4572000"/>
            <a:ext cx="838800" cy="838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" name="Прямая со стрелкой 28"/>
          <p:cNvCxnSpPr/>
          <p:nvPr/>
        </p:nvCxnSpPr>
        <p:spPr>
          <a:xfrm flipV="1">
            <a:off x="7845840" y="4572720"/>
            <a:ext cx="3960" cy="762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225" name="Прямая со стрелкой 31"/>
          <p:cNvCxnSpPr/>
          <p:nvPr/>
        </p:nvCxnSpPr>
        <p:spPr>
          <a:xfrm flipH="1" flipV="1">
            <a:off x="6019200" y="3123360"/>
            <a:ext cx="53388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6" name="Прямая со стрелкой 33"/>
          <p:cNvCxnSpPr/>
          <p:nvPr/>
        </p:nvCxnSpPr>
        <p:spPr>
          <a:xfrm flipV="1">
            <a:off x="7999560" y="2363400"/>
            <a:ext cx="3600" cy="534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7" name="Прямая со стрелкой 35"/>
          <p:cNvCxnSpPr/>
          <p:nvPr/>
        </p:nvCxnSpPr>
        <p:spPr>
          <a:xfrm flipH="1" flipV="1">
            <a:off x="5638320" y="2361600"/>
            <a:ext cx="91512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8" name="Прямая со стрелкой 37"/>
          <p:cNvCxnSpPr/>
          <p:nvPr/>
        </p:nvCxnSpPr>
        <p:spPr>
          <a:xfrm flipH="1" flipV="1">
            <a:off x="5637960" y="1523520"/>
            <a:ext cx="1296360" cy="1448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Прямая со стрелкой 39"/>
          <p:cNvCxnSpPr/>
          <p:nvPr/>
        </p:nvCxnSpPr>
        <p:spPr>
          <a:xfrm flipV="1">
            <a:off x="8760240" y="1525320"/>
            <a:ext cx="3960" cy="1372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1295280" y="990720"/>
            <a:ext cx="16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0c9f8"/>
                </a:solidFill>
                <a:latin typeface="Times New Roman"/>
              </a:rPr>
              <a:t>Пред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0c9f8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6400800" y="914400"/>
            <a:ext cx="104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0c9f8"/>
                </a:solidFill>
                <a:latin typeface="Times New Roman"/>
              </a:rPr>
              <a:t>Сою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0c9f8"/>
              </a:solidFill>
              <a:latin typeface="Times New Roman"/>
              <a:ea typeface="Times New Roman"/>
            </a:endParaRPr>
          </a:p>
        </p:txBody>
      </p:sp>
      <p:sp>
        <p:nvSpPr>
          <p:cNvPr id="232" name="WordArt 6"/>
          <p:cNvSpPr txBox="1"/>
          <p:nvPr/>
        </p:nvSpPr>
        <p:spPr>
          <a:xfrm>
            <a:off x="3809880" y="4419720"/>
            <a:ext cx="159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0c9f8"/>
                </a:solidFill>
                <a:latin typeface="Times New Roman"/>
              </a:rPr>
              <a:t>Час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0c9f8"/>
              </a:solidFill>
              <a:latin typeface="Times New Roman"/>
              <a:ea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2057400" y="1523880"/>
            <a:ext cx="0" cy="9907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6934320" y="1600200"/>
            <a:ext cx="0" cy="9144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-4986000" y="2514600"/>
            <a:ext cx="1904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ют смыслов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словами                                между однород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ленами предло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частями предложений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3276720" y="1219320"/>
            <a:ext cx="281916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820960" y="5335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ловечки отнош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4572000" y="4952880"/>
            <a:ext cx="0" cy="8384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581760" y="5791320"/>
            <a:ext cx="831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ет дополнительные смысловые отт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слов и предло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676520" y="53352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Наблюдение за ролью частиц в реч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300320" y="1906200"/>
            <a:ext cx="69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 принесут кисточки и кра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01280" y="320184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ребята принесут кисточки и кра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85800" y="320040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2666160" y="15238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ъявит. на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04812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лит. на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762480" y="2819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http://www.kinomania.ru/movies/d/Dreamer/hor/1.jpg"/>
          <p:cNvPicPr/>
          <p:nvPr/>
        </p:nvPicPr>
        <p:blipFill>
          <a:blip r:embed="rId1"/>
          <a:stretch/>
        </p:blipFill>
        <p:spPr>
          <a:xfrm>
            <a:off x="685800" y="4343400"/>
            <a:ext cx="3352680" cy="2236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4572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убрал игрушки.  Я почитал кни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выполнила задание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533520" y="2395440"/>
            <a:ext cx="4038480" cy="1524240"/>
          </a:xfrm>
          <a:prstGeom prst="cloudCallout">
            <a:avLst>
              <a:gd name="adj1" fmla="val -9078"/>
              <a:gd name="adj2" fmla="val 85416"/>
            </a:avLst>
          </a:prstGeom>
          <a:solidFill>
            <a:srgbClr val="d9f3e6"/>
          </a:solidFill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Я выполнила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ы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задание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http://club.itdrom.com/files/gallery/gal_photo/me_fiends_family/6455.jpg"/>
          <p:cNvPicPr/>
          <p:nvPr/>
        </p:nvPicPr>
        <p:blipFill>
          <a:blip r:embed="rId2"/>
          <a:stretch/>
        </p:blipFill>
        <p:spPr>
          <a:xfrm>
            <a:off x="5181480" y="4235400"/>
            <a:ext cx="3108600" cy="23065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8"/>
          <p:cNvSpPr/>
          <p:nvPr/>
        </p:nvSpPr>
        <p:spPr>
          <a:xfrm>
            <a:off x="4343400" y="2057400"/>
            <a:ext cx="4572000" cy="2209680"/>
          </a:xfrm>
          <a:prstGeom prst="cloudCallout">
            <a:avLst>
              <a:gd name="adj1" fmla="val 2814"/>
              <a:gd name="adj2" fmla="val 50287"/>
            </a:avLst>
          </a:prstGeom>
          <a:solidFill>
            <a:srgbClr val="d9f3e6"/>
          </a:solidFill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Я убрал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ы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Я почитал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ы   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9"/>
          <p:cNvSpPr txBox="1"/>
          <p:nvPr/>
        </p:nvSpPr>
        <p:spPr>
          <a:xfrm>
            <a:off x="2286000" y="457200"/>
            <a:ext cx="4581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омечтаем с частицей БЫ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1752480" y="609480"/>
            <a:ext cx="5867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Формообразующие час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895480" y="1371600"/>
            <a:ext cx="36576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895480" y="2438280"/>
            <a:ext cx="36576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895480" y="3505320"/>
            <a:ext cx="36576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895480" y="4572000"/>
            <a:ext cx="36576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2895480" y="5562720"/>
            <a:ext cx="36576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7:01:36Z</dcterms:created>
  <dc:creator>Toshiba</dc:creator>
  <dc:description/>
  <dc:language>en-US</dc:language>
  <cp:lastModifiedBy>Admin</cp:lastModifiedBy>
  <dcterms:modified xsi:type="dcterms:W3CDTF">2020-04-06T16:19:2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