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4.jpeg" ContentType="image/jpeg"/>
  <Override PartName="/ppt/media/image28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E0CA-CFD7-4580-B925-16767C37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4A21-EEB3-43F6-9C19-FFBF67DD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8C95-E3FC-4CF8-8BDA-42614D73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2DBB-83DF-4EC1-BA36-CBFBFE52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CD8A-F45E-406B-8BFD-8B3B127F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8D34-9CAC-40C7-B104-6524468F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D463-BD23-489E-A180-E686332F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E54E-EF30-45FF-8084-AC367C75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57AB-DDF2-47BC-8ACF-30F91864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C304-9C3F-49A2-B487-8A21FCAC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CE9C-C88E-4F6A-B5D1-B1E6E78D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A0CC-9E70-4572-A9D3-E2F6CC51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83C1-55F3-4926-9F4E-B47628DD9A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 rot="5400000">
            <a:off x="1140480" y="-1140480"/>
            <a:ext cx="686268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2492280"/>
            <a:ext cx="59054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МУДРЫЕ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  <a:ea typeface="Guttman Adii-Light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ВЫСКАЗЫВ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508960" y="6251400"/>
            <a:ext cx="63504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Цитаты. Часть 2-я"/>
          <p:cNvPicPr/>
          <p:nvPr/>
        </p:nvPicPr>
        <p:blipFill>
          <a:blip r:embed="rId1"/>
          <a:stretch/>
        </p:blipFill>
        <p:spPr>
          <a:xfrm>
            <a:off x="2411280" y="0"/>
            <a:ext cx="424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Цитаты. Часть 2-я"/>
          <p:cNvPicPr/>
          <p:nvPr/>
        </p:nvPicPr>
        <p:blipFill>
          <a:blip r:embed="rId1"/>
          <a:stretch/>
        </p:blipFill>
        <p:spPr>
          <a:xfrm>
            <a:off x="1692360" y="0"/>
            <a:ext cx="5538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Цитаты. Часть 2-я"/>
          <p:cNvPicPr/>
          <p:nvPr/>
        </p:nvPicPr>
        <p:blipFill>
          <a:blip r:embed="rId1"/>
          <a:stretch/>
        </p:blipFill>
        <p:spPr>
          <a:xfrm>
            <a:off x="2050920" y="0"/>
            <a:ext cx="4853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Цитаты. Часть 2-я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Цитаты. Часть 2-я"/>
          <p:cNvPicPr/>
          <p:nvPr/>
        </p:nvPicPr>
        <p:blipFill>
          <a:blip r:embed="rId1"/>
          <a:stretch/>
        </p:blipFill>
        <p:spPr>
          <a:xfrm>
            <a:off x="971640" y="0"/>
            <a:ext cx="698508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Цитаты. Часть 2-я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Цитаты. Часть 2-я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Цитаты. Часть 2-я"/>
          <p:cNvPicPr/>
          <p:nvPr/>
        </p:nvPicPr>
        <p:blipFill>
          <a:blip r:embed="rId1"/>
          <a:stretch/>
        </p:blipFill>
        <p:spPr>
          <a:xfrm>
            <a:off x="1979640" y="0"/>
            <a:ext cx="540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57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3357720"/>
            <a:ext cx="9144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57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57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3213000"/>
            <a:ext cx="91440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57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3716280"/>
            <a:ext cx="91440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Цитаты. Часть 2-я"/>
          <p:cNvPicPr/>
          <p:nvPr/>
        </p:nvPicPr>
        <p:blipFill>
          <a:blip r:embed="rId1"/>
          <a:stretch/>
        </p:blipFill>
        <p:spPr>
          <a:xfrm>
            <a:off x="2268360" y="0"/>
            <a:ext cx="4875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Цитаты. Часть 2-я"/>
          <p:cNvPicPr/>
          <p:nvPr/>
        </p:nvPicPr>
        <p:blipFill>
          <a:blip r:embed="rId1"/>
          <a:stretch/>
        </p:blipFill>
        <p:spPr>
          <a:xfrm>
            <a:off x="2556000" y="0"/>
            <a:ext cx="3994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Цитаты. Часть 2-я"/>
          <p:cNvPicPr/>
          <p:nvPr/>
        </p:nvPicPr>
        <p:blipFill>
          <a:blip r:embed="rId1"/>
          <a:stretch/>
        </p:blipFill>
        <p:spPr>
          <a:xfrm>
            <a:off x="2268360" y="0"/>
            <a:ext cx="468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Цитаты. Часть 2-я"/>
          <p:cNvPicPr/>
          <p:nvPr/>
        </p:nvPicPr>
        <p:blipFill>
          <a:blip r:embed="rId1"/>
          <a:stretch/>
        </p:blipFill>
        <p:spPr>
          <a:xfrm>
            <a:off x="1619280" y="0"/>
            <a:ext cx="6092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Цитаты. Часть 2-я"/>
          <p:cNvPicPr/>
          <p:nvPr/>
        </p:nvPicPr>
        <p:blipFill>
          <a:blip r:embed="rId1"/>
          <a:stretch/>
        </p:blipFill>
        <p:spPr>
          <a:xfrm>
            <a:off x="1692360" y="0"/>
            <a:ext cx="589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Цитаты. Часть 2-я"/>
          <p:cNvPicPr/>
          <p:nvPr/>
        </p:nvPicPr>
        <p:blipFill>
          <a:blip r:embed="rId1"/>
          <a:stretch/>
        </p:blipFill>
        <p:spPr>
          <a:xfrm>
            <a:off x="205092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Цитаты. Часть 2-я"/>
          <p:cNvPicPr/>
          <p:nvPr/>
        </p:nvPicPr>
        <p:blipFill>
          <a:blip r:embed="rId1"/>
          <a:stretch/>
        </p:blipFill>
        <p:spPr>
          <a:xfrm>
            <a:off x="2050920" y="0"/>
            <a:ext cx="496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13:03:14Z</dcterms:created>
  <dc:creator>Usr</dc:creator>
  <dc:description/>
  <dc:language>en-US</dc:language>
  <cp:lastModifiedBy>Usr</cp:lastModifiedBy>
  <dcterms:modified xsi:type="dcterms:W3CDTF">2011-05-20T11:11:08Z</dcterms:modified>
  <cp:revision>4</cp:revision>
  <dc:subject/>
  <dc:title>умное</dc:title>
</cp:coreProperties>
</file>