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009-E85F-4F64-8E59-738676F8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DF9-1AB8-4879-ADFB-706A562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EEA-0522-441C-B0EB-A0E7CCFD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130-3B71-4718-A696-2DD48893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2D8-5D92-46F8-8C46-BD3F3B8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406-4FEA-4200-9871-E736357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B14-2134-43DE-AB31-0D81897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394-FCF8-414B-ABB1-0E82999A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C5F-1E49-46DD-AC2E-4329A57C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A64-2B50-48DE-A530-2417D0E3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C28-A7AD-4127-BAAD-C569C5D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AEC-FC1D-421C-AECA-18651C1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AA6A-694C-4FE8-A742-89BE62515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5400000">
            <a:off x="1140480" y="-114048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492280"/>
            <a:ext cx="5905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ДРЫЕ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Guttman Adii-Light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ВЫСКАЗЫ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08960" y="6251400"/>
            <a:ext cx="6350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Цитаты. Часть 2-я"/>
          <p:cNvPicPr/>
          <p:nvPr/>
        </p:nvPicPr>
        <p:blipFill>
          <a:blip r:embed="rId1"/>
          <a:stretch/>
        </p:blipFill>
        <p:spPr>
          <a:xfrm>
            <a:off x="2411280" y="0"/>
            <a:ext cx="42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Цитаты. Часть 2-я"/>
          <p:cNvPicPr/>
          <p:nvPr/>
        </p:nvPicPr>
        <p:blipFill>
          <a:blip r:embed="rId1"/>
          <a:stretch/>
        </p:blipFill>
        <p:spPr>
          <a:xfrm>
            <a:off x="1692360" y="0"/>
            <a:ext cx="55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Цитаты. Часть 2-я"/>
          <p:cNvPicPr/>
          <p:nvPr/>
        </p:nvPicPr>
        <p:blipFill>
          <a:blip r:embed="rId1"/>
          <a:stretch/>
        </p:blipFill>
        <p:spPr>
          <a:xfrm>
            <a:off x="971640" y="0"/>
            <a:ext cx="6985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Цитаты. Часть 2-я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Цитаты. Часть 2-я"/>
          <p:cNvPicPr/>
          <p:nvPr/>
        </p:nvPicPr>
        <p:blipFill>
          <a:blip r:embed="rId1"/>
          <a:stretch/>
        </p:blipFill>
        <p:spPr>
          <a:xfrm>
            <a:off x="1979640" y="0"/>
            <a:ext cx="540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Цитаты. Часть 2-я"/>
          <p:cNvPicPr/>
          <p:nvPr/>
        </p:nvPicPr>
        <p:blipFill>
          <a:blip r:embed="rId1"/>
          <a:stretch/>
        </p:blipFill>
        <p:spPr>
          <a:xfrm>
            <a:off x="2268360" y="0"/>
            <a:ext cx="48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Цитаты. Часть 2-я"/>
          <p:cNvPicPr/>
          <p:nvPr/>
        </p:nvPicPr>
        <p:blipFill>
          <a:blip r:embed="rId1"/>
          <a:stretch/>
        </p:blipFill>
        <p:spPr>
          <a:xfrm>
            <a:off x="2556000" y="0"/>
            <a:ext cx="399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Цитаты. Часть 2-я"/>
          <p:cNvPicPr/>
          <p:nvPr/>
        </p:nvPicPr>
        <p:blipFill>
          <a:blip r:embed="rId1"/>
          <a:stretch/>
        </p:blipFill>
        <p:spPr>
          <a:xfrm>
            <a:off x="2268360" y="0"/>
            <a:ext cx="46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Цитаты. Часть 2-я"/>
          <p:cNvPicPr/>
          <p:nvPr/>
        </p:nvPicPr>
        <p:blipFill>
          <a:blip r:embed="rId1"/>
          <a:stretch/>
        </p:blipFill>
        <p:spPr>
          <a:xfrm>
            <a:off x="16192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Цитаты. Часть 2-я"/>
          <p:cNvPicPr/>
          <p:nvPr/>
        </p:nvPicPr>
        <p:blipFill>
          <a:blip r:embed="rId1"/>
          <a:stretch/>
        </p:blipFill>
        <p:spPr>
          <a:xfrm>
            <a:off x="1692360" y="0"/>
            <a:ext cx="58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Цитаты. Часть 2-я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03:14Z</dcterms:created>
  <dc:creator>Usr</dc:creator>
  <dc:description/>
  <dc:language>en-US</dc:language>
  <cp:lastModifiedBy>Usr</cp:lastModifiedBy>
  <dcterms:modified xsi:type="dcterms:W3CDTF">2011-05-20T11:11:08Z</dcterms:modified>
  <cp:revision>4</cp:revision>
  <dc:subject/>
  <dc:title>умное</dc:title>
</cp:coreProperties>
</file>