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FC5-328D-46D9-ACD7-9DD1C8FA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286-E937-4583-9C98-9F43E08E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3E2-E5C6-4476-A1C1-A645349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B98-5F6E-444D-8A1A-2B62786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6A3-A070-4CA5-81EE-8D1EAC1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3A7-AE96-4196-9188-DCD345C6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464-B765-4458-91DF-656E76F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97E-79C6-4FA2-B9E6-CA7DA08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CD5-9BD3-48B6-9934-7DA0FE7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7A9-7E16-43C0-AB0B-A378630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BDD-BC13-4CAB-A757-227889FA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BC9-B623-454D-BE33-AE109E9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8F8-4F80-4442-90D1-DFBAB72C7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3/7.htm" TargetMode="External"/><Relationship Id="rId3" Type="http://schemas.openxmlformats.org/officeDocument/2006/relationships/hyperlink" Target="file:///3/7.htm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3/6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7а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6861"/>
                </a:solidFill>
                <a:latin typeface="comic"/>
              </a:rPr>
              <a:t>« Культура стран халифат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38080" y="228600"/>
            <a:ext cx="7620120" cy="838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 Средних веков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8584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ий учёный из Хорезма, автор многочисленных  трудов по истории, географии, филологии, астрономии, математике, геодезии, минералогии, фармакологии, геологии и др. Бируни владел почти всеми науками своего времени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180px-Biruni_Iranian"/>
          <p:cNvPicPr/>
          <p:nvPr/>
        </p:nvPicPr>
        <p:blipFill>
          <a:blip r:embed="rId2"/>
          <a:stretch/>
        </p:blipFill>
        <p:spPr>
          <a:xfrm>
            <a:off x="533520" y="1447920"/>
            <a:ext cx="324468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высказал гениальную догадку, что центром нашей Вселенной является Солнце, а Земля движется вокруг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Рисунок4"/>
          <p:cNvPicPr/>
          <p:nvPr/>
        </p:nvPicPr>
        <p:blipFill>
          <a:blip r:embed="rId2"/>
          <a:stretch/>
        </p:blipFill>
        <p:spPr>
          <a:xfrm>
            <a:off x="457200" y="1603440"/>
            <a:ext cx="3400560" cy="4873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ая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истор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ась у арабов вместе с исламом. Появились предания и сообщения о Мухаммеде, его биографии, сведения о том, как возник ислам. Историки прославляли завоевания арабов и в кратком виде излагали историю римских, византийских и иранских пра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Рисунок7"/>
          <p:cNvPicPr/>
          <p:nvPr/>
        </p:nvPicPr>
        <p:blipFill>
          <a:blip r:embed="rId2"/>
          <a:stretch/>
        </p:blipFill>
        <p:spPr>
          <a:xfrm>
            <a:off x="304920" y="1523880"/>
            <a:ext cx="385416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19360" y="1447560"/>
            <a:ext cx="4267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ьшом почете у арабов была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географ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б этом говорит пословица: «Кто отправляется в путь ради науки, перед тем открываются двери рая». Географы не только изучали сообщения о других странах, но и стремились побывать в них, с риском для жизни совершали далекие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Рисунок8"/>
          <p:cNvPicPr/>
          <p:nvPr/>
        </p:nvPicPr>
        <p:blipFill>
          <a:blip r:embed="rId2"/>
          <a:stretch/>
        </p:blipFill>
        <p:spPr>
          <a:xfrm>
            <a:off x="228600" y="1523880"/>
            <a:ext cx="414324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152280" y="6172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утешест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шно развивалась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дици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ей Азии жил великий ученый Ибн Сина (980— 1037), в Европе его называли Авиценна. Он был очень разносторонним мыслителем — философ, астроном, географ, медик, поэт. Ему принадлежит более ста научных тр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4f2f942a9907e"/>
          <p:cNvPicPr/>
          <p:nvPr/>
        </p:nvPicPr>
        <p:blipFill>
          <a:blip r:embed="rId2"/>
          <a:stretch/>
        </p:blipFill>
        <p:spPr>
          <a:xfrm>
            <a:off x="533520" y="1447920"/>
            <a:ext cx="3673440" cy="5105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152280" y="6172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 прославился Ибн Сина как врач. В своем знаменитом труде по медицине он описал признаки многих болезней, которые до него не умели разли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muselman-alimi"/>
          <p:cNvPicPr/>
          <p:nvPr/>
        </p:nvPicPr>
        <p:blipFill>
          <a:blip r:embed="rId2"/>
          <a:stretch/>
        </p:blipFill>
        <p:spPr>
          <a:xfrm>
            <a:off x="228600" y="175248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52280" y="5029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495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цы и погонщики верблюдов привозили из других стран чудесные сказки. Их рассказывали во дворцах халифа и знати, на базарах, улицах и в домах Багдада. Многие слушатели любили рассказы об удивительных путешествиях и приклю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2" descr="Рисунок13"/>
          <p:cNvPicPr/>
          <p:nvPr/>
        </p:nvPicPr>
        <p:blipFill>
          <a:blip r:embed="rId2"/>
          <a:stretch/>
        </p:blipFill>
        <p:spPr>
          <a:xfrm>
            <a:off x="152280" y="1447920"/>
            <a:ext cx="4105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й люд передавал смешные истории о хитрецах, которые ловко обманывали судей и чиновников. Из этих сказок позднее был составлен известный всему миру сборник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 Тысяча и одна ночь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бравший в себя предания и легенды многи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notes_1323251570"/>
          <p:cNvPicPr/>
          <p:nvPr/>
        </p:nvPicPr>
        <p:blipFill>
          <a:blip r:embed="rId4"/>
          <a:stretch/>
        </p:blipFill>
        <p:spPr>
          <a:xfrm>
            <a:off x="152280" y="1447920"/>
            <a:ext cx="229572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5907"/>
          <p:cNvPicPr/>
          <p:nvPr/>
        </p:nvPicPr>
        <p:blipFill>
          <a:blip r:embed="rId5"/>
          <a:stretch/>
        </p:blipFill>
        <p:spPr>
          <a:xfrm>
            <a:off x="2362320" y="3429000"/>
            <a:ext cx="2360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до ислама у арабов возникла богатая поэзия, отразившая быт и обычаи кочевников. В каждом племени был свой признанный поэт, выступавший на празднествах. Доисламские поэты воспели смелого воина, щедрого и верного данному с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Рисунок15"/>
          <p:cNvPicPr/>
          <p:nvPr/>
        </p:nvPicPr>
        <p:blipFill>
          <a:blip r:embed="rId2"/>
          <a:stretch/>
        </p:blipFill>
        <p:spPr>
          <a:xfrm>
            <a:off x="304920" y="205740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ство с культурой покоренных народов изменило интересы и вкусы арабов. Поэтов интересовали теперь «вечные» вопросы: о добре и зле, о жизни и смерти, о богатстве и бедности, о любви и измене, о красоте мира и его печ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6" descr="Рисунок14"/>
          <p:cNvPicPr/>
          <p:nvPr/>
        </p:nvPicPr>
        <p:blipFill>
          <a:blip r:embed="rId2"/>
          <a:stretch/>
        </p:blipFill>
        <p:spPr>
          <a:xfrm>
            <a:off x="228600" y="2438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Образ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Нау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Искус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Значение культура халиф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самых знаменитых поэтов был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рдоус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34—1020). Более 30 лет он работал над поэмой «Шахнаме» («Книга царей»). В ней рассказывается о борьбе иранского народа против завоевателей, прославляются подвиги легендарных геро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File:Фирдуси читает поэму «Шах-Наме» шаху Махмуду Газневи (1913).jpg"/>
          <p:cNvPicPr/>
          <p:nvPr/>
        </p:nvPicPr>
        <p:blipFill>
          <a:blip r:embed="rId2"/>
          <a:stretch/>
        </p:blipFill>
        <p:spPr>
          <a:xfrm>
            <a:off x="304920" y="1752480"/>
            <a:ext cx="4267080" cy="3954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52280" y="5715000"/>
            <a:ext cx="4419720" cy="838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доуси читает поэ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Шахна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всех видов искусства более всего в халифате была развита архитектура. Строители возводили для халифов великолепные дворцы, гробницы и крепости. Всему миру известна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льгамбр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дворец эмира в испанском гор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н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ile:Patio de los Arrayanes.jpg"/>
          <p:cNvPicPr/>
          <p:nvPr/>
        </p:nvPicPr>
        <p:blipFill>
          <a:blip r:embed="rId2"/>
          <a:stretch/>
        </p:blipFill>
        <p:spPr>
          <a:xfrm>
            <a:off x="457200" y="144792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4" descr="Рисунок16"/>
          <p:cNvPicPr/>
          <p:nvPr/>
        </p:nvPicPr>
        <p:blipFill>
          <a:blip r:embed="rId2"/>
          <a:stretch/>
        </p:blipFill>
        <p:spPr>
          <a:xfrm>
            <a:off x="0" y="1371600"/>
            <a:ext cx="4419720" cy="3594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6" descr="Рисунок18"/>
          <p:cNvPicPr/>
          <p:nvPr/>
        </p:nvPicPr>
        <p:blipFill>
          <a:blip r:embed="rId3"/>
          <a:stretch/>
        </p:blipFill>
        <p:spPr>
          <a:xfrm>
            <a:off x="4343400" y="3657600"/>
            <a:ext cx="456876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Oval 8"/>
          <p:cNvSpPr/>
          <p:nvPr/>
        </p:nvSpPr>
        <p:spPr>
          <a:xfrm>
            <a:off x="4724280" y="1828800"/>
            <a:ext cx="3962520" cy="160020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родах сооружали мечети. Мечеть служила не только местом молитвы, но и залом суда, хранилищем книг, а также денег, собранных для бедных, и просто клубом, где можно было потолковать с друз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200px-Sultan_Ahmed_Mosque%2C_Istambul"/>
          <p:cNvPicPr/>
          <p:nvPr/>
        </p:nvPicPr>
        <p:blipFill>
          <a:blip r:embed="rId2"/>
          <a:stretch/>
        </p:blipFill>
        <p:spPr>
          <a:xfrm>
            <a:off x="152280" y="20574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ое здание мечети — четырехугольный молитвенный зал, открытый во двор, который обычно окружала галерея с колоннами, где собравшиеся отдыхали; в середине двора верующие совершали омовение у бассейна с проточной водой. Иногда над мечетью возводили купол, но чаще крыша была плоской. Множество колонн, изящных и легких, заполняли молитвенный за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airo_al_azhar_mosque2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7а"/>
          <p:cNvPicPr/>
          <p:nvPr/>
        </p:nvPicPr>
        <p:blipFill>
          <a:blip r:embed="rId1"/>
          <a:stretch/>
        </p:blipFill>
        <p:spPr>
          <a:xfrm>
            <a:off x="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равнению с христианским храмом убранство мечети самое простое: в ней нет ни мебели, ни дорогой утвари, ни музыкальных инструментов. Пол застлан коврами, на которых рассаживаются посетители, предварительно оставив за дверями обувь; стены расписаны изречениями из Ко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9760" y="5230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P1000547"/>
          <p:cNvPicPr/>
          <p:nvPr/>
        </p:nvPicPr>
        <p:blipFill>
          <a:blip r:embed="rId2"/>
          <a:stretch/>
        </p:blipFill>
        <p:spPr>
          <a:xfrm>
            <a:off x="380880" y="16765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мечети возводили один или несколько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инарет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высоких башен, с которых пять раз в день верующих созывали на молитву специальные слу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0_51430_ee5403f6_L"/>
          <p:cNvPicPr/>
          <p:nvPr/>
        </p:nvPicPr>
        <p:blipFill>
          <a:blip r:embed="rId2"/>
          <a:stretch/>
        </p:blipFill>
        <p:spPr>
          <a:xfrm>
            <a:off x="685800" y="16002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стройки богато украшали резьбой по камню, изразцами, мозаикой на стенах и на полу. Стены зданий покрывали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рабеск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сложными геометрическими узорами из пересекающихся и переплетающихся линий. Изображение людей и животных мусульманством запрещ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4e786696e2e1"/>
          <p:cNvPicPr/>
          <p:nvPr/>
        </p:nvPicPr>
        <p:blipFill>
          <a:blip r:embed="rId2"/>
          <a:stretch/>
        </p:blipFill>
        <p:spPr>
          <a:xfrm>
            <a:off x="228600" y="16765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arabesque_13"/>
          <p:cNvPicPr/>
          <p:nvPr/>
        </p:nvPicPr>
        <p:blipFill>
          <a:blip r:embed="rId3"/>
          <a:stretch/>
        </p:blipFill>
        <p:spPr>
          <a:xfrm>
            <a:off x="2362320" y="3581280"/>
            <a:ext cx="1993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10, запис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,4,5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стр.83 - письм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430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халифат входило много стран с высокой древней культурой: Египет, Сирия, Палестина, Месопотамия, Иран, Средняя Азия. В этих странах широко распространился ислам, а вместе с ним — арабский язык. Его называли «латынью Восто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Файл:Asia history map 632.png"/>
          <p:cNvPicPr/>
          <p:nvPr/>
        </p:nvPicPr>
        <p:blipFill>
          <a:blip r:embed="rId2"/>
          <a:stretch/>
        </p:blipFill>
        <p:spPr>
          <a:xfrm>
            <a:off x="0" y="2057400"/>
            <a:ext cx="4648320" cy="338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5562720"/>
            <a:ext cx="4572000" cy="533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й халифат в 63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C0%F0%E0%E1%F1%EA%E8%E9_%F5%E0%EB%E8%F4%E0%F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rambler.ru/srch?query=%D0%90%D0%B2%D0%B8%D1%86%D0%B5%D0%BD%D0%BD%D0%B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09480" y="3152520"/>
            <a:ext cx="7925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nova.rambler.ru/search?query=%D0%A4%D0%B8%D1%80%D0%B4%D0%BE%D1%83%D1%81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ые школы у мусульман были частными. Те, кто мог платить, занимались на дому с наемными учителями. Образование можно было продолжить, посещая лекции и беседы знатоков Корана, Сунны и шариата. При наиболее известных мечетях в больших городах были открыты высшие мусульманские школы — медр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8" descr="Рисунок1"/>
          <p:cNvPicPr/>
          <p:nvPr/>
        </p:nvPicPr>
        <p:blipFill>
          <a:blip r:embed="rId2"/>
          <a:stretch/>
        </p:blipFill>
        <p:spPr>
          <a:xfrm>
            <a:off x="0" y="1698480"/>
            <a:ext cx="4572000" cy="3918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0" y="5562720"/>
            <a:ext cx="4572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ресе в Бух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f6861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f6861"/>
                </a:solidFill>
                <a:uFillTx/>
                <a:latin typeface="comic"/>
              </a:rPr>
              <a:t>Сунна</a:t>
            </a:r>
            <a:r>
              <a:rPr b="1" lang="ru-RU" sz="4000" spc="-1" strike="noStrike">
                <a:solidFill>
                  <a:srgbClr val="af6861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– собрание рассказов об изречениях и поступках Мухамме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f6861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f6861"/>
                </a:solidFill>
                <a:uFillTx/>
                <a:latin typeface="comic"/>
              </a:rPr>
              <a:t>Мечеть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– мусульманский х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16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знатный человек желал иметь в своем окружении как можно больше выдающихся поэтов, ученых, знатоков Корана, которые чаще всего жили при дворцах халифов и эмиров, получали содержание и дары от своих покровителей, за это прославляли их, посвящали им свои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9" descr="Рисунок3"/>
          <p:cNvPicPr/>
          <p:nvPr/>
        </p:nvPicPr>
        <p:blipFill>
          <a:blip r:embed="rId2"/>
          <a:stretch/>
        </p:blipFill>
        <p:spPr>
          <a:xfrm>
            <a:off x="0" y="1703520"/>
            <a:ext cx="4724280" cy="345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5410080"/>
            <a:ext cx="4800600" cy="99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эты просла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л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х на арабский язык были переведены научные труды древнегреческих, иранских, индийских ученых.- Особенно много переводов было сделано при Харуне ар-Рашиде и его сыне. В Багдаде тогда был основан  « Дом Мудрости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хранилище рукописей, где переводили и переписывали кн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File:Harun Al-Rashid and the World of the Thousand and One Nights.jpg"/>
          <p:cNvPicPr/>
          <p:nvPr/>
        </p:nvPicPr>
        <p:blipFill>
          <a:blip r:embed="rId3"/>
          <a:stretch/>
        </p:blipFill>
        <p:spPr>
          <a:xfrm>
            <a:off x="533520" y="1447920"/>
            <a:ext cx="2755800" cy="5029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457200" y="6095880"/>
            <a:ext cx="3048120" cy="5335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ун ар-Раш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м математикам были известны труды Пифагора, Евклида и Архимеда, индийских астрономов и математиков. Они создали алгебру, стали пользоваться индийскими цифрами. Постепенно эти цифры, стали называться  арабскими, и их счет проникли в Евро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l-kindi.jpeg"/>
          <p:cNvPicPr/>
          <p:nvPr/>
        </p:nvPicPr>
        <p:blipFill>
          <a:blip r:embed="rId2"/>
          <a:stretch/>
        </p:blipFill>
        <p:spPr>
          <a:xfrm>
            <a:off x="0" y="1447920"/>
            <a:ext cx="260028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20010219-001-01.jpg"/>
          <p:cNvPicPr/>
          <p:nvPr/>
        </p:nvPicPr>
        <p:blipFill>
          <a:blip r:embed="rId3"/>
          <a:stretch/>
        </p:blipFill>
        <p:spPr>
          <a:xfrm>
            <a:off x="2247840" y="3124080"/>
            <a:ext cx="232416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304920" y="60958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38480" y="144756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гдаде и Дамаске действовали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обсерватор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льзуясь сложными инструментами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троно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ели приблизительно вычислить окружность Земли, описали положение видимых звезд на н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ile:Taqi al din.jpg"/>
          <p:cNvPicPr/>
          <p:nvPr/>
        </p:nvPicPr>
        <p:blipFill>
          <a:blip r:embed="rId2"/>
          <a:stretch/>
        </p:blipFill>
        <p:spPr>
          <a:xfrm>
            <a:off x="152280" y="1295280"/>
            <a:ext cx="365472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e</cp:lastModifiedBy>
  <dcterms:modified xsi:type="dcterms:W3CDTF">2020-04-05T21:56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