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20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DE3-01B1-4717-9A5A-229369DC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1C8-5CF4-4F8E-940E-903A5C80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66B-79AC-4B20-8269-1D00BEB1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63C-F737-44EC-97FF-4CCA3634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CF4-AACB-4554-8C86-FD19819E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5E9-F811-45E4-A4EA-DB6653C8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B5E-6702-4F9F-AEBA-784EECBD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65B-083A-4645-ABE5-7036E209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D30-C924-4468-8EC0-EA6C7CD7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728-6CC3-4DAA-B0F8-24B3A79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F6E-8FA2-412D-88E8-8BCD9586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C13-ED29-4FAB-94D9-F9A26729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CD79-67B9-421C-920E-D0129CE621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520" y="1213920"/>
            <a:ext cx="742932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УТОНЬЕР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З БУМАГ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7aa641ab4ea3"/>
          <p:cNvPicPr/>
          <p:nvPr/>
        </p:nvPicPr>
        <p:blipFill>
          <a:blip r:embed="rId1"/>
          <a:stretch/>
        </p:blipFill>
        <p:spPr>
          <a:xfrm>
            <a:off x="841320" y="4054320"/>
            <a:ext cx="2876760" cy="188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7aa641ab4ea3"/>
          <p:cNvPicPr/>
          <p:nvPr/>
        </p:nvPicPr>
        <p:blipFill>
          <a:blip r:embed="rId2"/>
          <a:stretch/>
        </p:blipFill>
        <p:spPr>
          <a:xfrm>
            <a:off x="2792520" y="719280"/>
            <a:ext cx="2840040" cy="1987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7aa641ab4ea3"/>
          <p:cNvPicPr/>
          <p:nvPr/>
        </p:nvPicPr>
        <p:blipFill>
          <a:blip r:embed="rId3"/>
          <a:stretch/>
        </p:blipFill>
        <p:spPr>
          <a:xfrm>
            <a:off x="4979880" y="122400"/>
            <a:ext cx="2390760" cy="14983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6"/>
          <p:cNvSpPr/>
          <p:nvPr/>
        </p:nvSpPr>
        <p:spPr>
          <a:xfrm>
            <a:off x="5000760" y="4857840"/>
            <a:ext cx="35431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для обучаю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ервого года об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ТЕХНОЛОГИЯ ИЗГОТО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56800" y="1714320"/>
            <a:ext cx="77295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Материалы и инстр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цветная двухсторонняя бум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двусторонний объемный скот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тесьма атласная (ширина 0,5-1 см, длина 35 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лей-каранд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арандаш про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шаб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онф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616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7aa641ab4ea3"/>
          <p:cNvPicPr/>
          <p:nvPr/>
        </p:nvPicPr>
        <p:blipFill>
          <a:blip r:embed="rId1"/>
          <a:stretch/>
        </p:blipFill>
        <p:spPr>
          <a:xfrm>
            <a:off x="4214880" y="392904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7aa641ab4ea3"/>
          <p:cNvPicPr/>
          <p:nvPr/>
        </p:nvPicPr>
        <p:blipFill>
          <a:blip r:embed="rId2"/>
          <a:stretch/>
        </p:blipFill>
        <p:spPr>
          <a:xfrm>
            <a:off x="6145200" y="3780000"/>
            <a:ext cx="272412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ыбираем цвет бумаги для лепестков и листьев, определяем будет ли наш цветок похож на настоящий или он будет фантастический. Цвет ленты желательно подобрать в тон бумаги лепестков или лист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E:\мастер-класс ,,бутоньерка,,\в презентацию\20150902_150228.jpg"/>
          <p:cNvPicPr/>
          <p:nvPr/>
        </p:nvPicPr>
        <p:blipFill>
          <a:blip r:embed="rId1"/>
          <a:stretch/>
        </p:blipFill>
        <p:spPr>
          <a:xfrm>
            <a:off x="1536840" y="2571840"/>
            <a:ext cx="63928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о шаблону простым карандашом обводим детали лепестков и листи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мастер-класс ,,бутоньерка,,\в презентацию\20150902_150448.jpg"/>
          <p:cNvPicPr/>
          <p:nvPr/>
        </p:nvPicPr>
        <p:blipFill>
          <a:blip r:embed="rId1"/>
          <a:stretch/>
        </p:blipFill>
        <p:spPr>
          <a:xfrm>
            <a:off x="1643040" y="1785960"/>
            <a:ext cx="6215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E:\мастер-класс ,,бутоньерка,,\в презентацию\20150902_150543 - копия.jpg"/>
          <p:cNvPicPr/>
          <p:nvPr/>
        </p:nvPicPr>
        <p:blipFill>
          <a:blip r:embed="rId1"/>
          <a:stretch/>
        </p:blipFill>
        <p:spPr>
          <a:xfrm>
            <a:off x="928800" y="2857680"/>
            <a:ext cx="4441680" cy="2717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У цветка две детали лепестков, поэтому бумагу сгибаем пополам. Для изготовления листьев бумагу сгибаем два раза, чтобы получить три детали. Все заготовки вырезаем ножницами, соблюдая правила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E:\мастер-класс ,,бутоньерка,,\в презентацию\20150902_150838.jpg"/>
          <p:cNvPicPr/>
          <p:nvPr/>
        </p:nvPicPr>
        <p:blipFill>
          <a:blip r:embed="rId2"/>
          <a:stretch/>
        </p:blipFill>
        <p:spPr>
          <a:xfrm>
            <a:off x="5643720" y="2857680"/>
            <a:ext cx="26859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14520" y="714240"/>
            <a:ext cx="450036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Детали лепестков складываем вместе и мнем, имитируя складочки лепестков настоящего цветка (1). </a:t>
            </a:r>
            <a:br>
              <a:rPr sz="2000"/>
            </a:br>
            <a:r>
              <a:rPr b="0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  Детали листьев, сложив вместе, сгибаем вдоль пополам, затем гармошкой, имитируя прожилки настоящих листьев (2,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E:\мастер-класс ,,бутоньерка,,\в презентацию\20150902_150957.jpg"/>
          <p:cNvPicPr/>
          <p:nvPr/>
        </p:nvPicPr>
        <p:blipFill>
          <a:blip r:embed="rId1"/>
          <a:stretch/>
        </p:blipFill>
        <p:spPr>
          <a:xfrm>
            <a:off x="1000080" y="857160"/>
            <a:ext cx="2921040" cy="1643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мастер-класс ,,бутоньерка,,\в презентацию\20150902_151022.jpg"/>
          <p:cNvPicPr/>
          <p:nvPr/>
        </p:nvPicPr>
        <p:blipFill>
          <a:blip r:embed="rId2"/>
          <a:stretch/>
        </p:blipFill>
        <p:spPr>
          <a:xfrm>
            <a:off x="1000080" y="2714760"/>
            <a:ext cx="2928960" cy="1555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E:\мастер-класс ,,бутоньерка,,\в презентацию\20150902_151100.jpg"/>
          <p:cNvPicPr/>
          <p:nvPr/>
        </p:nvPicPr>
        <p:blipFill>
          <a:blip r:embed="rId3"/>
          <a:stretch/>
        </p:blipFill>
        <p:spPr>
          <a:xfrm>
            <a:off x="1000080" y="4429080"/>
            <a:ext cx="285768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E:\мастер-класс ,,бутоньерка,,\в презентацию\20150902_151226.jpg"/>
          <p:cNvPicPr/>
          <p:nvPr/>
        </p:nvPicPr>
        <p:blipFill>
          <a:blip r:embed="rId4"/>
          <a:stretch/>
        </p:blipFill>
        <p:spPr>
          <a:xfrm>
            <a:off x="4214880" y="3071880"/>
            <a:ext cx="4071960" cy="2814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0"/>
          <p:cNvSpPr/>
          <p:nvPr/>
        </p:nvSpPr>
        <p:spPr>
          <a:xfrm>
            <a:off x="1143000" y="10000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1"/>
          <p:cNvSpPr/>
          <p:nvPr/>
        </p:nvSpPr>
        <p:spPr>
          <a:xfrm>
            <a:off x="1143000" y="28576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2"/>
          <p:cNvSpPr/>
          <p:nvPr/>
        </p:nvSpPr>
        <p:spPr>
          <a:xfrm>
            <a:off x="1143000" y="457200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328608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Детали лепестков складываем друг на друга со смещением, и склеиваем только центр цветка. </a:t>
            </a:r>
            <a:br>
              <a:rPr sz="2400"/>
            </a:b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 Два листика располагаем рядом, третий – напротив, склеиваем за концы. </a:t>
            </a:r>
            <a:r>
              <a:rPr b="0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мастер-класс ,,бутоньерка,,\в презентацию\20150902_151332.jpg"/>
          <p:cNvPicPr/>
          <p:nvPr/>
        </p:nvPicPr>
        <p:blipFill>
          <a:blip r:embed="rId1"/>
          <a:stretch/>
        </p:blipFill>
        <p:spPr>
          <a:xfrm>
            <a:off x="4572000" y="928800"/>
            <a:ext cx="35686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Наша бутоньерка не просто украшение - это сладкий подарок. Сердцевину цветка делаем из конфетки (лучше куполообразной формы, но подойдут и другие). Прикрепляем скотч к конфете, затем вклеиваем ее в цв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E:\мастер-класс ,,бутоньерка,,\в презентацию\20150902_151631.jpg"/>
          <p:cNvPicPr/>
          <p:nvPr/>
        </p:nvPicPr>
        <p:blipFill>
          <a:blip r:embed="rId1"/>
          <a:stretch/>
        </p:blipFill>
        <p:spPr>
          <a:xfrm>
            <a:off x="1109520" y="2928960"/>
            <a:ext cx="3605400" cy="2786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E:\мастер-класс ,,бутоньерка,,\в презентацию\20150902_151932.jpg"/>
          <p:cNvPicPr/>
          <p:nvPr/>
        </p:nvPicPr>
        <p:blipFill>
          <a:blip r:embed="rId2"/>
          <a:stretch/>
        </p:blipFill>
        <p:spPr>
          <a:xfrm>
            <a:off x="5000760" y="2913120"/>
            <a:ext cx="31604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43240" y="178560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Листья в центре хорошо промазываем клеем и крепим тесьму (1). Склеиваем все детали цветка вместе(2). </a:t>
            </a:r>
            <a:br>
              <a:rPr sz="2400"/>
            </a:b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Можно добавить тычинки. Полоску бумаги (3х20 см) надрезаем бахромой и приклеиваем вокруг конф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:\мастер-класс ,,бутоньерка,,\в презентацию\20150902_152141.jpg"/>
          <p:cNvPicPr/>
          <p:nvPr/>
        </p:nvPicPr>
        <p:blipFill>
          <a:blip r:embed="rId1"/>
          <a:stretch/>
        </p:blipFill>
        <p:spPr>
          <a:xfrm>
            <a:off x="1071720" y="1071720"/>
            <a:ext cx="2828880" cy="221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E:\мастер-класс ,,бутоньерка,,\в презентацию\20150902_152211.jpg"/>
          <p:cNvPicPr/>
          <p:nvPr/>
        </p:nvPicPr>
        <p:blipFill>
          <a:blip r:embed="rId2"/>
          <a:stretch/>
        </p:blipFill>
        <p:spPr>
          <a:xfrm>
            <a:off x="1143000" y="3571920"/>
            <a:ext cx="2760840" cy="235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E:\мастер-класс ,,бутоньерка,,\в презентацию\DSC08303.JPG"/>
          <p:cNvPicPr/>
          <p:nvPr/>
        </p:nvPicPr>
        <p:blipFill>
          <a:blip r:embed="rId3"/>
          <a:stretch/>
        </p:blipFill>
        <p:spPr>
          <a:xfrm>
            <a:off x="4357800" y="4071960"/>
            <a:ext cx="3857400" cy="17906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3357720" y="5500800"/>
            <a:ext cx="4284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3287880" y="135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3359520" y="52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0726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Шаблоны листика и лепе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E:\мастер-класс ,,бутоньерка,,\в презентацию\шаблоны.jpg"/>
          <p:cNvPicPr/>
          <p:nvPr/>
        </p:nvPicPr>
        <p:blipFill>
          <a:blip r:embed="rId1"/>
          <a:stretch/>
        </p:blipFill>
        <p:spPr>
          <a:xfrm>
            <a:off x="1143000" y="1643040"/>
            <a:ext cx="69292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5560" y="500040"/>
            <a:ext cx="7358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СТОРИЯ БУТОНЬ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4" descr="alldon_butonierka-svoimi-rukami-3.png"/>
          <p:cNvPicPr/>
          <p:nvPr/>
        </p:nvPicPr>
        <p:blipFill>
          <a:blip r:embed="rId1"/>
          <a:stretch/>
        </p:blipFill>
        <p:spPr>
          <a:xfrm>
            <a:off x="4224240" y="2071800"/>
            <a:ext cx="4048200" cy="3786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3186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c8c9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утонье́рка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(фр. </a:t>
            </a:r>
            <a:r>
              <a:rPr b="0" i="1" lang="fr-FR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boutonnière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 — цветок в петлице) —один или несколько цветов или бутонов (обычно гвоздики или розы) в петлице, аксессуар мужского костю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42960" y="1000080"/>
            <a:ext cx="4357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До 19-го века бутоньерки крепили не на лацканы. Цветки располагали просто в районе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428760" y="2857680"/>
            <a:ext cx="77151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Начиная с 40-х го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XIX века красную гвозд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тали носить представи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рабочего движени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олитических демонстрац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(маёвках), когда красные фла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ыли под запр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7aa641ab4ea3"/>
          <p:cNvPicPr/>
          <p:nvPr/>
        </p:nvPicPr>
        <p:blipFill>
          <a:blip r:embed="rId1"/>
          <a:stretch/>
        </p:blipFill>
        <p:spPr>
          <a:xfrm>
            <a:off x="5643720" y="4286160"/>
            <a:ext cx="3090600" cy="207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5214960" y="1000080"/>
            <a:ext cx="29653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User\Desktop\аттестация 2015\мастер-класс ,,бутоньерка,,\U-PjCv_OKbA.jpg"/>
          <p:cNvPicPr/>
          <p:nvPr/>
        </p:nvPicPr>
        <p:blipFill>
          <a:blip r:embed="rId1"/>
          <a:stretch/>
        </p:blipFill>
        <p:spPr>
          <a:xfrm>
            <a:off x="5357880" y="2071800"/>
            <a:ext cx="314316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14240" y="1714680"/>
            <a:ext cx="442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начале XX века бутоньерка стала опознавательным знаком праздных денди. Без цветка в петлице, например, не появлялся на   публике известный писатель, поэт Оскар Уайль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«Хорошо подобранная бутоньерка - единственная связь между искусством и природой», - говорил Оскар Уайль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7aa641ab4ea3"/>
          <p:cNvPicPr/>
          <p:nvPr/>
        </p:nvPicPr>
        <p:blipFill>
          <a:blip r:embed="rId2"/>
          <a:stretch/>
        </p:blipFill>
        <p:spPr>
          <a:xfrm>
            <a:off x="2109960" y="-328680"/>
            <a:ext cx="2938320" cy="22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7aa641ab4ea3"/>
          <p:cNvPicPr/>
          <p:nvPr/>
        </p:nvPicPr>
        <p:blipFill>
          <a:blip r:embed="rId3"/>
          <a:stretch/>
        </p:blipFill>
        <p:spPr>
          <a:xfrm>
            <a:off x="4694400" y="-19080"/>
            <a:ext cx="25351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4071960" y="1285920"/>
            <a:ext cx="43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настоящее время бутоньерка встречается не только в праздничном мужском костюме на свадебных торжествах и  танцевальных бал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7aa641ab4ea3"/>
          <p:cNvPicPr/>
          <p:nvPr/>
        </p:nvPicPr>
        <p:blipFill>
          <a:blip r:embed="rId1"/>
          <a:stretch/>
        </p:blipFill>
        <p:spPr>
          <a:xfrm>
            <a:off x="3681360" y="3743280"/>
            <a:ext cx="2932200" cy="22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7aa641ab4ea3"/>
          <p:cNvPicPr/>
          <p:nvPr/>
        </p:nvPicPr>
        <p:blipFill>
          <a:blip r:embed="rId2"/>
          <a:stretch/>
        </p:blipFill>
        <p:spPr>
          <a:xfrm>
            <a:off x="6126120" y="4054320"/>
            <a:ext cx="2530440" cy="157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E:\мастер-класс ,,бутоньерка,,\в презентацию\fe125a043deda389190c82b3bc03c63f.jpg"/>
          <p:cNvPicPr/>
          <p:nvPr/>
        </p:nvPicPr>
        <p:blipFill>
          <a:blip r:embed="rId3"/>
          <a:stretch/>
        </p:blipFill>
        <p:spPr>
          <a:xfrm>
            <a:off x="928800" y="1500120"/>
            <a:ext cx="29001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8480" y="428760"/>
            <a:ext cx="7358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1642680"/>
            <a:ext cx="3400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c8c9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14800" y="1928520"/>
            <a:ext cx="52149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утоньерки вовсе не обязательно должны содержать цветочные мотивы. Они могут быть декорированы ина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E:\мастер-класс ,,бутоньерка,,\в презентацию\Роберт Дауни - младший в костюме и булавке от Lanvin.jpg"/>
          <p:cNvPicPr/>
          <p:nvPr/>
        </p:nvPicPr>
        <p:blipFill>
          <a:blip r:embed="rId1"/>
          <a:stretch/>
        </p:blipFill>
        <p:spPr>
          <a:xfrm>
            <a:off x="1000080" y="928800"/>
            <a:ext cx="1970280" cy="2786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2"/>
          <p:cNvSpPr/>
          <p:nvPr/>
        </p:nvSpPr>
        <p:spPr>
          <a:xfrm>
            <a:off x="3500280" y="642960"/>
            <a:ext cx="5286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егодня очень мод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украшения на лацка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мужских костю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:\мастер-класс ,,бутоньерка,,\в презентацию\butonyerka-iz-koloskov-12.jpg"/>
          <p:cNvPicPr/>
          <p:nvPr/>
        </p:nvPicPr>
        <p:blipFill>
          <a:blip r:embed="rId2"/>
          <a:stretch/>
        </p:blipFill>
        <p:spPr>
          <a:xfrm>
            <a:off x="1000080" y="3857760"/>
            <a:ext cx="1959120" cy="2071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E:\мастер-класс ,,бутоньерка,,\в презентацию\buton-erka-26.jpg"/>
          <p:cNvPicPr/>
          <p:nvPr/>
        </p:nvPicPr>
        <p:blipFill>
          <a:blip r:embed="rId3"/>
          <a:stretch/>
        </p:blipFill>
        <p:spPr>
          <a:xfrm>
            <a:off x="6215040" y="3929040"/>
            <a:ext cx="2071800" cy="200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E:\мастер-класс ,,бутоньерка,,\tons-of-paper-flower-inspiration-for-your-wedding-or-paper-anniversary.jpg"/>
          <p:cNvPicPr/>
          <p:nvPr/>
        </p:nvPicPr>
        <p:blipFill>
          <a:blip r:embed="rId4"/>
          <a:stretch/>
        </p:blipFill>
        <p:spPr>
          <a:xfrm>
            <a:off x="3286080" y="3929040"/>
            <a:ext cx="26575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4200" y="3357360"/>
            <a:ext cx="52149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наше время бутоньерка становится  изящным женским аксессуаром. Девушки могут крепить это украшение на запястье или к сумочке. Она будет уместна в волосах, на поясе, в рук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7aa641ab4ea3"/>
          <p:cNvPicPr/>
          <p:nvPr/>
        </p:nvPicPr>
        <p:blipFill>
          <a:blip r:embed="rId1"/>
          <a:stretch/>
        </p:blipFill>
        <p:spPr>
          <a:xfrm>
            <a:off x="-512640" y="-933480"/>
            <a:ext cx="4913280" cy="4713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E:\мастер-класс ,,бутоньерка,,\в презентацию\Бутоньерка-Виды-бутоньерок-Как-приколоть-бутоньерку-4.jpg"/>
          <p:cNvPicPr/>
          <p:nvPr/>
        </p:nvPicPr>
        <p:blipFill>
          <a:blip r:embed="rId2"/>
          <a:stretch/>
        </p:blipFill>
        <p:spPr>
          <a:xfrm>
            <a:off x="5857920" y="500040"/>
            <a:ext cx="2577960" cy="3286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E:\мастер-класс ,,бутоньерка,,\в презентацию\2012-Vesssna-Poyas-s-shelkovyimi-tsvetami-Snovideniya-1.jpg"/>
          <p:cNvPicPr/>
          <p:nvPr/>
        </p:nvPicPr>
        <p:blipFill>
          <a:blip r:embed="rId3"/>
          <a:stretch/>
        </p:blipFill>
        <p:spPr>
          <a:xfrm>
            <a:off x="5572080" y="3929040"/>
            <a:ext cx="283860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E:\мастер-класс ,,бутоньерка,,\в презентацию\97161357_4.jpg"/>
          <p:cNvPicPr/>
          <p:nvPr/>
        </p:nvPicPr>
        <p:blipFill>
          <a:blip r:embed="rId4"/>
          <a:stretch/>
        </p:blipFill>
        <p:spPr>
          <a:xfrm>
            <a:off x="2428920" y="500040"/>
            <a:ext cx="2979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785808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Цветы никогда не выходят из моды, и мы можем воспользоваться ими чтобы дополнить любой образ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Особой популярностью пользуются бутоньерки на руку. Миниатюрные композиции становятся изысканными украшениям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утоньерка подчёркнет вашу индивидуальность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аш сти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E:\мастер-класс ,,бутоньерка,,\в презентацию\2868457_nam3a6w7sck.jpg"/>
          <p:cNvPicPr/>
          <p:nvPr/>
        </p:nvPicPr>
        <p:blipFill>
          <a:blip r:embed="rId1"/>
          <a:stretch/>
        </p:blipFill>
        <p:spPr>
          <a:xfrm>
            <a:off x="857160" y="3429000"/>
            <a:ext cx="2113200" cy="221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E:\мастер-класс ,,бутоньерка,,\в презентацию\09.jpg"/>
          <p:cNvPicPr/>
          <p:nvPr/>
        </p:nvPicPr>
        <p:blipFill>
          <a:blip r:embed="rId2"/>
          <a:stretch/>
        </p:blipFill>
        <p:spPr>
          <a:xfrm>
            <a:off x="3357720" y="3429000"/>
            <a:ext cx="2357280" cy="2235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E:\мастер-класс ,,бутоньерка,,\в презентацию\9.jpg"/>
          <p:cNvPicPr/>
          <p:nvPr/>
        </p:nvPicPr>
        <p:blipFill>
          <a:blip r:embed="rId3"/>
          <a:stretch/>
        </p:blipFill>
        <p:spPr>
          <a:xfrm>
            <a:off x="6000840" y="3429000"/>
            <a:ext cx="23572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77868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утоньерка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может представлять собой один цветок, а может и мини букет. Цветы могут быть живые, а могут быть шелковые или бумажные. Она может крепиться на готовый браслет, ленту или кружево. Предпочтительней для украшения запястья использовать три цветка, хотя если вы хотите быть модной и современной подойдет один крупный и яркий цвет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E:\мастер-класс ,,бутоньерка,,\в презентацию\1500Wrist-120722104644.jpg"/>
          <p:cNvPicPr/>
          <p:nvPr/>
        </p:nvPicPr>
        <p:blipFill>
          <a:blip r:embed="rId1"/>
          <a:stretch/>
        </p:blipFill>
        <p:spPr>
          <a:xfrm>
            <a:off x="1000080" y="3786120"/>
            <a:ext cx="4857840" cy="1906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E:\мастер-класс ,,бутоньерка,,\в презентацию\10.jpg"/>
          <p:cNvPicPr/>
          <p:nvPr/>
        </p:nvPicPr>
        <p:blipFill>
          <a:blip r:embed="rId2"/>
          <a:stretch/>
        </p:blipFill>
        <p:spPr>
          <a:xfrm>
            <a:off x="6286680" y="3500280"/>
            <a:ext cx="2077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04-06T14:17:21Z</dcterms:modified>
  <cp:revision>610</cp:revision>
  <dc:subject/>
  <dc:title>Diapositiva 1</dc:title>
</cp:coreProperties>
</file>