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DA9C-2744-44A5-8D7D-99E1F56D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9A5F-1852-4CEC-8062-7ED44B66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0734-39ED-42FB-9221-30AEF85D6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E689-D57B-4CED-BEA9-9F9CCD797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5022-8691-4A04-8CA8-34E50F4A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E5B5-0FAA-4324-9A0E-F9CD5F5F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66DF-DEE0-4216-A8C3-EB1797B1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C25A-DA25-421C-89C7-7B0E60B7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FBE3-84F3-41D7-9D2E-50288836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AE1B-D94A-4C03-AC0D-C44A9F72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C412-34D4-48EE-AAA2-946E4F0A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5F5A-0C0B-4F1F-B6B5-83B52835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7C34-EC6E-43A2-8FEC-AF873F18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0475-1F29-4B67-B22C-69ECBF82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92A8-8C7B-49CD-ACEF-23758234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F96E-45F0-43C8-BD3B-000058C83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A08A-C082-4D08-AF02-0E248090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6C3A-267C-4352-A3A5-05D92363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D95E-95D0-4F4A-BAB0-E6079EA9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89B2-9B83-4265-B111-29DCCC11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6D74-DAD7-42EC-BC9D-9398CA43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89BD-C2EC-4AE6-A466-C99E9ABB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A7C9-C8DB-4ED1-93FD-A29AEE4A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6564-76F2-461B-9256-D489D903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6415-DA20-4BF4-9520-47C119BCAB4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2450-A017-4FA1-920C-EDB1029F8D5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Пространство Дальнего Восток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Verdana"/>
              </a:rPr>
              <a:t>ТРАНСПОРТ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)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железнодорожн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анссибирская магистраль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айкало – Амурская магистраль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муро – Якутская ( строится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)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авиационн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)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морск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ты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дивост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ход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нин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98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98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98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98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98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льское хозяйство имеет местное значение. Общероссйиское значение – рисоводство и выращивание со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22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40384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Дальний восток ввозит в центр Росс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ыб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есоматериал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умаг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нцентрат цветных металл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0" y="609480"/>
            <a:ext cx="403848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Дальний восток экспортирует за рубеж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ыб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гол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дукцию лесной и деревообрабатывающей промышленност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4" descr="Д"/>
          <p:cNvPicPr/>
          <p:nvPr/>
        </p:nvPicPr>
        <p:blipFill>
          <a:blip r:embed="rId1"/>
          <a:srcRect l="3332" t="13131" r="0" b="505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дани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исать географическое положение Дальнего Востока (карта в учебнике стр.229,234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Что мы знаем о Дальнем Восток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ососев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репродукт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сурийская тайг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мурский тиг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ина гейзеров ( Камчатка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лючевская Сопка (Курило-Камчатский вулканический пояс (68 действующих вулканов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остав Дальневосточного федерального округа 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Рисунок 4" descr="Безымянный.JPG"/>
          <p:cNvPicPr/>
          <p:nvPr/>
        </p:nvPicPr>
        <p:blipFill>
          <a:blip r:embed="rId1"/>
          <a:stretch/>
        </p:blipFill>
        <p:spPr>
          <a:xfrm>
            <a:off x="4730760" y="3865680"/>
            <a:ext cx="4529160" cy="292572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5" descr="Безымянный мирп.JPG"/>
          <p:cNvPicPr/>
          <p:nvPr/>
        </p:nvPicPr>
        <p:blipFill>
          <a:blip r:embed="rId2"/>
          <a:stretch/>
        </p:blipFill>
        <p:spPr>
          <a:xfrm>
            <a:off x="0" y="1752480"/>
            <a:ext cx="4773600" cy="347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альневосточный  федеральный округ в % от Росси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рритория – 36,4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селение – 4,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аловой региональный продукт – 5,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дукция промышленности – 4,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дукция сельского хозяйства – 3,4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50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кономико - географическое положение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дален от обжитых районов стран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льшая протяженность государственной границы с Китае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мывается водами Северным Ледовитым и Тихим океанам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оставе округа – полуостров Камчатка, Чукотка, островная область на Сахалине и Курилах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228240"/>
            <a:ext cx="83818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ПРИРОДНЫЕ РЕСУРСЫ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Минеральные ресурсы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голь,  нефть , газ, руды, алмаз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Биологические ресурсы мор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Лесные ресурсы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Гидроресурс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Геотермальная энерг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Энергия прилив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Рекреационные ресурс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1% древесины Росс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селение .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Численность населения - 7 миллионов  человек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лотность –на севере менее 1 чел/км.к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 юге 50 чел/км.к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играция населения в западные регион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оренные жители – Якуты и группа малых народ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90% населения округа – русские, украинцы, белорус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Горожане составляют более 75% населения округ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трасли специализации.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быча и обогащение руд цветных металлов ( олово, свинца, цинка, вольфрама) алмаз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ыбная промышленность икра,лососевые( более 2/3 российского производства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есозаготовка и целлюлозно – бумажная промышленность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орской транспорт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WordArt 11"/>
          <p:cNvSpPr txBox="1"/>
          <p:nvPr/>
        </p:nvSpPr>
        <p:spPr>
          <a:xfrm>
            <a:off x="2209680" y="457200"/>
            <a:ext cx="4876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Экономика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ом</dc:creator>
  <dc:description/>
  <dc:language>en-US</dc:language>
  <cp:lastModifiedBy>школа</cp:lastModifiedBy>
  <dcterms:modified xsi:type="dcterms:W3CDTF">2020-04-06T14:30:43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