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53BB-E3FF-41D9-8124-E0CD5968B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51D0-9A7E-4E50-A625-1B539511F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424B-4D2E-4BE1-A2F3-209694E32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B0FA-F26F-4ACF-8824-F213CF37C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17BE8-A56F-4651-AE76-8143EA012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B1693-DD49-4C5D-906C-A230C403C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C3D13-38CC-4AD5-A8DF-5C9C6418A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EA988-7F57-4A81-8FB9-8057F8BB1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33E6E-8F63-44BC-8E5C-3F1017DF8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B088A-6681-445D-A95A-7D2BA58E5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D001B-1C20-402E-844C-2D4ED6C7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8984-2D2A-4E3E-A6C2-F6AD16B2D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92222-19B6-47F5-AF54-00D94C43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39796-631C-4678-A7F6-71D01BFF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65FEF-68A9-4B0D-A0FA-92EDCAA5C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7BFE4-95A2-474F-8322-C14514464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9EE8E-3174-4107-BE39-663441C42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C667-08BC-45D2-B448-DF6A9508E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2ACB-50DF-4100-82E1-A76E54685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9436-2D6D-45B7-9A39-85956D17E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B9E0-A31D-4184-B4F7-BB4230DBD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11DD-930C-40E8-ACB1-6B4DBF9D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2409-5925-4F8F-85F9-5592AAE0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EA29-DDBB-48CE-B8AF-158D27E6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D1034-ADC5-4C2B-8078-6B4EDB27317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95B83-08BD-4200-AAC3-AE91F5316FE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Пространство Дальнего Восток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Verdana"/>
              </a:rPr>
              <a:t>ТРАНСПОРТ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)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железнодорожны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анссибирская магистраль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айкало – Амурская магистраль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муро – Якутская ( строится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)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авиационны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)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морско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рты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ладивосто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ходк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анин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98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98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98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98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98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льское хозяйство имеет местное значение. Общероссйиское значение – рисоводство и выращивание со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223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403848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Дальний восток ввозит в центр Росси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ыб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Лесоматериал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умаг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нцентрат цветных металлов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0" y="609480"/>
            <a:ext cx="403848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Дальний восток экспортирует за рубеж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ыб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гол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одукцию лесной и деревообрабатывающей промышленност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0" name="Picture 4" descr="Д"/>
          <p:cNvPicPr/>
          <p:nvPr/>
        </p:nvPicPr>
        <p:blipFill>
          <a:blip r:embed="rId1"/>
          <a:srcRect l="3332" t="13131" r="0" b="505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дание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исать географическое положение Дальнего Востока (карта в учебнике стр.229,234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Что мы знаем о Дальнем Восток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ососев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репродукт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сурийская тайга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мурский тиг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ина гейзеров ( Камчатка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лючевская Сопка (Курило-Камчатский вулканический пояс (68 действующих вулканов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остав Дальневосточного федерального округа 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Рисунок 4" descr="Безымянный.JPG"/>
          <p:cNvPicPr/>
          <p:nvPr/>
        </p:nvPicPr>
        <p:blipFill>
          <a:blip r:embed="rId1"/>
          <a:stretch/>
        </p:blipFill>
        <p:spPr>
          <a:xfrm>
            <a:off x="4730760" y="3865680"/>
            <a:ext cx="4529160" cy="292572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5" descr="Безымянный мирп.JPG"/>
          <p:cNvPicPr/>
          <p:nvPr/>
        </p:nvPicPr>
        <p:blipFill>
          <a:blip r:embed="rId2"/>
          <a:stretch/>
        </p:blipFill>
        <p:spPr>
          <a:xfrm>
            <a:off x="0" y="1752480"/>
            <a:ext cx="4773600" cy="347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Дальневосточный  федеральный округ в % от России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2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ерритория – 36,4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селение – 4,6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аловой региональный продукт – 5,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одукция промышленности – 4,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одукция сельского хозяйства – 3,4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550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Экономико - географическое положение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дален от обжитых районов страны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ольшая протяженность государственной границы с Китаем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мывается водами Северным Ледовитым и Тихим океанам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составе округа – полуостров Камчатка, Чукотка, островная область на Сахалине и Курилах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240" y="228240"/>
            <a:ext cx="83818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ПРИРОДНЫЕ РЕСУРСЫ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Минеральные ресурсы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уголь,  нефть , газ, руды, алмаз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Биологические ресурсы мор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Лесные ресурсы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Гидроресурс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Геотермальная энерги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Энергия приливов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Рекреационные ресурс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1% древесины Росси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Население .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Численность населения - 7 миллионов  человек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лотность –на севере менее 1 чел/км.к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а юге 50 чел/км.кв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Миграция населения в западные регион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оренные жители – Якуты и группа малых народов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90% населения округа – русские, украинцы, белорус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Горожане составляют более 75% населения округ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трасли специализации.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быча и обогащение руд цветных металлов ( олово, свинца, цинка, вольфрама) алмазов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ыбная промышленность икра,лососевые( более 2/3 российского производства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Лесозаготовка и целлюлозно – бумажная промышленность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орской транспорт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WordArt 11"/>
          <p:cNvSpPr txBox="1"/>
          <p:nvPr/>
        </p:nvSpPr>
        <p:spPr>
          <a:xfrm>
            <a:off x="2209680" y="457200"/>
            <a:ext cx="48769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Экономика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ом</dc:creator>
  <dc:description/>
  <dc:language>en-US</dc:language>
  <cp:lastModifiedBy>школа</cp:lastModifiedBy>
  <dcterms:modified xsi:type="dcterms:W3CDTF">2020-04-06T14:30:43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