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660-D54A-41FC-9DE9-84A98989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0E5-2926-42F2-8ED6-2CEA85A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AFD-244F-4DBF-A29D-5259109B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607-E313-423B-8D6A-1D8A0DDE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E41-E3A7-453A-B590-EF7834B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700-7721-497E-91A7-EEBBC1E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DD0-FBAB-47FC-A4C6-BDAE26B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86A-C0BD-4787-B036-139D48E3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6B7-8550-4F9F-A9AE-77EAEA5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949-A611-430D-9E89-4C309E0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3A2-A0CD-46AE-B353-B92DADB2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076-A35F-4D66-91A0-A9FBBC0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48E9-7722-4CE7-8AC4-929AF6ED0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Творчество С.Есенина и В.Мая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200" y="176760"/>
            <a:ext cx="8983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6 «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исьмо Татьяне Яковлевой» – стихо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) Любо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) Патриот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) Сатир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эзия, по Маяковскому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) Ору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) Искусство для избр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) Искусство ради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8600" y="826920"/>
            <a:ext cx="77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И виж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сидят людей полов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О дьявольщи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Где ж половина друг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А) Гиперб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Б) Аллег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В) Гротес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8532360" cy="6937200"/>
        </p:xfrm>
        <a:graphic>
          <a:graphicData uri="http://schemas.openxmlformats.org/drawingml/2006/table">
            <a:tbl>
              <a:tblPr/>
              <a:tblGrid>
                <a:gridCol w="232200"/>
                <a:gridCol w="8300160"/>
              </a:tblGrid>
              <a:tr h="693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.Сатира на советского обывателя дана в стихотворени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«Послушайте!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«О дряни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«Подлиза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360" y="286920"/>
            <a:ext cx="8963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О какой из своих поэм Маяковский сказал: «Четыре крика четырех часте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а. «Левый мар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б. «В. И. Лен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в. «Хорош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г. «Облако в штан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3200" y="367560"/>
            <a:ext cx="9236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1.Стихи «Шагане ты моя.Шаган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«Руки милой-пара лебедей»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ренадлежат сборнику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&lt;Иорданская голубица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&lt;Персидские молитвы&gt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&lt;Москва кабатская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Какова тема стихотворения «Не жалею,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не зову,не плач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тема Рос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тема жизни и смер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тема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4440" y="191160"/>
            <a:ext cx="8629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Стихотворение  «Отговорила роща золотая «посвящен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раздумьям о безвозвратно ушедшей югост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теме природы родной деревн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Теме Родины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Кто из современных С.А.Есенину поэтов окозал влияние на его творчество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М.Цветаев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С.Городецки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Н.Клюев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)А.А.Ахматов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)О.Э.Мандельштам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)Н.Гумилеев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)А.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9680"/>
            <a:ext cx="8099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5.Какое значение имеет эпитет&lt;розовый&gt;(&lt;проскакал на розовом коне&gt;)в стихотворении &lt;не жалею.не зову,не плачу…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фантазия поэт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значение ответа утреней зар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символ радосных ожиланий света,юности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6.Что определяет судьбы всех героев поэмы &lt;Анна Снегина&gt;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любов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Судьб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)Полити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)собственный выбор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)общественное м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284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7.Какой образ поэмы &lt;Анна Снегина&gt; символизирует процесс изменения в облике русского крестьянств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Мельник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мужик-возниц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Лабут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Прон Оглоблин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)Анна Снегин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)Сергей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8.Опредилите Жанр поэмы Анна Сне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Романтическая поэм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эсс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повесть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лиро-эпическая поэ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-27000"/>
            <a:ext cx="88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9.Каково отношение автора к крестьянству (на материале поэмы &lt;Анна Снегина&gt;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восторжен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не идеализирован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презрительное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сочув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10.В Какую страну вынуждена была Эмигрировать Анна Снегин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)Австр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)Герман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Франц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)Великобритания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)Укра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1920" y="325800"/>
            <a:ext cx="881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изведение В. Маяковского, которое направлено против бюрократизма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Прозаседавшиеся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Клоп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Маруся отрави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491280"/>
            <a:ext cx="743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2.Кто автора первой поэмы об Октябрьской революции?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В.В Маяковский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)А.А Блок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)С.А Есенин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)Демьян Бе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0360" y="333360"/>
          <a:ext cx="8369280" cy="6181920"/>
        </p:xfrm>
        <a:graphic>
          <a:graphicData uri="http://schemas.openxmlformats.org/drawingml/2006/table">
            <a:tbl>
              <a:tblPr/>
              <a:tblGrid>
                <a:gridCol w="594000"/>
                <a:gridCol w="7775280"/>
              </a:tblGrid>
              <a:tr h="31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сле 1917 года футуристы называли себ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Эгофутурис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убофутурис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омфут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рвая поэма Маяковског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«Облако в штанах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«Люблю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«Флейта-позвоночник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-604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Стихотворением, громко заявившим о рождении поэзии революции, явилось стихотворение Маяковског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 «Левый мар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 «Юбилейно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 «Прозаседавшиес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19:04:05Z</dcterms:created>
  <dc:creator>Natali</dc:creator>
  <dc:description/>
  <dc:language>en-US</dc:language>
  <cp:lastModifiedBy>Ольга</cp:lastModifiedBy>
  <dcterms:modified xsi:type="dcterms:W3CDTF">2020-04-06T12:07:16Z</dcterms:modified>
  <cp:revision>5</cp:revision>
  <dc:subject/>
  <dc:title>Контрольная работа</dc:title>
</cp:coreProperties>
</file>