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F04-BE65-4925-B9F4-71B38EC9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B4E-AE2F-4BFC-8D9B-F00EDA6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E9B-7E8B-4055-9152-2DF8E6B6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D81-7FCD-49D9-8E97-DD72019A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AA8-62ED-480F-ADC1-3C18C893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840-CFE5-44B6-88FA-F7AC889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BCF-A0B7-4192-B4FE-31A2E2A0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140-3324-4C53-95AA-30FE54B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8CE-38C3-4982-93FC-65B62CA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860-3726-4774-A5D8-06D7A57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914-488B-4494-8FF8-0D3937C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98A-69D3-4666-B47B-2286ECA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60E6-AE8D-4BE7-844B-A0F3B44BD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отоотчет по выставк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 мире сказ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3284280"/>
            <a:ext cx="3527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2T06:27:09Z</dcterms:created>
  <dc:creator>1</dc:creator>
  <dc:description/>
  <dc:language>en-US</dc:language>
  <cp:lastModifiedBy>1</cp:lastModifiedBy>
  <dcterms:modified xsi:type="dcterms:W3CDTF">2020-04-06T04:58:45Z</dcterms:modified>
  <cp:revision>3</cp:revision>
  <dc:subject/>
  <dc:title>Фотоотчет по выставке  «В мире сказок»</dc:title>
</cp:coreProperties>
</file>