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53A2-A1F0-43D9-8ED8-A75BC702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B664-CF39-4B9E-B23B-00E45618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6D6A-F3DD-44E2-B6A0-60EB5CB7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47BF-977F-4374-88BF-E9F8F323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7DDD-7756-4EC8-98F4-C46F0721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0508-3D5C-4649-9254-798C0C51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F63E-0206-47B6-99FF-F2F80D44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E6EB-A00F-4B98-9D06-869D537C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3ACC-DFF0-4BAA-8958-C58AF3A9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6A57-630C-4A6B-9B8D-DFA43EB4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509C-AAFE-4817-B968-B010BC3A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C932-1952-47A5-803B-B06BAA1F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B55E-9F88-4542-A29A-E01152799A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603360"/>
            <a:ext cx="8229600" cy="20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ГБОУ Школа № 21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9280" y="1052280"/>
            <a:ext cx="43164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alibri"/>
              </a:rPr>
              <a:t>Подвижная  игра «Времена года» по сказке С. Я. Маршака «Двенадцать месяцев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560" y="5013360"/>
            <a:ext cx="8785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дготовили воспитател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Ариткулова Д.В., Петросян Н.Э.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Самарина Е.В., Соколова Ю.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5003640" y="836640"/>
            <a:ext cx="3538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4400" y="0"/>
            <a:ext cx="91296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Заголовок 1" descr=""/>
          <p:cNvPicPr/>
          <p:nvPr/>
        </p:nvPicPr>
        <p:blipFill>
          <a:blip r:embed="rId2"/>
          <a:stretch/>
        </p:blipFill>
        <p:spPr>
          <a:xfrm>
            <a:off x="457200" y="-603360"/>
            <a:ext cx="8229600" cy="2303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4400" y="1916280"/>
            <a:ext cx="8805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знакомить детей с цикличностью наступления времен года, учить  различать и называть их, называть основные признаки каждого времени года, развивать речь, память, мышление, двигательную активность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-360" y="1196640"/>
            <a:ext cx="3492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33"/>
                </a:solidFill>
                <a:latin typeface="Times New Roman"/>
                <a:ea typeface="Times New Roman"/>
              </a:rPr>
              <a:t>Круг, разделенный на 4 цвета со стрелкой, и карточки 4 цветов по количеству детей (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ый</a:t>
            </a:r>
            <a:r>
              <a:rPr b="1" lang="ru-RU" sz="3200" spc="-1" strike="noStrike">
                <a:solidFill>
                  <a:srgbClr val="007033"/>
                </a:solidFill>
                <a:latin typeface="Times New Roman"/>
                <a:ea typeface="Times New Roman"/>
              </a:rPr>
              <a:t>, зеленый,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елтый</a:t>
            </a:r>
            <a:r>
              <a:rPr b="1" lang="ru-RU" sz="3200" spc="-1" strike="noStrike">
                <a:solidFill>
                  <a:srgbClr val="007033"/>
                </a:solidFill>
                <a:latin typeface="Times New Roman"/>
                <a:ea typeface="Times New Roman"/>
              </a:rPr>
              <a:t>,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ний</a:t>
            </a:r>
            <a:r>
              <a:rPr b="1" lang="ru-RU" sz="3200" spc="-1" strike="noStrike">
                <a:solidFill>
                  <a:srgbClr val="007033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1" descr=""/>
          <p:cNvPicPr/>
          <p:nvPr/>
        </p:nvPicPr>
        <p:blipFill>
          <a:blip r:embed="rId2"/>
          <a:stretch/>
        </p:blipFill>
        <p:spPr>
          <a:xfrm>
            <a:off x="3851280" y="1052640"/>
            <a:ext cx="4897440" cy="507348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4" descr=""/>
          <p:cNvPicPr/>
          <p:nvPr/>
        </p:nvPicPr>
        <p:blipFill>
          <a:blip r:embed="rId3"/>
          <a:stretch/>
        </p:blipFill>
        <p:spPr>
          <a:xfrm>
            <a:off x="23760" y="12600"/>
            <a:ext cx="51451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Заголовок 1" descr=""/>
          <p:cNvPicPr/>
          <p:nvPr/>
        </p:nvPicPr>
        <p:blipFill>
          <a:blip r:embed="rId2"/>
          <a:stretch/>
        </p:blipFill>
        <p:spPr>
          <a:xfrm>
            <a:off x="457200" y="249120"/>
            <a:ext cx="8229600" cy="1171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6840" y="1197000"/>
            <a:ext cx="77151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Детям раздаются карточки разных цветов (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ний-</a:t>
            </a:r>
            <a:r>
              <a:rPr b="1" lang="ru-RU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зима,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еленый-</a:t>
            </a:r>
            <a:r>
              <a:rPr b="1" lang="ru-RU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весна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ый-</a:t>
            </a:r>
            <a:r>
              <a:rPr b="1" lang="ru-RU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лето,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елтый-</a:t>
            </a:r>
            <a:r>
              <a:rPr b="1" lang="ru-RU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осень). Дети стоят врассыпную. Воспитатель крутит стрелку на круге и произносит загадки, описательное предложение, рассказ или признаки любого времени года. Те дети, у которых оказалась карточка,  цвет которой подходит под описание времени года, бегут к воспитателю и строят круг. Остальные дети садятся. Можно предложить детям вспомнить месяцы, отличительные признаки этого времени года, что делают животные, птицы, насекомые, растения. Затем игра начинается заново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7920"/>
            <a:ext cx="9199440" cy="7077240"/>
          </a:xfrm>
          <a:prstGeom prst="rect">
            <a:avLst/>
          </a:prstGeom>
          <a:ln w="0">
            <a:noFill/>
          </a:ln>
        </p:spPr>
      </p:pic>
      <p:pic>
        <p:nvPicPr>
          <p:cNvPr id="57" name="Объект 5" descr=""/>
          <p:cNvPicPr/>
          <p:nvPr/>
        </p:nvPicPr>
        <p:blipFill>
          <a:blip r:embed="rId2"/>
          <a:stretch/>
        </p:blipFill>
        <p:spPr>
          <a:xfrm>
            <a:off x="0" y="7920"/>
            <a:ext cx="4869000" cy="4227480"/>
          </a:xfrm>
          <a:prstGeom prst="rect">
            <a:avLst/>
          </a:prstGeom>
          <a:ln w="0">
            <a:noFill/>
          </a:ln>
        </p:spPr>
      </p:pic>
      <p:pic>
        <p:nvPicPr>
          <p:cNvPr id="58" name="Объект 4" descr=""/>
          <p:cNvPicPr/>
          <p:nvPr/>
        </p:nvPicPr>
        <p:blipFill>
          <a:blip r:embed="rId3"/>
          <a:stretch/>
        </p:blipFill>
        <p:spPr>
          <a:xfrm>
            <a:off x="4859280" y="7920"/>
            <a:ext cx="4310280" cy="39258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"/>
          <p:cNvPicPr/>
          <p:nvPr/>
        </p:nvPicPr>
        <p:blipFill>
          <a:blip r:embed="rId4"/>
          <a:stretch/>
        </p:blipFill>
        <p:spPr>
          <a:xfrm>
            <a:off x="2050920" y="3933720"/>
            <a:ext cx="554544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8T17:29:10Z</dcterms:created>
  <dc:creator>Кудряшка</dc:creator>
  <dc:description/>
  <dc:language>en-US</dc:language>
  <cp:lastModifiedBy>Abyssal Devil</cp:lastModifiedBy>
  <dcterms:modified xsi:type="dcterms:W3CDTF">2020-04-06T13:16:07Z</dcterms:modified>
  <cp:revision>1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160000000000010290110207f7000400038000</vt:lpwstr>
  </property>
</Properties>
</file>