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AAF-F341-4AC2-9C74-0F8F9F43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631-866C-4430-9218-68692C08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F3A-FBB8-4492-9C96-F26EAB8C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013-029E-4DDC-B10C-AD8C6D63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610-95C0-43B5-9D98-71D80276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BF2-D80A-45CD-A057-BC497B9D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45F-B26E-44E9-9C1C-D9732A7D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61C-C622-49B5-AE24-BD374CCC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662D-1690-4768-9D7D-659A9C7E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094-5725-4723-AC81-E57294DF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361-7B93-4CF9-A291-D2961CC3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2B7A-8A60-46DB-9FF1-8EBED67F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1BDA-EFEC-461B-A2D3-55A722DEA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900000" y="765000"/>
            <a:ext cx="7488360" cy="3311640"/>
          </a:xfrm>
          <a:prstGeom prst="rect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гра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Фигуры и углы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дравствуй, мой друг!</a:t>
            </a:r>
            <a:br>
              <a:rPr sz="4400"/>
            </a:br>
            <a:r>
              <a:rPr b="0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Хочу предложить тебе проверить свои знания с помощью данной игры. Выбери только те фигуры, у которых есть углы. При правильном ответе будет появляться смайли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262080" y="949320"/>
            <a:ext cx="2808000" cy="13683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Равнобедренный треугольник 4"/>
          <p:cNvSpPr/>
          <p:nvPr/>
        </p:nvSpPr>
        <p:spPr>
          <a:xfrm>
            <a:off x="5365800" y="981000"/>
            <a:ext cx="1512720" cy="1384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Блок-схема: процесс 5"/>
          <p:cNvSpPr/>
          <p:nvPr/>
        </p:nvSpPr>
        <p:spPr>
          <a:xfrm>
            <a:off x="7451640" y="1114560"/>
            <a:ext cx="1266840" cy="1295280"/>
          </a:xfrm>
          <a:prstGeom prst="flowChartProcess">
            <a:avLst/>
          </a:prstGeom>
          <a:solidFill>
            <a:srgbClr val="da14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Улыбающееся лицо 6"/>
          <p:cNvSpPr/>
          <p:nvPr/>
        </p:nvSpPr>
        <p:spPr>
          <a:xfrm>
            <a:off x="863640" y="3422520"/>
            <a:ext cx="1584360" cy="14400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Улыбающееся лицо 7"/>
          <p:cNvSpPr/>
          <p:nvPr/>
        </p:nvSpPr>
        <p:spPr>
          <a:xfrm>
            <a:off x="5365800" y="3444840"/>
            <a:ext cx="1584360" cy="14400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Улыбающееся лицо 8"/>
          <p:cNvSpPr/>
          <p:nvPr/>
        </p:nvSpPr>
        <p:spPr>
          <a:xfrm>
            <a:off x="7292880" y="3438360"/>
            <a:ext cx="1584360" cy="14400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10"/>
          <p:cNvSpPr/>
          <p:nvPr/>
        </p:nvSpPr>
        <p:spPr>
          <a:xfrm>
            <a:off x="3492360" y="981000"/>
            <a:ext cx="1511280" cy="14288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нак запрета 11"/>
          <p:cNvSpPr/>
          <p:nvPr/>
        </p:nvSpPr>
        <p:spPr>
          <a:xfrm>
            <a:off x="3492360" y="3457440"/>
            <a:ext cx="1511280" cy="1440000"/>
          </a:xfrm>
          <a:custGeom>
            <a:avLst/>
            <a:gdLst>
              <a:gd name="textAreaLeft" fmla="*/ 221040 w 1511280"/>
              <a:gd name="textAreaRight" fmla="*/ 1290240 w 1511280"/>
              <a:gd name="textAreaTop" fmla="*/ 210600 h 1440000"/>
              <a:gd name="textAreaBottom" fmla="*/ 1229400 h 1440000"/>
            </a:gdLst>
            <a:ahLst/>
            <a:rect l="textAreaLeft" t="textAreaTop" r="textAreaRight" b="textAreaBottom"/>
            <a:pathLst>
              <a:path w="1512168" h="1440160">
                <a:moveTo>
                  <a:pt x="0" y="720080"/>
                </a:moveTo>
                <a:lnTo>
                  <a:pt x="0" y="720080"/>
                </a:lnTo>
                <a:arcTo wR="756084" hR="720080" stAng="-10799995" swAng="5400000"/>
                <a:lnTo>
                  <a:pt x="756085" y="1"/>
                </a:lnTo>
                <a:arcTo wR="756084" hR="720080" stAng="-5399995" swAng="5400000"/>
                <a:lnTo>
                  <a:pt x="1512168" y="720082"/>
                </a:lnTo>
                <a:arcTo wR="756084" hR="720080" stAng="0" swAng="5400000"/>
                <a:lnTo>
                  <a:pt x="756084" y="1440162"/>
                </a:lnTo>
                <a:arcTo wR="756084" hR="720080" stAng="5400000" swAng="5400005"/>
                <a:close/>
                <a:moveTo>
                  <a:pt x="1179740" y="940685"/>
                </a:moveTo>
                <a:lnTo>
                  <a:pt x="1179739" y="940685"/>
                </a:lnTo>
                <a:arcTo wR="486054" hR="450050" stAng="1650406" swAng="-8868474"/>
                <a:close/>
                <a:moveTo>
                  <a:pt x="332428" y="499475"/>
                </a:moveTo>
                <a:lnTo>
                  <a:pt x="332428" y="499475"/>
                </a:lnTo>
                <a:arcTo wR="486054" hR="450050" stAng="-9149600" swAng="-8868474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лично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 тебя всё получилось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0T15:36:55Z</dcterms:created>
  <dc:creator>вася</dc:creator>
  <dc:description/>
  <dc:language>en-US</dc:language>
  <cp:lastModifiedBy>Василий Павличенко</cp:lastModifiedBy>
  <dcterms:modified xsi:type="dcterms:W3CDTF">2020-03-23T15:02:56Z</dcterms:modified>
  <cp:revision>14</cp:revision>
  <dc:subject/>
  <dc:title>Презентация PowerPoint</dc:title>
</cp:coreProperties>
</file>