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8D7-1852-4081-A07A-3E1C1B3A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783-0336-4F59-80E7-43567BE0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32D-1676-4837-A610-5682708B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C35-5923-46E7-A754-A15E22CB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5FBD-F463-442A-981C-B3BDC3CE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FDC-29D5-4E8D-A5E0-FE907B99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EEB6-A46C-467F-AEDF-A04F90AB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25E-4F34-43C3-9A7F-883F0848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FC1-70FB-4042-80B2-0ED7DCE6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0191-2B74-4D9B-AD11-F117D09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D51-222A-49AE-84D7-1F5BD22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67D-BB06-4790-B860-4336D1F7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612B-9F35-40DA-A8EC-541091F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10D-430C-4998-9E4A-9F984C04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3741-9F65-482C-BDAA-C480026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6238-303B-4C3E-944C-5B3EDD90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E3DC-B538-43BA-812C-C6BFB823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D89-0584-4890-B566-AD76D567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10C-19E2-4CEC-A6AE-7D3250E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8BD-2EC1-4A00-86FA-357B7E30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1F2-FB8E-4AD3-A229-AC649AC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789-D174-4FA7-9FA0-AF7B5B2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880-C93B-46FC-992C-FAAE6EA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329-6848-47D9-8F88-1B72DE5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15BD-74A0-479B-A422-0A5C6F9D37C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E8ED-8A87-4924-B6BB-23616D14ACB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1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13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19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4.xml"/><Relationship Id="rId3" Type="http://schemas.openxmlformats.org/officeDocument/2006/relationships/slide" Target="slide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5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4.xml"/><Relationship Id="rId3" Type="http://schemas.openxmlformats.org/officeDocument/2006/relationships/slide" Target="slide27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9.xml"/><Relationship Id="rId3" Type="http://schemas.openxmlformats.org/officeDocument/2006/relationships/slide" Target="slide4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800" y="4359240"/>
            <a:ext cx="37576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ДД для старших дошк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ш см"/>
          <p:cNvPicPr/>
          <p:nvPr/>
        </p:nvPicPr>
        <p:blipFill>
          <a:blip r:embed="rId1"/>
          <a:stretch/>
        </p:blipFill>
        <p:spPr>
          <a:xfrm>
            <a:off x="4822920" y="0"/>
            <a:ext cx="4321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 Для чего пешеходам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ужны обочины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Чтобы сажать на них цветы, играть, загорать и валятьс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Чтобы по ним ездили машины и не мешали пешехода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Чтобы пешеходы могли идти, не мешая машин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4" descr="ежик"/>
          <p:cNvPicPr/>
          <p:nvPr/>
        </p:nvPicPr>
        <p:blipFill>
          <a:blip r:embed="rId4"/>
          <a:stretch/>
        </p:blipFill>
        <p:spPr>
          <a:xfrm>
            <a:off x="7242120" y="0"/>
            <a:ext cx="19018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ежик"/>
          <p:cNvPicPr/>
          <p:nvPr/>
        </p:nvPicPr>
        <p:blipFill>
          <a:blip r:embed="rId1"/>
          <a:stretch/>
        </p:blipFill>
        <p:spPr>
          <a:xfrm>
            <a:off x="7242120" y="0"/>
            <a:ext cx="190188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 Для чего пешеходам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ужны обочины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Чтобы пешеходы могли идти, не мешая машина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Как иначе называется пешеходный переход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Леопард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Зебр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Полосатик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4" descr="сова"/>
          <p:cNvPicPr/>
          <p:nvPr/>
        </p:nvPicPr>
        <p:blipFill>
          <a:blip r:embed="rId5"/>
          <a:srcRect l="0" t="4257" r="0" b="0"/>
          <a:stretch/>
        </p:blipFill>
        <p:spPr>
          <a:xfrm>
            <a:off x="7378560" y="0"/>
            <a:ext cx="1765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Как иначе называется пешеходный переход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Зебр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6" descr="сова"/>
          <p:cNvPicPr/>
          <p:nvPr/>
        </p:nvPicPr>
        <p:blipFill>
          <a:blip r:embed="rId1"/>
          <a:srcRect l="0" t="4257" r="0" b="0"/>
          <a:stretch/>
        </p:blipFill>
        <p:spPr>
          <a:xfrm>
            <a:off x="7378560" y="0"/>
            <a:ext cx="1765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90720" y="711360"/>
            <a:ext cx="806256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7. Как нужно смотреть по сторонам,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огда переходишь дорогу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Вообще не надо никуда смотреть, зажмуриться и бежать быстро-быстро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Сначала направо, потом нале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Сначала налево, потом направо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4" descr="карыч"/>
          <p:cNvPicPr/>
          <p:nvPr/>
        </p:nvPicPr>
        <p:blipFill>
          <a:blip r:embed="rId5"/>
          <a:stretch/>
        </p:blipFill>
        <p:spPr>
          <a:xfrm>
            <a:off x="7746840" y="0"/>
            <a:ext cx="13971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7. Как нужно смотреть по сторонам,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огда переходишь улицу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начала налево, потом напра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6" descr="карыч"/>
          <p:cNvPicPr/>
          <p:nvPr/>
        </p:nvPicPr>
        <p:blipFill>
          <a:blip r:embed="rId1"/>
          <a:stretch/>
        </p:blipFill>
        <p:spPr>
          <a:xfrm>
            <a:off x="7746840" y="0"/>
            <a:ext cx="13971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. Как называется прибор, регулирующий движени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Инспектор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Светоша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Светоф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. Как называется прибор, регулирующий движени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8028000" y="260280"/>
            <a:ext cx="720720" cy="1944720"/>
            <a:chOff x="8028000" y="260280"/>
            <a:chExt cx="720720" cy="1944720"/>
          </a:xfrm>
        </p:grpSpPr>
        <p:sp>
          <p:nvSpPr>
            <p:cNvPr id="161" name="Rectangle 6"/>
            <p:cNvSpPr/>
            <p:nvPr/>
          </p:nvSpPr>
          <p:spPr>
            <a:xfrm>
              <a:off x="8028000" y="260280"/>
              <a:ext cx="720720" cy="19447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8172360" y="404640"/>
              <a:ext cx="432000" cy="432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8172360" y="981000"/>
              <a:ext cx="43200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8172360" y="1557360"/>
              <a:ext cx="432000" cy="431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74800" y="56664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9. Какой цвет светофора означает, что движение запрещено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Жёлтый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расн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Зелё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6516720" y="2565360"/>
            <a:ext cx="1080720" cy="2950920"/>
            <a:chOff x="6516720" y="2565360"/>
            <a:chExt cx="1080720" cy="2950920"/>
          </a:xfrm>
        </p:grpSpPr>
        <p:sp>
          <p:nvSpPr>
            <p:cNvPr id="168" name="Rectangle 5"/>
            <p:cNvSpPr/>
            <p:nvPr/>
          </p:nvSpPr>
          <p:spPr>
            <a:xfrm>
              <a:off x="6516720" y="2565360"/>
              <a:ext cx="1080720" cy="2950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6733080" y="2784240"/>
              <a:ext cx="647640" cy="6552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6733080" y="3659040"/>
              <a:ext cx="647640" cy="655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6733080" y="4533480"/>
              <a:ext cx="647640" cy="6548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9. Какой цвет светофора означает, что движение запрещено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Красны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6" name="Group 11"/>
          <p:cNvGrpSpPr/>
          <p:nvPr/>
        </p:nvGrpSpPr>
        <p:grpSpPr>
          <a:xfrm>
            <a:off x="6156360" y="2997360"/>
            <a:ext cx="1081080" cy="2950920"/>
            <a:chOff x="6156360" y="2997360"/>
            <a:chExt cx="1081080" cy="2950920"/>
          </a:xfrm>
        </p:grpSpPr>
        <p:sp>
          <p:nvSpPr>
            <p:cNvPr id="177" name="Rectangle 7"/>
            <p:cNvSpPr/>
            <p:nvPr/>
          </p:nvSpPr>
          <p:spPr>
            <a:xfrm>
              <a:off x="6156360" y="2997360"/>
              <a:ext cx="1081080" cy="2950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6373800" y="3216240"/>
              <a:ext cx="647640" cy="655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6373800" y="4091040"/>
              <a:ext cx="647640" cy="65556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6373800" y="4965840"/>
              <a:ext cx="647640" cy="65556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сова"/>
          <p:cNvPicPr/>
          <p:nvPr/>
        </p:nvPicPr>
        <p:blipFill>
          <a:blip r:embed="rId1"/>
          <a:srcRect l="0" t="3083" r="0" b="0"/>
          <a:stretch/>
        </p:blipFill>
        <p:spPr>
          <a:xfrm>
            <a:off x="7715160" y="0"/>
            <a:ext cx="1428840" cy="1512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74800" y="351000"/>
            <a:ext cx="81784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 Как расшифровывается ПДД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Пешеходное ДорогоДвижени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Правила Дорожного Движени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Песня Дикого Динозавра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0. Что означает, если зелёный свет на светофоре начал мигать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Начинается дискотека!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Светофор сломалс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Скоро загорится другой цве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7164360" y="2565360"/>
            <a:ext cx="1081080" cy="2951280"/>
            <a:chOff x="7164360" y="2565360"/>
            <a:chExt cx="1081080" cy="2951280"/>
          </a:xfrm>
        </p:grpSpPr>
        <p:sp>
          <p:nvSpPr>
            <p:cNvPr id="184" name="Rectangle 5"/>
            <p:cNvSpPr/>
            <p:nvPr/>
          </p:nvSpPr>
          <p:spPr>
            <a:xfrm>
              <a:off x="7164360" y="2565360"/>
              <a:ext cx="1081080" cy="2951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7381800" y="2784600"/>
              <a:ext cx="647640" cy="65556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Oval 7"/>
            <p:cNvSpPr/>
            <p:nvPr/>
          </p:nvSpPr>
          <p:spPr>
            <a:xfrm>
              <a:off x="7381800" y="3659040"/>
              <a:ext cx="647640" cy="655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7" name="Oval 8"/>
          <p:cNvSpPr/>
          <p:nvPr/>
        </p:nvSpPr>
        <p:spPr>
          <a:xfrm>
            <a:off x="7381800" y="4533840"/>
            <a:ext cx="647640" cy="6555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0. Что означает, если зелёный свет на светофоре начал мигать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Скоро загорится другой цве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7380360" y="2998800"/>
            <a:ext cx="1081080" cy="2951280"/>
            <a:chOff x="7380360" y="2998800"/>
            <a:chExt cx="1081080" cy="2951280"/>
          </a:xfrm>
        </p:grpSpPr>
        <p:sp>
          <p:nvSpPr>
            <p:cNvPr id="193" name="Rectangle 7"/>
            <p:cNvSpPr/>
            <p:nvPr/>
          </p:nvSpPr>
          <p:spPr>
            <a:xfrm>
              <a:off x="7380360" y="2998800"/>
              <a:ext cx="1081080" cy="2951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Oval 8"/>
            <p:cNvSpPr/>
            <p:nvPr/>
          </p:nvSpPr>
          <p:spPr>
            <a:xfrm>
              <a:off x="7597800" y="3218040"/>
              <a:ext cx="647640" cy="65556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7597800" y="4092480"/>
              <a:ext cx="647640" cy="655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6" name="Oval 10"/>
          <p:cNvSpPr/>
          <p:nvPr/>
        </p:nvSpPr>
        <p:spPr>
          <a:xfrm>
            <a:off x="7597800" y="4967280"/>
            <a:ext cx="647640" cy="6555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1. Какие машины ездят по дорогам с сиренами и мигалками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«Скорая помощь» и пожарные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Весёлые бетономешал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Рейсовые автобусы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74800" y="56664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11. Какие машины ездят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о дорогам с сиренами и мигалками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«Скорая помощь» и пожарны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6" descr="пож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12. Что пассажиру нельзя делать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транспорте во время движения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мотреть в окно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Бегать по салон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Звонить по телефону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Picture 4" descr="кр"/>
          <p:cNvPicPr/>
          <p:nvPr/>
        </p:nvPicPr>
        <p:blipFill>
          <a:blip r:embed="rId5"/>
          <a:stretch/>
        </p:blipFill>
        <p:spPr>
          <a:xfrm>
            <a:off x="7145280" y="0"/>
            <a:ext cx="19987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12. Что пассажиру нельзя делать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транспорте во время движения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Бегать по салону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Picture 6" descr="кр"/>
          <p:cNvPicPr/>
          <p:nvPr/>
        </p:nvPicPr>
        <p:blipFill>
          <a:blip r:embed="rId1"/>
          <a:stretch/>
        </p:blipFill>
        <p:spPr>
          <a:xfrm>
            <a:off x="7145280" y="0"/>
            <a:ext cx="19987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ежик"/>
          <p:cNvPicPr/>
          <p:nvPr/>
        </p:nvPicPr>
        <p:blipFill>
          <a:blip r:embed="rId1"/>
          <a:srcRect l="0" t="4104" r="0" b="0"/>
          <a:stretch/>
        </p:blipFill>
        <p:spPr>
          <a:xfrm>
            <a:off x="7604280" y="0"/>
            <a:ext cx="1539720" cy="1487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13. Что делать, если ты вышел из транспорта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 тебе нужно перейти дорогу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Обойти транспорт спереди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Найти ближайший пешеходный переход и по нему перейти улиц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Как следует разбежаться и перепрыгнуть транспорт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ежик"/>
          <p:cNvPicPr/>
          <p:nvPr/>
        </p:nvPicPr>
        <p:blipFill>
          <a:blip r:embed="rId1"/>
          <a:srcRect l="0" t="4104" r="0" b="0"/>
          <a:stretch/>
        </p:blipFill>
        <p:spPr>
          <a:xfrm>
            <a:off x="7604280" y="0"/>
            <a:ext cx="1539720" cy="1487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13. Что делать, если ты вышел из транспорта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и тебе нужно перейти дорогу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Найти ближайший пешеходный переход и по нему перейти улиц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4. Со скольки лет можно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ездить на велосипеде по шосс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 четырёх лет (4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С сорока четырёх лет (44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С четырнадцати лет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 (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4" descr="ню"/>
          <p:cNvPicPr/>
          <p:nvPr/>
        </p:nvPicPr>
        <p:blipFill>
          <a:blip r:embed="rId5"/>
          <a:stretch/>
        </p:blipFill>
        <p:spPr>
          <a:xfrm>
            <a:off x="8010360" y="0"/>
            <a:ext cx="1133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4. Со скольки лет можно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ездить на велосипеде по шосс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С четырнадцати лет (14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6" descr="ню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сова"/>
          <p:cNvPicPr/>
          <p:nvPr/>
        </p:nvPicPr>
        <p:blipFill>
          <a:blip r:embed="rId1"/>
          <a:srcRect l="0" t="3083" r="0" b="0"/>
          <a:stretch/>
        </p:blipFill>
        <p:spPr>
          <a:xfrm>
            <a:off x="7715160" y="0"/>
            <a:ext cx="1428840" cy="151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74800" y="351000"/>
            <a:ext cx="81784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 Как расшифровывается ПДД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Правила Дорожного Движения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5. Зачем велосипедисту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нужен шлем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Чтобы друзей удивить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Чтобы уши не мёрз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защитить голову при паден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Picture 4" descr="бараш"/>
          <p:cNvPicPr/>
          <p:nvPr/>
        </p:nvPicPr>
        <p:blipFill>
          <a:blip r:embed="rId2"/>
          <a:stretch/>
        </p:blipFill>
        <p:spPr>
          <a:xfrm>
            <a:off x="7564320" y="0"/>
            <a:ext cx="15796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74800" y="711360"/>
            <a:ext cx="81784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5. Зачем велосипедисту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ужен шлем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66cc"/>
                </a:solidFill>
                <a:latin typeface="Arial"/>
              </a:rPr>
              <a:t>Чтобы защитить голову при па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6" descr="бараш"/>
          <p:cNvPicPr/>
          <p:nvPr/>
        </p:nvPicPr>
        <p:blipFill>
          <a:blip r:embed="rId1"/>
          <a:stretch/>
        </p:blipFill>
        <p:spPr>
          <a:xfrm>
            <a:off x="7564320" y="0"/>
            <a:ext cx="15796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крош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1773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6. Какой вид транспорта обозначается буквой «М»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отоцикл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ашин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ро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74720" y="639720"/>
            <a:ext cx="817812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6. Какой вид транспорта обозначается буквой «М»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Метр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6" descr="крош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7. Как нужно вести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бя на эскалатор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ыстро бежать по ступенькам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тоять спокойно и держаться за поручн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троиться поудобнее и засну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эскал"/>
          <p:cNvPicPr/>
          <p:nvPr/>
        </p:nvPicPr>
        <p:blipFill>
          <a:blip r:embed="rId1"/>
          <a:stretch/>
        </p:blipFill>
        <p:spPr>
          <a:xfrm>
            <a:off x="7122960" y="0"/>
            <a:ext cx="20210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7. Как нужно вести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бя на эскалатор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оять спокойно и держаться за поручни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Picture 6" descr="эскал"/>
          <p:cNvPicPr/>
          <p:nvPr/>
        </p:nvPicPr>
        <p:blipFill>
          <a:blip r:embed="rId1"/>
          <a:stretch/>
        </p:blipFill>
        <p:spPr>
          <a:xfrm>
            <a:off x="7122960" y="0"/>
            <a:ext cx="20210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ежик"/>
          <p:cNvPicPr/>
          <p:nvPr/>
        </p:nvPicPr>
        <p:blipFill>
          <a:blip r:embed="rId1"/>
          <a:stretch/>
        </p:blipFill>
        <p:spPr>
          <a:xfrm>
            <a:off x="7819920" y="0"/>
            <a:ext cx="1324080" cy="1333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8. Как выглядят дорожные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наки, запрещающие движение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ольшие цветные картинки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вадратные голубы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углые с красной полос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8. Как выглядят дорожные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наки, запрещающие движение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Круглые с красной полосо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Picture 6" descr="ежик"/>
          <p:cNvPicPr/>
          <p:nvPr/>
        </p:nvPicPr>
        <p:blipFill>
          <a:blip r:embed="rId1"/>
          <a:stretch/>
        </p:blipFill>
        <p:spPr>
          <a:xfrm>
            <a:off x="7819920" y="0"/>
            <a:ext cx="1324080" cy="1333440"/>
          </a:xfrm>
          <a:prstGeom prst="rect">
            <a:avLst/>
          </a:prstGeom>
          <a:ln w="0">
            <a:noFill/>
          </a:ln>
        </p:spPr>
      </p:pic>
      <p:sp>
        <p:nvSpPr>
          <p:cNvPr id="260" name="Oval 7"/>
          <p:cNvSpPr/>
          <p:nvPr/>
        </p:nvSpPr>
        <p:spPr>
          <a:xfrm>
            <a:off x="6516720" y="3573360"/>
            <a:ext cx="1441440" cy="1441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6659640" y="3718080"/>
            <a:ext cx="1152360" cy="1152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74800" y="56664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9. Что нарисовано на знаке пешеходного перехода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икая зебр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еречёркнутая маши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ловечек на пешеходной «зебре»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740720" y="260280"/>
            <a:ext cx="1224000" cy="1152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9. Что нарисовано на знаке пешеходного перехода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Человечек на пешеходной «зебре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6" descr="челов"/>
          <p:cNvPicPr/>
          <p:nvPr/>
        </p:nvPicPr>
        <p:blipFill>
          <a:blip r:embed="rId1"/>
          <a:stretch/>
        </p:blipFill>
        <p:spPr>
          <a:xfrm>
            <a:off x="7596360" y="26028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ежик"/>
          <p:cNvPicPr/>
          <p:nvPr/>
        </p:nvPicPr>
        <p:blipFill>
          <a:blip r:embed="rId1"/>
          <a:stretch/>
        </p:blipFill>
        <p:spPr>
          <a:xfrm>
            <a:off x="7597800" y="0"/>
            <a:ext cx="1546200" cy="155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Зачем нужны Правила Дорожного Движения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Чтобы не скучать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Чтобы их нарушать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Чтобы на дорогах был порядок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74720" y="639720"/>
            <a:ext cx="817812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0. Для чего нужен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рожный инспектор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егулировать движение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еселить пешеход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трафовать водителе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Picture 4" descr="регул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01640" y="639720"/>
            <a:ext cx="817812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0. Для чего нужен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рожный инспектор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Регулировать движение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6" descr="регул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крош"/>
          <p:cNvPicPr/>
          <p:nvPr/>
        </p:nvPicPr>
        <p:blipFill>
          <a:blip r:embed="rId1"/>
          <a:stretch/>
        </p:blipFill>
        <p:spPr>
          <a:xfrm>
            <a:off x="7597800" y="0"/>
            <a:ext cx="1546200" cy="1844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874800" y="711360"/>
            <a:ext cx="81784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1. Кто обязательно должен знать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авила Дорожного Движения?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ешеходы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одит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крош"/>
          <p:cNvPicPr/>
          <p:nvPr/>
        </p:nvPicPr>
        <p:blipFill>
          <a:blip r:embed="rId1"/>
          <a:stretch/>
        </p:blipFill>
        <p:spPr>
          <a:xfrm>
            <a:off x="7597800" y="0"/>
            <a:ext cx="1546200" cy="1844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874800" y="63972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1. Кто обязательно должен знать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авила Дорожного Движения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Вс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las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ыч"/>
          <p:cNvPicPr/>
          <p:nvPr/>
        </p:nvPicPr>
        <p:blipFill>
          <a:blip r:embed="rId1"/>
          <a:stretch/>
        </p:blipFill>
        <p:spPr>
          <a:xfrm>
            <a:off x="6932520" y="0"/>
            <a:ext cx="2211480" cy="2808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834120" y="834120"/>
            <a:ext cx="5609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правильный ответ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834920" y="3573360"/>
            <a:ext cx="5654520" cy="124632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Подумай хорошеньк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AutoShape 4">
            <a:hlinkClick r:id="" action="ppaction://hlinkshowjump?jump=previousslide"/>
          </p:cNvPr>
          <p:cNvSpPr/>
          <p:nvPr/>
        </p:nvSpPr>
        <p:spPr>
          <a:xfrm>
            <a:off x="766764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7493"/>
                </a:moveTo>
                <a:lnTo>
                  <a:pt x="12119" y="7493"/>
                </a:lnTo>
                <a:lnTo>
                  <a:pt x="12119" y="12828"/>
                </a:lnTo>
                <a:cubicBezTo>
                  <a:pt x="12119" y="13751"/>
                  <a:pt x="12920" y="14482"/>
                  <a:pt x="13956" y="14482"/>
                </a:cubicBezTo>
                <a:lnTo>
                  <a:pt x="15618" y="14482"/>
                </a:lnTo>
                <a:cubicBezTo>
                  <a:pt x="16654" y="14482"/>
                  <a:pt x="17454" y="13751"/>
                  <a:pt x="17454" y="12828"/>
                </a:cubicBezTo>
                <a:lnTo>
                  <a:pt x="17454" y="7493"/>
                </a:lnTo>
                <a:lnTo>
                  <a:pt x="15618" y="7493"/>
                </a:lnTo>
                <a:lnTo>
                  <a:pt x="19126" y="3985"/>
                </a:lnTo>
                <a:lnTo>
                  <a:pt x="22799" y="7493"/>
                </a:lnTo>
                <a:lnTo>
                  <a:pt x="20962" y="7493"/>
                </a:lnTo>
                <a:lnTo>
                  <a:pt x="20962" y="12828"/>
                </a:lnTo>
                <a:cubicBezTo>
                  <a:pt x="20962" y="15596"/>
                  <a:pt x="18386" y="18155"/>
                  <a:pt x="15618" y="18155"/>
                </a:cubicBezTo>
                <a:lnTo>
                  <a:pt x="13956" y="18155"/>
                </a:lnTo>
                <a:cubicBezTo>
                  <a:pt x="11188" y="18155"/>
                  <a:pt x="8612" y="15596"/>
                  <a:pt x="861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дравляем ВАС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71280" y="1988640"/>
            <a:ext cx="769284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Вы справились с экзаменом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2" name="Picture 7" descr="сова"/>
          <p:cNvPicPr/>
          <p:nvPr/>
        </p:nvPicPr>
        <p:blipFill>
          <a:blip r:embed="rId1"/>
          <a:srcRect l="0" t="4257" r="0" b="0"/>
          <a:stretch/>
        </p:blipFill>
        <p:spPr>
          <a:xfrm>
            <a:off x="7451640" y="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ыч"/>
          <p:cNvPicPr/>
          <p:nvPr/>
        </p:nvPicPr>
        <p:blipFill>
          <a:blip r:embed="rId2"/>
          <a:stretch/>
        </p:blipFill>
        <p:spPr>
          <a:xfrm>
            <a:off x="4211640" y="4365720"/>
            <a:ext cx="1563840" cy="1985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ежик"/>
          <p:cNvPicPr/>
          <p:nvPr/>
        </p:nvPicPr>
        <p:blipFill>
          <a:blip r:embed="rId3"/>
          <a:stretch/>
        </p:blipFill>
        <p:spPr>
          <a:xfrm>
            <a:off x="6300720" y="5300640"/>
            <a:ext cx="1546200" cy="155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крош"/>
          <p:cNvPicPr/>
          <p:nvPr/>
        </p:nvPicPr>
        <p:blipFill>
          <a:blip r:embed="rId4"/>
          <a:stretch/>
        </p:blipFill>
        <p:spPr>
          <a:xfrm>
            <a:off x="2195640" y="5084640"/>
            <a:ext cx="1484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0" autoRev="1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1" dur="1000" autoRev="1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" dur="1000" autoRev="1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74800" y="56664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Зачем нужны Правила Дорожного Движения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Чтобы на дорогах был порядок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ежик"/>
          <p:cNvPicPr/>
          <p:nvPr/>
        </p:nvPicPr>
        <p:blipFill>
          <a:blip r:embed="rId1"/>
          <a:stretch/>
        </p:blipFill>
        <p:spPr>
          <a:xfrm>
            <a:off x="7597800" y="0"/>
            <a:ext cx="15462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мальчик"/>
          <p:cNvPicPr/>
          <p:nvPr/>
        </p:nvPicPr>
        <p:blipFill>
          <a:blip r:embed="rId1"/>
          <a:stretch/>
        </p:blipFill>
        <p:spPr>
          <a:xfrm>
            <a:off x="7812000" y="0"/>
            <a:ext cx="1063800" cy="228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74800" y="351000"/>
            <a:ext cx="81784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Кто такой пешеход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Тот, кто ходит пешком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Тот, кто проверяет билеты в автобус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Тот, кто много путешествует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74800" y="351000"/>
            <a:ext cx="8178480" cy="125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Кто такой пешеход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Тот, кто ходит пешком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6" descr="мальчик"/>
          <p:cNvPicPr/>
          <p:nvPr/>
        </p:nvPicPr>
        <p:blipFill>
          <a:blip r:embed="rId1"/>
          <a:stretch/>
        </p:blipFill>
        <p:spPr>
          <a:xfrm>
            <a:off x="7812000" y="0"/>
            <a:ext cx="10638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74800" y="566640"/>
            <a:ext cx="817848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 Какие дороги придуманы специально для пешеходов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227628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Железные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Тротуар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В: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Автомагистра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девочка"/>
          <p:cNvPicPr/>
          <p:nvPr/>
        </p:nvPicPr>
        <p:blipFill>
          <a:blip r:embed="rId4"/>
          <a:stretch/>
        </p:blipFill>
        <p:spPr>
          <a:xfrm>
            <a:off x="8126280" y="0"/>
            <a:ext cx="1017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74720" y="566640"/>
            <a:ext cx="8178120" cy="125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 Какие дороги придуманы специально для пешеходов?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6920" y="2923920"/>
            <a:ext cx="7543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А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Б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Тротуары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: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AutoShape 4">
            <a:hlinkClick r:id="" action="ppaction://hlinkshowjump?jump=nextslide"/>
          </p:cNvPr>
          <p:cNvSpPr/>
          <p:nvPr/>
        </p:nvSpPr>
        <p:spPr>
          <a:xfrm>
            <a:off x="8172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700360" y="220500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равильно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6" descr="девочка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1.38889E-006 -1.6185E-006 L 1.38889E-006 -0.11537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мья</dc:creator>
  <dc:description/>
  <dc:language>en-US</dc:language>
  <cp:lastModifiedBy>семья</cp:lastModifiedBy>
  <dcterms:modified xsi:type="dcterms:W3CDTF">2020-04-06T19:53:56Z</dcterms:modified>
  <cp:revision>324</cp:revision>
  <dc:subject/>
  <dc:title>PowerPoint Presentation</dc:title>
</cp:coreProperties>
</file>