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187-6766-41E4-A3BF-33D39618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B30-DDE5-46D9-B1E8-E49A1A61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D7A-A924-4675-974D-CA7D83C3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27F-E76C-45EF-BC8C-CD487755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372-58EA-4209-A686-EF22F163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403-CEE7-4D24-98C6-42ACE520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E67-C843-4401-83E1-FE27FA57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F22-DBF6-4606-932D-A5241129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F6E-36AD-4833-BF00-4E25699E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0B0-00CD-46C8-AC38-9F8DEC48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74D-BED2-450F-909E-26FFBD55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44A-1428-4D5C-8AE3-CE2F0350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Образовательный портал Мой университет - ww.moi-universitet.ru, факультет "Реформа образования" - www.edu-reforma.r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04C1-2874-4129-B367-CDA9DAB1E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480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стория Нового времен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9 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382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итель: Анжела Пав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волюционное движение народа Ита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305920" cy="31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59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соединение област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ны, Пармы, Тосканы и папской Романь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к Пьемо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6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осстание на Сицилии. Поход Гарибаль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апо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ицилия) присоединяется к Пьемо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61 – провозглашение Итальянского королевства: конституционная монарх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1\Desktop\11.11.jpg"/>
          <p:cNvPicPr/>
          <p:nvPr/>
        </p:nvPicPr>
        <p:blipFill>
          <a:blip r:embed="rId1"/>
          <a:stretch/>
        </p:blipFill>
        <p:spPr>
          <a:xfrm>
            <a:off x="2057400" y="-14400"/>
            <a:ext cx="48769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23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60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80880" y="1079640"/>
            <a:ext cx="3505320" cy="32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114800" y="1397160"/>
          <a:ext cx="4800600" cy="2679480"/>
        </p:xfrm>
        <a:graphic>
          <a:graphicData uri="http://schemas.openxmlformats.org/drawingml/2006/table">
            <a:tbl>
              <a:tblPr/>
              <a:tblGrid>
                <a:gridCol w="1393920"/>
                <a:gridCol w="3406680"/>
              </a:tblGrid>
              <a:tr h="56196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ская Обла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цианская область (Австрийская импери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динское королевст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левство Обеих Сицилий (Неаполитанское королевство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8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61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533520" y="1079640"/>
            <a:ext cx="3352680" cy="33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4419720" y="2222640"/>
          <a:ext cx="4267080" cy="1587240"/>
        </p:xfrm>
        <a:graphic>
          <a:graphicData uri="http://schemas.openxmlformats.org/drawingml/2006/table">
            <a:tbl>
              <a:tblPr/>
              <a:tblGrid>
                <a:gridCol w="1120680"/>
                <a:gridCol w="3146400"/>
              </a:tblGrid>
              <a:tr h="44424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левство Итал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цианская область (Австрийская импери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ская Обла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вершение объеди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6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Австрия ослаблена войной с Пруссией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лия возвращает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е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7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Франция разгромлена Пруссией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божде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и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французов и присоединение к Ит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23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70 год. Королевство Ит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57200" y="95256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4343400" y="114300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ица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итуционная монарх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лем Италии  стал король Пьемонт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ктор Эммануил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60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079640"/>
            <a:ext cx="838188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ом государственного объединения Италии ста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ьемон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арди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мьер-министр Пьемонта Кавур руководил присоединением к Пьемонту областей Италии, использу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пломатию и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талии под руководством Гарибальди также поднялся 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оруженную борьб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 объ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07960"/>
            <a:ext cx="7772400" cy="13334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ъединение Германи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§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447920" y="1968480"/>
            <a:ext cx="6400800" cy="3556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066680" y="1841400"/>
            <a:ext cx="2362320" cy="11912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ранденбургские вор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вадрига лоша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рмания после Венского конгр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итическая раздробле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союз 35 монархий и 4 вольных г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аграрная страна, начало промышленного перевор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ая структур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рбанизация, растет численность пролетариата и буржуа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602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волюция 1848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09480" y="139716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сат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чины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ытия- итоги революции в Германии стр. 111-1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ные люди в деле объединения Германи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3657600" cy="3911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4952880" y="1397160"/>
            <a:ext cx="381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цлер Прусс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то фон Бисмар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ле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ый министр Прусс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Ро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центре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ик генерального штаб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Мольт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ра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35040"/>
            <a:ext cx="86104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динение Италии в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исорджимент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§ 11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676520" y="1968480"/>
            <a:ext cx="609588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553440" cy="5079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ильгельм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85800" y="952560"/>
            <a:ext cx="304812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4343400" y="1587600"/>
            <a:ext cx="426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-ой король Пруссии (1861-18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й император Германской имп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71 —18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873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то фон Бисмар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14400" y="1206360"/>
            <a:ext cx="2971800" cy="4241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4724280" y="1206360"/>
            <a:ext cx="38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6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значен канцлером (главой правительства) Пру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 речами и постановлениями большинства решаются великие вопросы современности, а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елезом и кров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0288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86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д. Образование Северогерманского Сою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3520" y="1714680"/>
            <a:ext cx="4495680" cy="3619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5410080" y="2984400"/>
            <a:ext cx="241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федеративное государственное обра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идентом Союза являлся король Пру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715000" y="1623960"/>
          <a:ext cx="2895480" cy="1382760"/>
        </p:xfrm>
        <a:graphic>
          <a:graphicData uri="http://schemas.openxmlformats.org/drawingml/2006/table">
            <a:tbl>
              <a:tblPr/>
              <a:tblGrid>
                <a:gridCol w="533520"/>
                <a:gridCol w="2361960"/>
              </a:tblGrid>
              <a:tr h="69624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огерман-ский сою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огерман-ские зем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49536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18666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 11,12  выполнить задания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(выданы в презент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алия после Венского конгр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888480"/>
            <a:ext cx="86108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сфера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дроблена на 8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абсолютистских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ролевств и герцогств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асть территорий – под властью Австри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оздаются революционные организаци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арбонарие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экономик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моженные границы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луфеодальные отношения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лабо развитые промышленность и транспорт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Главные цел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литическое объединени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ституц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вержение австрийского гне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2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волюция 1848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нварь 1848 – началось восстание в Сицилии, а затем охватило всю Ита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исать причины- события революции с.102-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конститу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чное освобождение территорий от австрийского влады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деры революцион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1333440"/>
            <a:ext cx="2857680" cy="3505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91680" y="5067360"/>
            <a:ext cx="44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жузеппе Гарибальди (1807-188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2895480" cy="3238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4967640" y="50734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жузеппе Мадзини (1805-18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грома револю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становление абсолютизма (кроме Пьемо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имской области по просьбе папы французски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омбардии и Венеции – власть Австрии, военны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ктор Эммануил II, корол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ьемо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838080" y="952560"/>
            <a:ext cx="33530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ый этап борьбы за объеди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28600" y="1460520"/>
            <a:ext cx="2581200" cy="3911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124080" y="1566720"/>
            <a:ext cx="55627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милло Бензо ди Кавур  (1810 -1861) – «ткач един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1850 г.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лава правительст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ардинского королевства (Пьемон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номические ре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иск союзников по борьбе с Австр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йна против  Авс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33080"/>
            <a:ext cx="84582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5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заключение союза Пьемонта с Фран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5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азгром австрийской армии франко-итальянскими вой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олео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ательски заключает с Австрией ми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мбардия возвращена Ит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неция остается у Авс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0-04-06T05:22:2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