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5C7A1-0648-4E46-97E9-AA7601503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36AF7-9D5A-4694-8C09-9CAC39AD6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777A8-D999-407A-8362-E32E4A57F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71714-1E3D-4605-ACBD-AB6BF8132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08456-A119-4E1F-99B5-62F6C8C73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E980B-0B8C-4912-B1BD-E961BCDA9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23AE4-9E5E-4046-BF79-9FC3DA7B8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6E159-3847-43BC-9447-8C425182E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2E27F-52E8-433B-8176-657BC88C2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9EF3F-0F81-4173-ACEE-A9F2BCB54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EB708-09FF-4068-BA4F-572E82479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E763C-CAC6-432D-973F-F7BBCE5B2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909B6-4587-4540-99C7-8FBF23048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6E7E3-CA58-43B1-887E-EE30C1327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D2733-208B-4A63-8740-37929FCDB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F6719-92C2-4BA7-B675-31B5790F6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D639F-989D-4627-8D5C-E89348305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EF15E-B607-418A-9D68-000079F11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700B8-3F4F-4EB7-ABFB-932D510E4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4D276-02A8-48BD-A8FB-A5A3599A6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75FAC-22D3-4303-BB90-2203C7191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E06D3-17E0-430A-BBF9-AFBEB05C1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8A680-D085-47F9-819A-A23227025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F7E6B-EF9B-4A6B-878B-41A924440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1C2F1-9518-4907-B6C6-3BDBDFB7D71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69FC0-CBC2-4B49-B3F8-82DD3DCB1D71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6"/>
          <p:cNvSpPr/>
          <p:nvPr/>
        </p:nvSpPr>
        <p:spPr>
          <a:xfrm>
            <a:off x="1116000" y="549360"/>
            <a:ext cx="748836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b7"/>
                </a:solidFill>
                <a:latin typeface="Arial"/>
              </a:rPr>
              <a:t> </a:t>
            </a:r>
            <a:r>
              <a:rPr b="1" lang="ru-RU" sz="4800" spc="-1" strike="noStrike">
                <a:solidFill>
                  <a:srgbClr val="ffffb7"/>
                </a:solidFill>
                <a:latin typeface="Arial Black"/>
              </a:rPr>
              <a:t>Изменение прилагательных по падежам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b7"/>
                </a:solidFill>
                <a:latin typeface="Arial"/>
              </a:rPr>
              <a:t>Русский язык, з класс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Box 1"/>
          <p:cNvSpPr/>
          <p:nvPr/>
        </p:nvSpPr>
        <p:spPr>
          <a:xfrm>
            <a:off x="1403280" y="692280"/>
            <a:ext cx="684072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c00000"/>
                </a:solidFill>
                <a:latin typeface="Times New Roman"/>
                <a:ea typeface="Arial"/>
              </a:rPr>
              <a:t>  </a:t>
            </a:r>
            <a:r>
              <a:rPr b="1" lang="ru-RU" sz="3500" spc="-1" strike="noStrike">
                <a:solidFill>
                  <a:srgbClr val="c00000"/>
                </a:solidFill>
                <a:latin typeface="Times New Roman"/>
                <a:ea typeface="Arial"/>
              </a:rPr>
              <a:t>Работа в парах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TextBox 1"/>
          <p:cNvSpPr/>
          <p:nvPr/>
        </p:nvSpPr>
        <p:spPr>
          <a:xfrm>
            <a:off x="1224000" y="1700280"/>
            <a:ext cx="7596000" cy="49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c00000"/>
                </a:solidFill>
                <a:latin typeface="Times New Roman"/>
                <a:ea typeface="Arial"/>
              </a:rPr>
              <a:t>-Просклоняйте  словосочетания: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060"/>
                </a:solidFill>
                <a:latin typeface="Arial Black"/>
                <a:ea typeface="Arial"/>
              </a:rPr>
              <a:t>I</a:t>
            </a:r>
            <a:r>
              <a:rPr b="1" lang="ru-RU" sz="4800" spc="-1" strike="noStrike">
                <a:solidFill>
                  <a:srgbClr val="002060"/>
                </a:solidFill>
                <a:latin typeface="Arial Black"/>
                <a:ea typeface="Arial"/>
              </a:rPr>
              <a:t> вариант –  уютное дупло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060"/>
                </a:solidFill>
                <a:latin typeface="Arial Black"/>
                <a:ea typeface="Arial"/>
              </a:rPr>
              <a:t>II</a:t>
            </a:r>
            <a:r>
              <a:rPr b="1" lang="ru-RU" sz="4800" spc="-1" strike="noStrike">
                <a:solidFill>
                  <a:srgbClr val="002060"/>
                </a:solidFill>
                <a:latin typeface="Arial Black"/>
                <a:ea typeface="Arial"/>
              </a:rPr>
              <a:t> вариант –  густой мех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Arial Black"/>
                <a:ea typeface="Arial"/>
              </a:rPr>
              <a:t>Сделайте вывод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0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4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Box 1"/>
          <p:cNvSpPr/>
          <p:nvPr/>
        </p:nvSpPr>
        <p:spPr>
          <a:xfrm>
            <a:off x="265320" y="785880"/>
            <a:ext cx="43808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1 вариан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И. п. Уютн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ое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 дупл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Р.п. Уютн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ого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дупл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Д.п. Уютн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ому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 дупл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В.п. Уютн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ое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 дупл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Т.п. Уютн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ым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 дупло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П. п. об уютн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ом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 дупл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TextBox 2"/>
          <p:cNvSpPr/>
          <p:nvPr/>
        </p:nvSpPr>
        <p:spPr>
          <a:xfrm>
            <a:off x="5205240" y="785880"/>
            <a:ext cx="38185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2 вариан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И.п. Густ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ой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 ме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Р.п. густ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ого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 мех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Д.п. густ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ому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 мех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В.п. густ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ой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 ме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Т. п. Густ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ым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 мехо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П. п. о густ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ом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 мех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99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600" spc="-1" strike="noStrike">
                <a:solidFill>
                  <a:srgbClr val="ff0000"/>
                </a:solidFill>
                <a:latin typeface="Arial Black"/>
              </a:rPr>
              <a:t>ВЫВОД:</a:t>
            </a:r>
            <a:endParaRPr b="1" lang="en-US" sz="5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28560" y="1267920"/>
            <a:ext cx="8120160" cy="52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 Black"/>
              </a:rPr>
              <a:t>Имена прилагательные склоняются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 Black"/>
              </a:rPr>
              <a:t>Имя прилагательное стоит в том же роде, числе и падеже, что и имя существительное, к которому оно относится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Box 1"/>
          <p:cNvSpPr/>
          <p:nvPr/>
        </p:nvSpPr>
        <p:spPr>
          <a:xfrm>
            <a:off x="2004480" y="549360"/>
            <a:ext cx="5327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Домашняя работ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Box 2"/>
          <p:cNvSpPr/>
          <p:nvPr/>
        </p:nvSpPr>
        <p:spPr>
          <a:xfrm>
            <a:off x="1081440" y="2133720"/>
            <a:ext cx="716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 82 – 83, правило выучить. С 83 упр 144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 84 упр 14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3" descr="C:\Users\Лариса\Downloads\mela-latifoglie-nb4505.jpg"/>
          <p:cNvPicPr/>
          <p:nvPr/>
        </p:nvPicPr>
        <p:blipFill>
          <a:blip r:embed="rId1"/>
          <a:stretch/>
        </p:blipFill>
        <p:spPr>
          <a:xfrm>
            <a:off x="399960" y="1017720"/>
            <a:ext cx="2882880" cy="28731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4" descr="C:\Users\Лариса\Downloads\6906518-yellow-apple-isolated-on-white-background.jpg"/>
          <p:cNvPicPr/>
          <p:nvPr/>
        </p:nvPicPr>
        <p:blipFill>
          <a:blip r:embed="rId2"/>
          <a:stretch/>
        </p:blipFill>
        <p:spPr>
          <a:xfrm>
            <a:off x="639720" y="2630520"/>
            <a:ext cx="2643120" cy="25970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5" descr="C:\Users\Лариса\Downloads\shutterstock_54193135.jpg"/>
          <p:cNvPicPr/>
          <p:nvPr/>
        </p:nvPicPr>
        <p:blipFill>
          <a:blip r:embed="rId3"/>
          <a:stretch/>
        </p:blipFill>
        <p:spPr>
          <a:xfrm>
            <a:off x="657360" y="3890880"/>
            <a:ext cx="2625480" cy="2625840"/>
          </a:xfrm>
          <a:prstGeom prst="rect">
            <a:avLst/>
          </a:prstGeom>
          <a:ln w="0">
            <a:noFill/>
          </a:ln>
        </p:spPr>
      </p:pic>
      <p:sp>
        <p:nvSpPr>
          <p:cNvPr id="127" name="TextBox 1"/>
          <p:cNvSpPr/>
          <p:nvPr/>
        </p:nvSpPr>
        <p:spPr>
          <a:xfrm>
            <a:off x="900000" y="595440"/>
            <a:ext cx="7848720" cy="11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c00000"/>
                </a:solidFill>
                <a:latin typeface="Times New Roman"/>
                <a:ea typeface="Arial"/>
              </a:rPr>
              <a:t>ОЦЕНИМ 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c00000"/>
                </a:solidFill>
                <a:latin typeface="Times New Roman"/>
                <a:ea typeface="Arial"/>
              </a:rPr>
              <a:t>СВОИ ДОСТИЖЕНИЯ НА УРОКЕ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Стрелка влево 3"/>
          <p:cNvSpPr/>
          <p:nvPr/>
        </p:nvSpPr>
        <p:spPr>
          <a:xfrm>
            <a:off x="2987640" y="1622520"/>
            <a:ext cx="4321080" cy="1806480"/>
          </a:xfrm>
          <a:prstGeom prst="leftArrow">
            <a:avLst>
              <a:gd name="adj1" fmla="val 50000"/>
              <a:gd name="adj2" fmla="val 49999"/>
            </a:avLst>
          </a:prstGeom>
          <a:solidFill>
            <a:srgbClr val="beffbe"/>
          </a:solidFill>
          <a:ln w="1260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Box 2"/>
          <p:cNvSpPr/>
          <p:nvPr/>
        </p:nvSpPr>
        <p:spPr>
          <a:xfrm>
            <a:off x="3282840" y="2171880"/>
            <a:ext cx="4008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Arial"/>
              </a:rPr>
              <a:t>СПРАВИЛСЯ С ЗАДАНИЯМИ НА УРОКЕ БЕЗ ТРУД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Стрелка влево 4"/>
          <p:cNvSpPr/>
          <p:nvPr/>
        </p:nvSpPr>
        <p:spPr>
          <a:xfrm>
            <a:off x="2843280" y="3141720"/>
            <a:ext cx="4976640" cy="1942920"/>
          </a:xfrm>
          <a:prstGeom prst="leftArrow">
            <a:avLst>
              <a:gd name="adj1" fmla="val 50000"/>
              <a:gd name="adj2" fmla="val 50007"/>
            </a:avLst>
          </a:prstGeom>
          <a:solidFill>
            <a:srgbClr val="beffbe"/>
          </a:solidFill>
          <a:ln w="1260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Стрелка влево 6"/>
          <p:cNvSpPr/>
          <p:nvPr/>
        </p:nvSpPr>
        <p:spPr>
          <a:xfrm>
            <a:off x="3132000" y="4660920"/>
            <a:ext cx="4319640" cy="2008080"/>
          </a:xfrm>
          <a:prstGeom prst="leftArrow">
            <a:avLst>
              <a:gd name="adj1" fmla="val 50000"/>
              <a:gd name="adj2" fmla="val 50004"/>
            </a:avLst>
          </a:prstGeom>
          <a:solidFill>
            <a:srgbClr val="beffbe"/>
          </a:solidFill>
          <a:ln w="1260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Box 5"/>
          <p:cNvSpPr/>
          <p:nvPr/>
        </p:nvSpPr>
        <p:spPr>
          <a:xfrm>
            <a:off x="3276720" y="3605040"/>
            <a:ext cx="4535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Arial"/>
              </a:rPr>
              <a:t>НЕ ВСЁ НА УРОКЕ ПОЛУЧАЛОСЬ, БЫЛИ ДОПУЩЕНЫ НЕЗНАЧИТЕЛЬНЫЕ ОШИБК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TextBox 7"/>
          <p:cNvSpPr/>
          <p:nvPr/>
        </p:nvSpPr>
        <p:spPr>
          <a:xfrm>
            <a:off x="3635280" y="5157720"/>
            <a:ext cx="3816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Arial"/>
              </a:rPr>
              <a:t>МНЕ НУЖНА ПОМОЩЬ, БЫЛО МНОГО НЕПОНЯТНОГ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0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3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6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9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2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5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8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1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4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7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0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Минутка чистописания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4000" spc="-1" strike="noStrike">
                <a:solidFill>
                  <a:srgbClr val="ffffff"/>
                </a:solidFill>
                <a:latin typeface="Arial Black"/>
              </a:rPr>
              <a:t>чк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4000" spc="-1" strike="noStrike">
                <a:solidFill>
                  <a:srgbClr val="ffffff"/>
                </a:solidFill>
                <a:latin typeface="Arial Black"/>
              </a:rPr>
              <a:t>б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4000" spc="-1" strike="noStrike">
                <a:solidFill>
                  <a:srgbClr val="ffffff"/>
                </a:solidFill>
                <a:latin typeface="Arial Black"/>
              </a:rPr>
              <a:t>ло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 Black"/>
              </a:rPr>
              <a:t>  </a:t>
            </a:r>
            <a:r>
              <a:rPr b="1" lang="ru-RU" sz="4000" spc="-1" strike="noStrike">
                <a:solidFill>
                  <a:srgbClr val="ffffff"/>
                </a:solidFill>
                <a:latin typeface="Arial Black"/>
              </a:rPr>
              <a:t>Какое слово -существительное можно составить, если добавить ещё одну букву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115920"/>
            <a:ext cx="850752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b7"/>
                </a:solidFill>
                <a:latin typeface="Arial Black"/>
              </a:rPr>
              <a:t>Интересные факты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716000" y="188640"/>
            <a:ext cx="442764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Хвост белки служит и парашютом, и рулём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Рождаются детёныши белки без зубов и волос. При этом весят они около 50 г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Белки едят не только растительную пищу, они также нападают на птиц, таскают яйца из гнёзд, охотятся на небольших грызунов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Picture 5" descr="333"/>
          <p:cNvPicPr/>
          <p:nvPr/>
        </p:nvPicPr>
        <p:blipFill>
          <a:blip r:embed="rId1"/>
          <a:stretch/>
        </p:blipFill>
        <p:spPr>
          <a:xfrm>
            <a:off x="395280" y="3619440"/>
            <a:ext cx="4321080" cy="32385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6" descr="666"/>
          <p:cNvPicPr/>
          <p:nvPr/>
        </p:nvPicPr>
        <p:blipFill>
          <a:blip r:embed="rId2"/>
          <a:stretch/>
        </p:blipFill>
        <p:spPr>
          <a:xfrm>
            <a:off x="179280" y="620640"/>
            <a:ext cx="4537080" cy="28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109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Назвать тему , изученную на прошлом уроке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23640" y="1341000"/>
            <a:ext cx="852156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 Black"/>
              </a:rPr>
              <a:t>Изменение прилагательных по числа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 Black"/>
              </a:rPr>
              <a:t>Поставить цель на данный уро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 Black"/>
              </a:rPr>
              <a:t>Научиться определять падеж прилагательных, правильно писать падежные окончания прилагательных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50560" y="1341000"/>
            <a:ext cx="889308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 Black"/>
              </a:rPr>
              <a:t>Маленький бельчатам, у проворный белок, в лесной кладовках,  с ранний утра,    пушистая белку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 Black"/>
              </a:rPr>
              <a:t>Маленьким бельчатам, у проворных белок, в лесных кладовках,  с раннего утра,    пушистую белку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 Black"/>
              </a:rPr>
              <a:t>Определи падеж прилагательны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 Black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250920" y="260280"/>
            <a:ext cx="8893080" cy="88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</a:t>
            </a: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 </a:t>
            </a:r>
            <a:r>
              <a:rPr b="0" lang="ru-RU" sz="3200" spc="-1" strike="noStrike">
                <a:solidFill>
                  <a:srgbClr val="ffffb7"/>
                </a:solidFill>
                <a:latin typeface="Arial Black"/>
              </a:rPr>
              <a:t>Исправь окончания у прилагательны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Box 1"/>
          <p:cNvSpPr/>
          <p:nvPr/>
        </p:nvSpPr>
        <p:spPr>
          <a:xfrm>
            <a:off x="611280" y="0"/>
            <a:ext cx="81374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ffffff"/>
                </a:solidFill>
                <a:latin typeface="Times New Roman"/>
                <a:ea typeface="Arial"/>
              </a:rPr>
              <a:t>-</a:t>
            </a:r>
            <a:r>
              <a:rPr b="1" lang="ru-RU" sz="2800" spc="-1" strike="noStrike">
                <a:solidFill>
                  <a:srgbClr val="ffffff"/>
                </a:solidFill>
                <a:latin typeface="Arial Black"/>
                <a:ea typeface="Arial"/>
              </a:rPr>
              <a:t>Прочитайте предложения и  вставьте подходящие по смыслу прилагательны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Box 2"/>
          <p:cNvSpPr/>
          <p:nvPr/>
        </p:nvSpPr>
        <p:spPr>
          <a:xfrm>
            <a:off x="324000" y="1268280"/>
            <a:ext cx="8640720" cy="50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Arial Black"/>
                <a:ea typeface="Arial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Arial Black"/>
                <a:ea typeface="Arial"/>
              </a:rPr>
              <a:t>В парке можно встретить ... белочку.   … белочка прыгает с ветки на ветку. 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  <a:ea typeface="Arial"/>
              </a:rPr>
              <a:t>Дважды в год у… белки появляются детки.</a:t>
            </a:r>
            <a:r>
              <a:rPr b="1" lang="ru-RU" sz="3600" spc="-1" strike="noStrike">
                <a:solidFill>
                  <a:srgbClr val="ffffff"/>
                </a:solidFill>
                <a:latin typeface="Arial Black"/>
                <a:ea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 Black"/>
                <a:ea typeface="Arial"/>
              </a:rPr>
              <a:t>Мы любовалис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 Black"/>
                <a:ea typeface="Arial"/>
              </a:rPr>
              <a:t> … </a:t>
            </a:r>
            <a:r>
              <a:rPr b="1" lang="ru-RU" sz="3600" spc="-1" strike="noStrike">
                <a:solidFill>
                  <a:srgbClr val="ffffff"/>
                </a:solidFill>
                <a:latin typeface="Arial Black"/>
                <a:ea typeface="Arial"/>
              </a:rPr>
              <a:t>красавицей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 Black"/>
                <a:ea typeface="Arial"/>
              </a:rPr>
              <a:t>(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  <a:ea typeface="Arial"/>
              </a:rPr>
              <a:t>лесной, </a:t>
            </a:r>
            <a:r>
              <a:rPr b="1" lang="ru-RU" sz="3600" spc="-1" strike="noStrike">
                <a:solidFill>
                  <a:srgbClr val="ffffff"/>
                </a:solidFill>
                <a:latin typeface="Arial Black"/>
                <a:ea typeface="Arial"/>
              </a:rPr>
              <a:t> пушистую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 Black"/>
                <a:ea typeface="Arial"/>
              </a:rPr>
              <a:t>изящная, маленькой 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Picture 8" descr="Б jpg"/>
          <p:cNvPicPr/>
          <p:nvPr/>
        </p:nvPicPr>
        <p:blipFill>
          <a:blip r:embed="rId1"/>
          <a:stretch/>
        </p:blipFill>
        <p:spPr>
          <a:xfrm>
            <a:off x="5867280" y="3706920"/>
            <a:ext cx="3276720" cy="315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0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Физ.минутк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686800" cy="337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b7"/>
                </a:solidFill>
                <a:latin typeface="Arial Black"/>
              </a:rPr>
              <a:t>Назовите алгоритм, по которому определяли падеж прилагательных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Box 3"/>
          <p:cNvSpPr/>
          <p:nvPr/>
        </p:nvSpPr>
        <p:spPr>
          <a:xfrm>
            <a:off x="971640" y="115920"/>
            <a:ext cx="763272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Arial"/>
              </a:rPr>
              <a:t>АЛГОРИТМ   ОПРЕДЕЛЕНИЯ  ПАДЕЖА</a:t>
            </a:r>
            <a:r>
              <a:rPr b="1" lang="ru-RU" sz="3500" spc="-1" strike="noStrike">
                <a:solidFill>
                  <a:srgbClr val="c00000"/>
                </a:solidFill>
                <a:latin typeface="Times New Roman"/>
                <a:ea typeface="Arial"/>
              </a:rPr>
              <a:t> 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Arial"/>
              </a:rPr>
              <a:t>У ИМЁН ПРИЛАГАТЕЛЬНЫ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Box 1"/>
          <p:cNvSpPr/>
          <p:nvPr/>
        </p:nvSpPr>
        <p:spPr>
          <a:xfrm>
            <a:off x="1509840" y="1268280"/>
            <a:ext cx="763416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c00000"/>
                </a:solidFill>
                <a:uFillTx/>
                <a:latin typeface="Times New Roman"/>
                <a:ea typeface="Arial"/>
              </a:rPr>
              <a:t>1 шаг. 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Arial"/>
              </a:rPr>
              <a:t>Найти существительное, которое согласуется с именем прилагательны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c00000"/>
                </a:solidFill>
                <a:uFillTx/>
                <a:latin typeface="Times New Roman"/>
                <a:ea typeface="Arial"/>
              </a:rPr>
              <a:t>2 шаг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Arial"/>
              </a:rPr>
              <a:t>Определить падеж имени существительного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c00000"/>
                </a:solidFill>
                <a:uFillTx/>
                <a:latin typeface="Times New Roman"/>
                <a:ea typeface="Arial"/>
              </a:rPr>
              <a:t>3 шаг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Arial"/>
              </a:rPr>
              <a:t>По падежу имени существительного определить падеж прилагательного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3T18:01:30Z</dcterms:created>
  <dc:creator>Лариса</dc:creator>
  <dc:description/>
  <dc:language>en-US</dc:language>
  <cp:lastModifiedBy>пользователь</cp:lastModifiedBy>
  <dcterms:modified xsi:type="dcterms:W3CDTF">2020-04-06T15:16:11Z</dcterms:modified>
  <cp:revision>61</cp:revision>
  <dc:subject/>
  <dc:title>Презентация PowerPoint</dc:title>
</cp:coreProperties>
</file>