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724-54E6-4842-BFB8-304E9F50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D5B-505E-4518-953D-8E8165CC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05D-39E5-408F-8EFF-56E3D57E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C8B-466B-4AAF-80A0-983517D8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C886-9AE3-4EF0-9BD4-B3A88469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124D-A5E2-46E6-94A2-E5F6FF62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1A2E-EF89-4C6A-9691-45BE391E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ADCF-8BFE-4CE9-AB23-7DF40735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E423-C433-4E68-B99B-334E6412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9DD1-446E-42AE-91C5-A44A2424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E83E-E3D5-4819-BD59-D6EAC99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774-E38B-4081-A446-0F0441E8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988F-1A8A-409F-AB33-20BD92F6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A074-65BB-4A18-BCA2-CA06DDE9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31E1-8963-4EBE-9332-BD617C58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5DF5-9953-44B9-882C-6690D41A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D67D-9D26-437F-840D-E2ACAB58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71D2-CBA2-4566-8417-B9CA453E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0684-4D1E-435B-87A9-671590D4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B9A60-B5D1-4559-916F-42265632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AF5F-2A9B-4DAA-8543-5B0359DE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7FE5-12ED-4047-8566-3E9F3459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144-9E57-4BFA-AE78-7CF34AD0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2E75-C560-433E-A330-DAE433DF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C2BD-68F8-4583-97B4-0F04C89E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C4BF-FDF7-4A38-9B6F-1B7E9E5E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72146-844E-413F-A5FE-F9A72628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DB8F-9DAF-4860-8AA3-A75EBF40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0E55-5B65-4A78-9480-C4173C70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E99A-1B7B-4DB3-8563-CED136A4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AB9D5-4388-4CCD-8B09-02926EA2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BD35-AC46-4631-B246-6081BFE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600B5-5453-4E99-91E9-24F7EAD6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782-A8AF-49E3-8300-B182E3D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EEFD3-2A94-4AE5-ACF7-29DD1946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63E9-30EB-486D-8A37-A7F55721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38FF-3942-400D-A52E-2A54858C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7CA9-90BA-4D34-B0F3-3B2698E7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E4445-414A-4C1E-A928-0A11E6D2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FA8CA-85DA-4229-AFDC-91B64E2C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DC24A-34A7-40BB-BD66-3E0A2DEE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EE2F2-BA70-4AAF-98C0-4DEAFC97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6BDCD-100E-49A7-A51A-2A9EE6B1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0157-EB22-4E6A-BB9B-EB277946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4A3-E67B-43BA-BC38-FEA06D84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634E4-2074-407B-AA34-B4B4F72F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B52B1-AD2A-4044-B7E5-10293F8C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670C7-93E0-4BA6-81F5-2F36B5BF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71C47-FF57-4119-BA45-01C42B9E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A1407-EC2A-4D20-82AD-B778F91A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97A18-B735-49CA-BF06-4E679EDD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E4F65-99DA-4B4B-A4F8-FE858E14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EEABE-BAAE-47CC-ACA4-97F049F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C832F-6436-42A6-88DE-D78C3FAA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3A39-1DE6-45B4-A89C-4F3AC7A9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2F2-DB45-4B5E-A8C1-8D433754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055C3-61F4-4E01-933A-891587A2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5A3-23DA-42E6-8448-5BD107BD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196-96AB-4598-8FBC-D227C48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7AC-7801-41F0-92D4-B3CBF3F5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0A71-D9C1-4A03-B0FD-3CC3D8EF7707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0940-7F8D-482A-906B-01129C17F040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A39D-882D-421D-A8EE-0E0A0C3226FA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343F-5E89-4F6F-8D62-A872079606A3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71EC-8407-4BD9-ABEA-2051747AFD43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orbel"/>
              </a:rPr>
              <a:t>Урок математики</a:t>
            </a:r>
            <a:br>
              <a:rPr sz="4900"/>
            </a:br>
            <a:r>
              <a:rPr b="1" lang="ru-RU" sz="4900" spc="-1" strike="noStrike">
                <a:solidFill>
                  <a:srgbClr val="ff0000"/>
                </a:solidFill>
                <a:latin typeface="Corbel"/>
              </a:rPr>
              <a:t>6 класс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14240" y="2000160"/>
            <a:ext cx="70581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омбинаторные задач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3265560" y="3141720"/>
            <a:ext cx="450684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помощью граф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ю деловой встречи 4 специалиста обменялись визитными карточками (каждый вручил свою карточку каждому). Сколько визитных карточек было роздано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  12 визито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Блок-схема: узел 4"/>
          <p:cNvSpPr/>
          <p:nvPr/>
        </p:nvSpPr>
        <p:spPr>
          <a:xfrm>
            <a:off x="1500120" y="4500720"/>
            <a:ext cx="571680" cy="571320"/>
          </a:xfrm>
          <a:prstGeom prst="flowChartConnector">
            <a:avLst/>
          </a:prstGeom>
          <a:solidFill>
            <a:srgbClr val="30acec"/>
          </a:solidFill>
          <a:ln cap="rnd" w="15840">
            <a:solidFill>
              <a:srgbClr val="207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Блок-схема: узел 5"/>
          <p:cNvSpPr/>
          <p:nvPr/>
        </p:nvSpPr>
        <p:spPr>
          <a:xfrm>
            <a:off x="1571760" y="5786280"/>
            <a:ext cx="571320" cy="571680"/>
          </a:xfrm>
          <a:prstGeom prst="flowChartConnector">
            <a:avLst/>
          </a:prstGeom>
          <a:solidFill>
            <a:srgbClr val="30acec"/>
          </a:solidFill>
          <a:ln cap="rnd" w="15840">
            <a:solidFill>
              <a:srgbClr val="207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Блок-схема: узел 6"/>
          <p:cNvSpPr/>
          <p:nvPr/>
        </p:nvSpPr>
        <p:spPr>
          <a:xfrm>
            <a:off x="3714840" y="4500720"/>
            <a:ext cx="571320" cy="571320"/>
          </a:xfrm>
          <a:prstGeom prst="flowChartConnector">
            <a:avLst/>
          </a:prstGeom>
          <a:solidFill>
            <a:srgbClr val="30acec"/>
          </a:solidFill>
          <a:ln cap="rnd" w="15840">
            <a:solidFill>
              <a:srgbClr val="207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узел 7"/>
          <p:cNvSpPr/>
          <p:nvPr/>
        </p:nvSpPr>
        <p:spPr>
          <a:xfrm>
            <a:off x="3714840" y="5715000"/>
            <a:ext cx="571320" cy="571680"/>
          </a:xfrm>
          <a:prstGeom prst="flowChartConnector">
            <a:avLst/>
          </a:prstGeom>
          <a:solidFill>
            <a:srgbClr val="30acec"/>
          </a:solidFill>
          <a:ln cap="rnd" w="15840">
            <a:solidFill>
              <a:srgbClr val="207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Прямая со стрелкой 9"/>
          <p:cNvCxnSpPr>
            <a:stCxn id="273" idx="6"/>
            <a:endCxn id="275" idx="2"/>
          </p:cNvCxnSpPr>
          <p:nvPr/>
        </p:nvCxnSpPr>
        <p:spPr>
          <a:xfrm>
            <a:off x="2071800" y="4785840"/>
            <a:ext cx="1643760" cy="252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8" name="Прямая со стрелкой 11"/>
          <p:cNvCxnSpPr>
            <a:stCxn id="275" idx="4"/>
            <a:endCxn id="276" idx="0"/>
          </p:cNvCxnSpPr>
          <p:nvPr/>
        </p:nvCxnSpPr>
        <p:spPr>
          <a:xfrm flipH="1">
            <a:off x="3998160" y="5073480"/>
            <a:ext cx="2520" cy="64332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Прямая со стрелкой 19"/>
          <p:cNvCxnSpPr>
            <a:stCxn id="274" idx="6"/>
            <a:endCxn id="276" idx="2"/>
          </p:cNvCxnSpPr>
          <p:nvPr/>
        </p:nvCxnSpPr>
        <p:spPr>
          <a:xfrm flipV="1">
            <a:off x="2143080" y="6000480"/>
            <a:ext cx="1572480" cy="7200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0" name="Прямая со стрелкой 21"/>
          <p:cNvCxnSpPr>
            <a:stCxn id="273" idx="4"/>
            <a:endCxn id="274" idx="0"/>
          </p:cNvCxnSpPr>
          <p:nvPr/>
        </p:nvCxnSpPr>
        <p:spPr>
          <a:xfrm>
            <a:off x="1785960" y="5072040"/>
            <a:ext cx="72000" cy="71496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1" name="Прямая со стрелкой 23"/>
          <p:cNvCxnSpPr/>
          <p:nvPr/>
        </p:nvCxnSpPr>
        <p:spPr>
          <a:xfrm>
            <a:off x="1999080" y="4928760"/>
            <a:ext cx="1810440" cy="81036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2" name="Прямая со стрелкой 25"/>
          <p:cNvCxnSpPr>
            <a:stCxn id="275" idx="3"/>
            <a:endCxn id="274" idx="7"/>
          </p:cNvCxnSpPr>
          <p:nvPr/>
        </p:nvCxnSpPr>
        <p:spPr>
          <a:xfrm flipH="1">
            <a:off x="2058120" y="4987800"/>
            <a:ext cx="1740600" cy="88344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  <p:sp>
        <p:nvSpPr>
          <p:cNvPr id="283" name="Блок-схема: узел 20"/>
          <p:cNvSpPr/>
          <p:nvPr/>
        </p:nvSpPr>
        <p:spPr>
          <a:xfrm>
            <a:off x="1500120" y="4500720"/>
            <a:ext cx="571680" cy="571320"/>
          </a:xfrm>
          <a:prstGeom prst="flowChartConnector">
            <a:avLst/>
          </a:prstGeom>
          <a:solidFill>
            <a:srgbClr val="30acec"/>
          </a:solidFill>
          <a:ln cap="rnd" w="15840">
            <a:solidFill>
              <a:srgbClr val="207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Решите задачу несколькими способам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82800" y="266688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ндрей, Борис, Виктор и Григорий после возвращения из спортивного лагеря подарили друг другу на память свои фотографии. Причём каждый мальчик подарил каждому по 1 фотографии. Сколько всего фотографий было подарено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403280" y="0"/>
            <a:ext cx="72835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торика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дел математики, в котором изучают вопросы о том, сколько различных  комбинаций, подчинённых тем или иным условиям можно составить из данных объекто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ом объектов и расположением их в том или ином порядке приходиться заниматься чуть ли не во всех областях человеческой деятельности. Например, конструктору, разрабатывающему новую модель механизма, учёному-агроному, планирующему сельхоз культуры на нескольких полях, химику, изучающему строение молекул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332000" y="836280"/>
            <a:ext cx="7354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аналогичными задачами, получившими название комбинаторных, люди столкнулись в глубокой древности. В Китае увлекались составлением магических квадратов, в Древней Греции подсчитывали число различных комбинаций длинных и коротких слогов стихотворных размеров. Комбинаторные задачи возникли в связи с такими играми, как шашки, шахматы, карты, кости и др. Чтобы их решить, нужно было уметь подсчитывать число различных комбинаций, подчинённых тем или иным условия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ы решения комбинаторных задач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47280" y="2276640"/>
            <a:ext cx="6255000" cy="33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бор возможных вариантов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 возможных вариантов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умножен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треугольник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графов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бор возможных варианто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5640" y="1628640"/>
            <a:ext cx="8229600" cy="415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уществует двухзначных чисел, составленных из цифр: 0, 5, 8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, 50, 80, 85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4 чис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Таблицей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а, Бэла, Валентина и Галина во время майского праздника подарили друг другу по одному цветку. Причём каждая девочка подарила каждой по одному цветку. Сколько всего цветков было подарено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твет: 1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 algn="ctr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143160" y="4286160"/>
          <a:ext cx="5524560" cy="2286000"/>
        </p:xfrm>
        <a:graphic>
          <a:graphicData uri="http://schemas.openxmlformats.org/drawingml/2006/table">
            <a:tbl>
              <a:tblPr/>
              <a:tblGrid>
                <a:gridCol w="1162080"/>
                <a:gridCol w="1090800"/>
                <a:gridCol w="1090440"/>
                <a:gridCol w="1090800"/>
                <a:gridCol w="109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</a:tbl>
          </a:graphicData>
        </a:graphic>
      </p:graphicFrame>
    </p:spTree>
  </p:cSld>
  <p:transition spd="med">
    <p:zoom dir="in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рево возможных вариант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а, Борис, Виктор, и Григорий играли в шахматы. Каждый сыграл по 1 партии. Сколько сыграно партий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542960" indent="-1713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       Виктор       Григор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542960" indent="-1713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542960" indent="-1713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    Григорий      Григор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542960" indent="-1713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542960" indent="-1713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 6 парт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542960" indent="-1713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542960" indent="-1713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260" name="Прямая со стрелкой 13"/>
          <p:cNvCxnSpPr/>
          <p:nvPr/>
        </p:nvCxnSpPr>
        <p:spPr>
          <a:xfrm flipH="1">
            <a:off x="2785320" y="3642120"/>
            <a:ext cx="1072440" cy="42948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1" name="Прямая со стрелкой 15"/>
          <p:cNvCxnSpPr/>
          <p:nvPr/>
        </p:nvCxnSpPr>
        <p:spPr>
          <a:xfrm>
            <a:off x="5214600" y="3642840"/>
            <a:ext cx="1072440" cy="35820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2" name="Прямая со стрелкой 19"/>
          <p:cNvCxnSpPr/>
          <p:nvPr/>
        </p:nvCxnSpPr>
        <p:spPr>
          <a:xfrm flipH="1">
            <a:off x="1999440" y="4428720"/>
            <a:ext cx="429480" cy="71532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3" name="Прямая со стрелкой 21"/>
          <p:cNvCxnSpPr/>
          <p:nvPr/>
        </p:nvCxnSpPr>
        <p:spPr>
          <a:xfrm>
            <a:off x="2571480" y="4500720"/>
            <a:ext cx="1572120" cy="64332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4" name="Прямая со стрелкой 25"/>
          <p:cNvCxnSpPr/>
          <p:nvPr/>
        </p:nvCxnSpPr>
        <p:spPr>
          <a:xfrm>
            <a:off x="4857480" y="4428720"/>
            <a:ext cx="1429560" cy="78660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5" name="Прямая со стрелкой 29"/>
          <p:cNvCxnSpPr/>
          <p:nvPr/>
        </p:nvCxnSpPr>
        <p:spPr>
          <a:xfrm flipH="1">
            <a:off x="4498200" y="3716280"/>
            <a:ext cx="2520" cy="357840"/>
          </a:xfrm>
          <a:prstGeom prst="straightConnector1">
            <a:avLst/>
          </a:prstGeom>
          <a:ln cap="rnd" w="9360">
            <a:solidFill>
              <a:srgbClr val="add2f4"/>
            </a:solidFill>
            <a:miter/>
            <a:headEnd len="med" type="arrow" w="med"/>
            <a:tailEnd len="med" type="arrow" w="med"/>
          </a:ln>
        </p:spPr>
      </p:cxnSp>
    </p:spTree>
  </p:cSld>
  <p:transition spd="med"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умножени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55640" y="9284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ню в столовой предложены на выбор 3 первых блюда, 5 вторых и 4 третьих блюд. Сколько различных вариантов обедов, состоящих из 1 первого, 1 второго и 1 третьего блюда, можно составить из предложенного меню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5*4=6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60 блю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1476360" y="414972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ого, чтобы найти число всех возможных комбинаций, состоящих из двух составляющих событий A и B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ует перемножить число всех возможных вариантов выбора события  A на количество возможных вариантов выбора события B.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*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 треугольни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тились 5 приятелей и обменялись рукопожатиями. Сколько всего сделано рукопожатий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2   3   4   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-     +   +   +   +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-     -    +   +   +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-     -    -    +   +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-     -    -    -    +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-     -     -    -    -      Ответ: 10 рукопожат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5:48:20Z</dcterms:created>
  <dc:creator>Гриша</dc:creator>
  <dc:description/>
  <dc:language>en-US</dc:language>
  <cp:lastModifiedBy>user</cp:lastModifiedBy>
  <dcterms:modified xsi:type="dcterms:W3CDTF">2020-04-06T16:16:07Z</dcterms:modified>
  <cp:revision>88</cp:revision>
  <dc:subject/>
  <dc:title>Тема урока «Комбинаторные задачи»</dc:title>
</cp:coreProperties>
</file>