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explode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media/drumro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8BB-075C-45FA-9D24-776DD1D5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929-C2AC-4A66-896D-9DA69605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D01-84F5-4F32-9528-F0902014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B3D-438C-4A1A-919C-86FD43F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164-21D3-4FF3-844C-F889EA72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5EB-E02E-4EE5-A633-A2FD6CC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88B-42DD-4721-85CA-ED5253B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089-8C29-4EC8-AB21-7BF58B5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441-F2D6-4C6D-B537-D4BC674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B3D-8D1E-4CE7-8C85-9DDFBC8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A03-4A07-42AA-AC1E-7284D69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6F2-8F6F-4EB4-B353-B828A80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475-4FB5-4E21-8C0B-88899D941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500200" y="1000080"/>
            <a:ext cx="63579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 75-летию Победы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оминация:  Конкурс презентац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«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Герои  Великой Отечественной  войны  Саратовской  области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Девушки, погибшие за на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втор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аретникова Ульяна Геннадьевна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итель начальных классов, МОУ «Лицей» г. Балашова Саратовской обла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928960" y="428760"/>
            <a:ext cx="585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гиональный интернет-конкурс творческих работ «Победа народа в сердцах поколений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Букоткин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ария Васильев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5800" y="1071720"/>
            <a:ext cx="4643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рожде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 Полухино Аркадакского района Саратовской обла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ар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лась в 1921 г. в семье крестьянина, родители  работали в колхозе. В семье было трое детей. Дети были разными. Мария всюду успевала, всё хотела уметь и знать. Она была ловкая, крепкая, решительная. Любовь и уважение к людям Мария впитала с детства. Закончила 7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 началом  войны работала дояркой. Работала и при молотьбе: гоняла лошадей по кругу, пасла овец, принимала участие в прополке, в боронова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Великой Отечественной войны воевали  девушки и  женщины. Среди них была Маруся Букотки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о призыва: Аркадакский РВК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C:\Users\user\Desktop\война и семья\14 октября\Маслова дала\Букоткина Мария Вас..jpg"/>
          <p:cNvPicPr/>
          <p:nvPr/>
        </p:nvPicPr>
        <p:blipFill>
          <a:blip r:embed="rId1"/>
          <a:stretch/>
        </p:blipFill>
        <p:spPr>
          <a:xfrm>
            <a:off x="785880" y="1214280"/>
            <a:ext cx="359388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нига Памя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320" y="928440"/>
            <a:ext cx="3786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оссийская Феде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аратовск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нига Памя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м 10, стр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ар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егиональное Приволжское издатель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Детская Книг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ополнительные списки к 2-му то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ркадакски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14520" y="999720"/>
            <a:ext cx="4714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коткина Мария Василь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хи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звана в Советскую Армию в 1943 году. Рядов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ибла в бою 27 апреля 194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хоронена с. Домброве. Бельский район, Белостокское воевод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F:\война и семья\Кн.Памяти\книга памяти.jpg"/>
          <p:cNvPicPr/>
          <p:nvPr/>
        </p:nvPicPr>
        <p:blipFill>
          <a:blip r:embed="rId1"/>
          <a:stretch/>
        </p:blipFill>
        <p:spPr>
          <a:xfrm>
            <a:off x="7728120" y="214200"/>
            <a:ext cx="1415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амятник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F:\война и семья\Памятник\20190622_075652.jpg"/>
          <p:cNvPicPr/>
          <p:nvPr/>
        </p:nvPicPr>
        <p:blipFill>
          <a:blip r:embed="rId1"/>
          <a:stretch/>
        </p:blipFill>
        <p:spPr>
          <a:xfrm>
            <a:off x="1231920" y="1906560"/>
            <a:ext cx="6221520" cy="4665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1357200" y="1143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амятнике в  с. Львовка  Аркадакского рай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ь её и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Записано со слов внучатой племянниц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АЛЕНТИНЫ ЛИСКИНОЙ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записывала в Книгу Памяти Саратовской области младшую сестру моего деда Марию, которую в семье звали Мару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Мария Васильев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ибла 27 апреля 1945 года. Моя бабушка всегда её поминала в этот день и нам с мамой наказала не забывать о ней. А как тут забудешь, ведь бабушка тоже умерла 27 апреля 1995 г.         Мать пережила дочь на 50 ле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рои  Великой Отечественной  войны  Саратовской 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Users\user\Desktop\20200311_173649.jpg"/>
          <p:cNvPicPr/>
          <p:nvPr/>
        </p:nvPicPr>
        <p:blipFill>
          <a:blip r:embed="rId1"/>
          <a:stretch/>
        </p:blipFill>
        <p:spPr>
          <a:xfrm>
            <a:off x="801720" y="1600200"/>
            <a:ext cx="334944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857760" y="128592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мьях моих землячек сохранилось только по одной фотографии. Когда я на них смотрю, вижу милые лица, молодые-молодые, но какие мудрые глаза! Постоянно думаю о том, сколько горя, боли и страдания выпало на их долю! А ведь их жизнь могла сложиться иначе. Была бы семья, были бы дети, внуки, правнуки, но всё отняла ВОЙНА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эти девушки могли перенести все трудности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герои?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а, настоящие герои!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и- Герои  Великой Отечественной  войны  Саратовской  обл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и Герои размещены в галерее «Дорога памяти» в Главном Храме Вооруженных сил Ро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лиж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75-я годовщина Побед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ского народа в Великой Отечественной войне. Мои героические землячки  внесли свой вклад в дело Победы. Они погибли за нас, всё сделали для того, чтобы наша страна победила. А мы, поколение 21 века, должны внести свой вклад в сохранение исторической памяти о Великой битве.  И мы  многое можем сдел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ы должны сохранить Память о них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ы помним, мы гордимся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C:\Users\user\Desktop\2б\Новая папка\картинка.jpg"/>
          <p:cNvPicPr/>
          <p:nvPr/>
        </p:nvPicPr>
        <p:blipFill>
          <a:blip r:embed="rId1"/>
          <a:stretch/>
        </p:blipFill>
        <p:spPr>
          <a:xfrm>
            <a:off x="6357960" y="101520"/>
            <a:ext cx="23083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ww.obd-memorial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нига Памяти. Саратовская обл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nsportal.ru/shkola/raznoe/library/2018/04/30/vcherashnyaya-shkolnitsa-sovershila-geroicheskiy-postup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годы войны саратовц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4296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ды войны саратовцы совершили настоящий боевой подвиг во имя Победы. Велики их жертвы. Они, павшие в боях, заслужили светлую и вечную память народа. Более 530 тысяч саратовцев, каждый четвёртый житель , с оружием в руках сражались с немецко-фашистскими захватчи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Великой Отечественной войны — тысячи женских лиц. Лиц девушек, ушедших на фронт. Военкомы призывали в Красную Армию самых здоровых, самых образованных девушек и молодых женщин в возрасте не моложе 18 л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они оказались настоящими героями. Это были храбрые, стойкие, выносливые, надёжные бойцы. Основная масса девушек были доброволь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билизация проводилась под контролем ЦК ВЛКСМ и местных комсомольских организаций. При этом учитывалось всё: образование (желательно, не ниже 5 классов), членство в комсомоле, состояние здоровья, отсутствие дет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реди них были мои землячки, молодые девушки, полные жизни и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любви. О них мой рассказ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8 апреля - памятная дата календаря Воинской славы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зета «Балашовская правд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56800" y="1143000"/>
            <a:ext cx="4071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т день в 1942 году в г. Ртищево Саратовской области был сформирован 100-й отдельный батальон воздушного наблюдения оповещения и связи (100 ОБ ВНОС) из числа девушек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них была и наша землячка Вера Павловна Тимофее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user\Desktop\gazeta_vera_timofeeva.jpg"/>
          <p:cNvPicPr/>
          <p:nvPr/>
        </p:nvPicPr>
        <p:blipFill>
          <a:blip r:embed="rId1"/>
          <a:stretch/>
        </p:blipFill>
        <p:spPr>
          <a:xfrm>
            <a:off x="4970520" y="1322280"/>
            <a:ext cx="36021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0-й баталь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14240" y="1214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100-й батальон была возложена задача по охране Саратова, Балашова, Ртищева, Пенз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43 году 100-й отдельный батальон перебазировался на Украину, и в числе других воинских частей освобождал ее от немецких захватч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е боевое крещение девушки приняли в городе Фастов, недалеко от Харькова. На станции стояло четыре состава: три из них с бойцами, едущими на фронт, и один санитарный, который вез тяжелораненых в ты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янка поездов затянулась. Бойцы вышли на перрон, организовав как бы минуту отдыха. Но вдруг всё небо закрыли вражеские самолеты. Они летели так низко, что можно было видеть оскал зубов сидящего в кабине немецкого пил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ась бомбежка. Состав с девушками 100-го батальона стоял на первом пути, и его успели оттянуть подальше от стан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зве погибнуть ты нам завещала, Родина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Жизнь обещала, любовь обещала, Родин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85520" y="1143000"/>
            <a:ext cx="8358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примерно получасовой бомбежки станция и её окрестности были усеяны трупами. Из прорешеченного санитарного поезда струйками стекала на железнодорожное полотно кровь. Девушкам «строго» было дано задание: привести станцию и прилегающую к ней территорию в поряд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ями освобождали Житомир, Коростень, Шепетовку и другие населенные пункты Украины. Вчерашние школьницы совершали поистине героические поступки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Львовом героически погибла от рук бандеровцев радистка Вера Тимофеева. Пытаясь заполучить от неё нужные им сведения, они подвергли девушку жестоким пыткам. Спустя две недели её истерзанное тело нашли в лесу со штыком в сердце и проколотым комсомольским билетом. Первый листочек с данными о себе она успела вырвать и сже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имофеева Вера Павл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8640" y="1071720"/>
            <a:ext cx="5257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инское звание:мл. сержан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 рождения:19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 рождентия:Саратовская обл., г. Балаш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о служб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8 корп. ПВО 100 сб ВНОС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о призыв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Балашовский РВК, Саратовская обл., Балашовский р-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попала в п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аинская ССР, Черкасская обл., г. Чиги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user\Desktop\v.p.timofeeva.jpg"/>
          <p:cNvPicPr/>
          <p:nvPr/>
        </p:nvPicPr>
        <p:blipFill>
          <a:blip r:embed="rId1"/>
          <a:stretch/>
        </p:blipFill>
        <p:spPr>
          <a:xfrm>
            <a:off x="1241280" y="1600200"/>
            <a:ext cx="247032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fullimage.jpg"/>
          <p:cNvPicPr/>
          <p:nvPr/>
        </p:nvPicPr>
        <p:blipFill>
          <a:blip r:embed="rId2"/>
          <a:stretch/>
        </p:blipFill>
        <p:spPr>
          <a:xfrm>
            <a:off x="0" y="5767560"/>
            <a:ext cx="91440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ая она была Вера Павловна Тимофеев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132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а родилас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2 апреля 1922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алашове. В семье было трое детей – девочки Вера, Надежда, Любов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а была старшим ребёнком  в семье. С детства познала нужду. Помогала родителям по хозяй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сивая, весёлая, жизнерадостная. Жили в районе улицы Коммунистическая. Успешно окончила городскую школу № 7, тогда это была школа № 49. Учиться очень любила, получила образование и поступила в железнодорожное училищ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его окончания пошла работать на железную дорогу. Там же работал и её отец, Павел Парфёнович Тимофе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ась Великая Отечественная война. С подружками – одноклассницами Вера ушла на фронт добровольцем в 1941 году. Была радисткой, потом начальником радиостанции НП (наблюдательный пунк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оевала на Западном фронт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5520" y="1285560"/>
            <a:ext cx="7900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евала на Западном фронте. В лесах Житомирской области их подстерегали разные опасности: полицейские, провокаторы, националисты. Жили, не снимая сапог ни днём, ни ночью... Постоянно шли наступательные и оборонительные бои. Теряли товарищей, обретали новых. Однажды подружка ушла в соседнюю деревню. Вере по рации сообщили, что в лесу появились бандеровцы. Запретили выходить из леса, но Вера пошла предупредить подругу. Было это 13 апреля 1944 года. Она была схвачена бандеровцами и зверски замуче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гибла 15 апреля 1944 года. Награждена посмертно Орденом Отечественной войны первой степени. Одно время пионерская дружина школы № 7 носила её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ная сестра Веры Павловны жива. Это моя землячка Надежда Павловна Мухина, которая живёт  в г. Балашове на ул. Б. Революцион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мье Надежды Павловны- две Веры: дочь и внучка, так  имя сестры продолжает жить в потом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йт «Мемориал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2960" y="928440"/>
            <a:ext cx="3852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 из донесения о безвозвратных потер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39284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мил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Тимофее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Павл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рож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Саратовская обл., г. Балаш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призы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Балашовский РВК, Саратовская обл., Балашовский р-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нее место служб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8 корп. ПВО 100 сб ВН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инское з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мл. сержа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 выбы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попал в п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выбы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04.04.19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ер дела источника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УЛЬЯНА\Балашов\Фото1504.jpg"/>
          <p:cNvPicPr/>
          <p:nvPr/>
        </p:nvPicPr>
        <p:blipFill>
          <a:blip r:embed="rId1"/>
          <a:stretch/>
        </p:blipFill>
        <p:spPr>
          <a:xfrm>
            <a:off x="5060880" y="1600200"/>
            <a:ext cx="32130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5072040" y="8571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мориальная доска  на здании школы №7 г. Балашова, в которой до войны училась Вера Тимофее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20-04-06T07:30:11Z</dcterms:modified>
  <cp:revision>71</cp:revision>
  <dc:subject/>
  <dc:title>Слайд 1</dc:title>
</cp:coreProperties>
</file>