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5A4-3E89-452F-B34A-34B6F39A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FA1-B3F8-4228-B239-863782DB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53F-FFFE-4AA6-9FCE-AF091D70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E61-7D7C-461E-AD14-373DA23D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446-52E9-4F23-9AEE-40B4D55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A89-9905-4673-8D07-2C98B61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B1F-53EA-4BEF-A585-C53767B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A70-F691-4C39-A674-56D58116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5A6-C052-469A-BBEC-A2574B2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0B3-3CD5-4CDE-9B37-1B49C83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E9B-D3DF-4C29-A4C7-912BD64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782-F46A-4F3B-8536-7A18D2E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F6BC-E0B8-4FCF-9D04-E6122F6EC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36400" y="444600"/>
            <a:ext cx="8017200" cy="145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358720" y="3868560"/>
            <a:ext cx="467820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заголовок слай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дс№8\Desktop\Camera\юные таланты\IMG_20160427_100928.jpg"/>
          <p:cNvPicPr/>
          <p:nvPr/>
        </p:nvPicPr>
        <p:blipFill>
          <a:blip r:embed="rId2"/>
          <a:stretch/>
        </p:blipFill>
        <p:spPr>
          <a:xfrm>
            <a:off x="2286000" y="1903320"/>
            <a:ext cx="5786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Picture 2" descr="C:\Users\дс№8\Desktop\Camera\юные таланты\IMG_20160427_091952.jpg"/>
          <p:cNvPicPr/>
          <p:nvPr/>
        </p:nvPicPr>
        <p:blipFill>
          <a:blip r:embed="rId1"/>
          <a:stretch/>
        </p:blipFill>
        <p:spPr>
          <a:xfrm>
            <a:off x="222120" y="219240"/>
            <a:ext cx="4519800" cy="338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дс№8\Desktop\Camera\юные таланты\IMG_20160427_093032.jpg"/>
          <p:cNvPicPr/>
          <p:nvPr/>
        </p:nvPicPr>
        <p:blipFill>
          <a:blip r:embed="rId2"/>
          <a:stretch/>
        </p:blipFill>
        <p:spPr>
          <a:xfrm>
            <a:off x="4551480" y="3354480"/>
            <a:ext cx="44100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3" descr="C:\Users\дс№8\Desktop\Camera\юные таланты\IMG_20160427_093005.jpg"/>
          <p:cNvPicPr/>
          <p:nvPr/>
        </p:nvPicPr>
        <p:blipFill>
          <a:blip r:embed="rId1"/>
          <a:stretch/>
        </p:blipFill>
        <p:spPr>
          <a:xfrm>
            <a:off x="210960" y="219240"/>
            <a:ext cx="4462560" cy="334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дс№8\Desktop\Camera\юные таланты\IMG_20160427_103643.jpg"/>
          <p:cNvPicPr/>
          <p:nvPr/>
        </p:nvPicPr>
        <p:blipFill>
          <a:blip r:embed="rId2"/>
          <a:stretch/>
        </p:blipFill>
        <p:spPr>
          <a:xfrm>
            <a:off x="4506840" y="3265560"/>
            <a:ext cx="44402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номинация «Мы рисуем мир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частники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фимова Люба 6 лет МБДОУ №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дс№8\Desktop\Camera\юные таланты\IMG_20160429_104553.jpg"/>
          <p:cNvPicPr/>
          <p:nvPr/>
        </p:nvPicPr>
        <p:blipFill>
          <a:blip r:embed="rId1"/>
          <a:stretch/>
        </p:blipFill>
        <p:spPr>
          <a:xfrm>
            <a:off x="0" y="3160800"/>
            <a:ext cx="4406760" cy="3306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ннова Ксения 5 лет МБДОУ ЦРР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C:\Users\дс№8\Desktop\Camera\юные таланты\IMG_20160429_104707.jpg"/>
          <p:cNvPicPr/>
          <p:nvPr/>
        </p:nvPicPr>
        <p:blipFill>
          <a:blip r:embed="rId2"/>
          <a:stretch/>
        </p:blipFill>
        <p:spPr>
          <a:xfrm>
            <a:off x="4538520" y="313524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0000" y="127800"/>
            <a:ext cx="78865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ылыкова Аяна 5 лет МБДОУ - ЦРР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арокова Саша 6 лет МБДОУ - ЦРР № 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дс№8\Desktop\Camera\юные таланты\IMG_20160429_104729.jpg"/>
          <p:cNvPicPr/>
          <p:nvPr/>
        </p:nvPicPr>
        <p:blipFill>
          <a:blip r:embed="rId1"/>
          <a:stretch/>
        </p:blipFill>
        <p:spPr>
          <a:xfrm>
            <a:off x="0" y="331488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дс№8\Desktop\Camera\юные таланты\IMG_20160429_104752.jpg"/>
          <p:cNvPicPr/>
          <p:nvPr/>
        </p:nvPicPr>
        <p:blipFill>
          <a:blip r:embed="rId2"/>
          <a:stretch/>
        </p:blipFill>
        <p:spPr>
          <a:xfrm>
            <a:off x="4549680" y="3294000"/>
            <a:ext cx="4437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ямзина Ульяна 5 лет МБДОУ № 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житдоржиев Та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 лет МБДОУ № 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дс№8\Desktop\Camera\юные таланты\IMG_20160429_105038.jpg"/>
          <p:cNvPicPr/>
          <p:nvPr/>
        </p:nvPicPr>
        <p:blipFill>
          <a:blip r:embed="rId1"/>
          <a:stretch/>
        </p:blipFill>
        <p:spPr>
          <a:xfrm>
            <a:off x="4805280" y="2887560"/>
            <a:ext cx="4338720" cy="325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дс№8\Desktop\Camera\юные таланты\IMG_20160429_104810.jpg"/>
          <p:cNvPicPr/>
          <p:nvPr/>
        </p:nvPicPr>
        <p:blipFill>
          <a:blip r:embed="rId2"/>
          <a:stretch/>
        </p:blipFill>
        <p:spPr>
          <a:xfrm>
            <a:off x="0" y="2897280"/>
            <a:ext cx="42372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пикова Вероника 4 года МБДОУ № 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абханов Дугар 5 лет МБДОУ № 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дс№8\Desktop\Camera\юные таланты\IMG_20160429_104907.jpg"/>
          <p:cNvPicPr/>
          <p:nvPr/>
        </p:nvPicPr>
        <p:blipFill>
          <a:blip r:embed="rId1"/>
          <a:stretch/>
        </p:blipFill>
        <p:spPr>
          <a:xfrm>
            <a:off x="0" y="2897280"/>
            <a:ext cx="4498920" cy="337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дс№8\Desktop\Camera\юные таланты\IMG_20160429_105057.jpg"/>
          <p:cNvPicPr/>
          <p:nvPr/>
        </p:nvPicPr>
        <p:blipFill>
          <a:blip r:embed="rId2"/>
          <a:stretch/>
        </p:blipFill>
        <p:spPr>
          <a:xfrm>
            <a:off x="4629240" y="2889360"/>
            <a:ext cx="45068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номинация «Мы рисуем мир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3 мест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7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сина Настя 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ДОУ №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мофеева Яна 5 лет МБДОУ №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дс№8\Desktop\Camera\юные таланты\IMG_20160429_104521.jpg"/>
          <p:cNvPicPr/>
          <p:nvPr/>
        </p:nvPicPr>
        <p:blipFill>
          <a:blip r:embed="rId1"/>
          <a:stretch/>
        </p:blipFill>
        <p:spPr>
          <a:xfrm>
            <a:off x="195120" y="2502000"/>
            <a:ext cx="3267360" cy="43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дс№8\Desktop\Camera\юные таланты\IMG_20160429_104923.jpg"/>
          <p:cNvPicPr/>
          <p:nvPr/>
        </p:nvPicPr>
        <p:blipFill>
          <a:blip r:embed="rId2"/>
          <a:stretch/>
        </p:blipFill>
        <p:spPr>
          <a:xfrm>
            <a:off x="4237200" y="2901960"/>
            <a:ext cx="4316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720" y="1279080"/>
            <a:ext cx="3859200" cy="122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злова Даша 6 лет  МБДОУ № 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54640" y="1633680"/>
            <a:ext cx="4362480" cy="130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угульдурова Амарсана 5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ёдорова Ксения 5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ДОУ №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дс№8\Desktop\Camera\юные таланты\IMG_20160429_104948.jpg"/>
          <p:cNvPicPr/>
          <p:nvPr/>
        </p:nvPicPr>
        <p:blipFill>
          <a:blip r:embed="rId1"/>
          <a:stretch/>
        </p:blipFill>
        <p:spPr>
          <a:xfrm>
            <a:off x="0" y="3144960"/>
            <a:ext cx="4411800" cy="3308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дс№8\Desktop\Camera\юные таланты\IMG_20160429_105121.jpg"/>
          <p:cNvPicPr/>
          <p:nvPr/>
        </p:nvPicPr>
        <p:blipFill>
          <a:blip r:embed="rId2"/>
          <a:stretch/>
        </p:blipFill>
        <p:spPr>
          <a:xfrm>
            <a:off x="4629240" y="3086280"/>
            <a:ext cx="4252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номинация «Мы рисуем мир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2 мест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ышева Даша 6 лет МБДОУ №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маева Арьяна 6 лет МБДОУ №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дс№8\Desktop\Camera\юные таланты\IMG_20160429_104644.jpg"/>
          <p:cNvPicPr/>
          <p:nvPr/>
        </p:nvPicPr>
        <p:blipFill>
          <a:blip r:embed="rId1"/>
          <a:stretch/>
        </p:blipFill>
        <p:spPr>
          <a:xfrm>
            <a:off x="0" y="2554200"/>
            <a:ext cx="3227400" cy="430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дс№8\Desktop\Camera\юные таланты\IMG_20160429_104843.jpg"/>
          <p:cNvPicPr/>
          <p:nvPr/>
        </p:nvPicPr>
        <p:blipFill>
          <a:blip r:embed="rId2"/>
          <a:stretch/>
        </p:blipFill>
        <p:spPr>
          <a:xfrm>
            <a:off x="4075200" y="2695680"/>
            <a:ext cx="44416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лимзянова Саша 6 лет МБДОУ №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лдакова Яна 6 лет МБДОУ №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C:\Users\дс№8\Desktop\Camera\юные таланты\IMG_20160429_105438.jpg"/>
          <p:cNvPicPr/>
          <p:nvPr/>
        </p:nvPicPr>
        <p:blipFill>
          <a:blip r:embed="rId1"/>
          <a:stretch/>
        </p:blipFill>
        <p:spPr>
          <a:xfrm>
            <a:off x="4510080" y="3019320"/>
            <a:ext cx="4438800" cy="33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дс№8\Desktop\Camera\юные таланты\IMG_20160510_125453.jpg"/>
          <p:cNvPicPr/>
          <p:nvPr/>
        </p:nvPicPr>
        <p:blipFill>
          <a:blip r:embed="rId2"/>
          <a:stretch/>
        </p:blipFill>
        <p:spPr>
          <a:xfrm>
            <a:off x="0" y="3017880"/>
            <a:ext cx="44416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участники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4" descr="C:\Users\дс№8\Desktop\Camera\юные таланты\IMG_20160427_100631.jpg"/>
          <p:cNvPicPr/>
          <p:nvPr/>
        </p:nvPicPr>
        <p:blipFill>
          <a:blip r:embed="rId1"/>
          <a:stretch/>
        </p:blipFill>
        <p:spPr>
          <a:xfrm>
            <a:off x="2193840" y="1785960"/>
            <a:ext cx="62056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номинация «Мы рисуем мир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 Light"/>
              </a:rPr>
              <a:t>1 мест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ргенова Айсулу 7 лет МБДОУ №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йлова Милена 6 лет МБДОУ №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Users\дс№8\Desktop\Camera\IMG_20160510_124717.jpg"/>
          <p:cNvPicPr/>
          <p:nvPr/>
        </p:nvPicPr>
        <p:blipFill>
          <a:blip r:embed="rId1"/>
          <a:stretch/>
        </p:blipFill>
        <p:spPr>
          <a:xfrm>
            <a:off x="104760" y="2897280"/>
            <a:ext cx="4394160" cy="329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дс№8\Desktop\Camera\юные таланты\IMG_20160429_105012.jpg"/>
          <p:cNvPicPr/>
          <p:nvPr/>
        </p:nvPicPr>
        <p:blipFill>
          <a:blip r:embed="rId2"/>
          <a:stretch/>
        </p:blipFill>
        <p:spPr>
          <a:xfrm>
            <a:off x="4629240" y="288936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95040"/>
            <a:ext cx="78865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0000" y="797040"/>
            <a:ext cx="75992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нских Алина 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рофеева Рита 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ченко Ксюша 7 л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ДОУ ЦРР №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дс№8\Desktop\Camera\юные таланты\IMG_20160429_105152.jpg"/>
          <p:cNvPicPr/>
          <p:nvPr/>
        </p:nvPicPr>
        <p:blipFill>
          <a:blip r:embed="rId1"/>
          <a:stretch/>
        </p:blipFill>
        <p:spPr>
          <a:xfrm>
            <a:off x="2878200" y="2273400"/>
            <a:ext cx="58690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номинац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«Пластилиновый мир»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участник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7160" y="1893600"/>
            <a:ext cx="39114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лданова Надя 6 лет МБДОУ №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6800" y="2076480"/>
            <a:ext cx="387972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трофанова Ксения 6 лет МБДОУ №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дс№8\Desktop\Camera\юные таланты\IMG_20160429_111051.jpg"/>
          <p:cNvPicPr/>
          <p:nvPr/>
        </p:nvPicPr>
        <p:blipFill>
          <a:blip r:embed="rId1"/>
          <a:stretch/>
        </p:blipFill>
        <p:spPr>
          <a:xfrm>
            <a:off x="0" y="3222720"/>
            <a:ext cx="4341960" cy="325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дс№8\Desktop\Camera\юные таланты\IMG_20160429_103848.jpg"/>
          <p:cNvPicPr/>
          <p:nvPr/>
        </p:nvPicPr>
        <p:blipFill>
          <a:blip r:embed="rId2"/>
          <a:stretch/>
        </p:blipFill>
        <p:spPr>
          <a:xfrm>
            <a:off x="4799160" y="320364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урваа Алдар 5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ДОУ ЦРР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скалюк Тимофей 5 лет МБДОУ № 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дс№8\Desktop\Camera\юные таланты\IMG_20160429_103755.jpg"/>
          <p:cNvPicPr/>
          <p:nvPr/>
        </p:nvPicPr>
        <p:blipFill>
          <a:blip r:embed="rId1"/>
          <a:stretch/>
        </p:blipFill>
        <p:spPr>
          <a:xfrm>
            <a:off x="0" y="3222720"/>
            <a:ext cx="4479840" cy="336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дс№8\Desktop\Camera\юные таланты\IMG_20160429_104400.jpg"/>
          <p:cNvPicPr/>
          <p:nvPr/>
        </p:nvPicPr>
        <p:blipFill>
          <a:blip r:embed="rId2"/>
          <a:stretch/>
        </p:blipFill>
        <p:spPr>
          <a:xfrm>
            <a:off x="4551480" y="3216240"/>
            <a:ext cx="43495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номинац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«Пластилиновый мир»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3 мест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0360" y="1681200"/>
            <a:ext cx="386856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тчесов Влад 6 лет МБДОУ №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4560" y="1763280"/>
            <a:ext cx="389232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ватов Саша 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БДОУ №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дс№8\Desktop\Camera\юные таланты\IMG_20160429_110446.jpg"/>
          <p:cNvPicPr/>
          <p:nvPr/>
        </p:nvPicPr>
        <p:blipFill>
          <a:blip r:embed="rId1"/>
          <a:stretch/>
        </p:blipFill>
        <p:spPr>
          <a:xfrm>
            <a:off x="0" y="3132000"/>
            <a:ext cx="4514760" cy="33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дс№8\Desktop\Camera\юные таланты\IMG_20160429_111746.jpg"/>
          <p:cNvPicPr/>
          <p:nvPr/>
        </p:nvPicPr>
        <p:blipFill>
          <a:blip r:embed="rId2"/>
          <a:stretch/>
        </p:blipFill>
        <p:spPr>
          <a:xfrm>
            <a:off x="4456080" y="3095640"/>
            <a:ext cx="4494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номинац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«Пластилиновый мир»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2 мест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2840" y="1681200"/>
            <a:ext cx="41860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цев Артур 5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нёва Арина 6 лет МБДОУ №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9000" y="1828440"/>
            <a:ext cx="417996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шицыренова Алтана 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лыгостева Ульяна 7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ДОУ ЦРР №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C:\Users\дс№8\Desktop\Camera\юные таланты\IMG_20160429_111304.jpg"/>
          <p:cNvPicPr/>
          <p:nvPr/>
        </p:nvPicPr>
        <p:blipFill>
          <a:blip r:embed="rId1"/>
          <a:stretch/>
        </p:blipFill>
        <p:spPr>
          <a:xfrm>
            <a:off x="4316400" y="3359160"/>
            <a:ext cx="4349880" cy="326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96800" y="2685960"/>
            <a:ext cx="31352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номинац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«Пластилиновый мир»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1 мест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дс№8\Desktop\Camera\юные таланты\IMG_20160429_111357.jpg"/>
          <p:cNvPicPr/>
          <p:nvPr/>
        </p:nvPicPr>
        <p:blipFill>
          <a:blip r:embed="rId1"/>
          <a:stretch/>
        </p:blipFill>
        <p:spPr>
          <a:xfrm>
            <a:off x="1266840" y="1706400"/>
            <a:ext cx="655812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номинация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«Пластилиновый мир»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 Light"/>
              </a:rPr>
              <a:t>1 мест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0360" y="1681200"/>
            <a:ext cx="787392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пурная Аня 6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таренко Кирилл 6 лет МБДОУ №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:\Users\дс№8\Desktop\Camera\юные таланты\IMG_20160429_110212.jpg"/>
          <p:cNvPicPr/>
          <p:nvPr/>
        </p:nvPicPr>
        <p:blipFill>
          <a:blip r:embed="rId1"/>
          <a:stretch/>
        </p:blipFill>
        <p:spPr>
          <a:xfrm>
            <a:off x="4629240" y="288936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дс№8\Desktop\Camera\юные таланты\IMG_20160429_110220.jpg"/>
          <p:cNvPicPr/>
          <p:nvPr/>
        </p:nvPicPr>
        <p:blipFill>
          <a:blip r:embed="rId2"/>
          <a:stretch/>
        </p:blipFill>
        <p:spPr>
          <a:xfrm>
            <a:off x="630360" y="2897280"/>
            <a:ext cx="38685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БДОУ № 1, МБДОУ № 5, МБДОУ № 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Picture 2" descr="C:\Users\дс№8\Desktop\Camera\юные таланты\IMG_20160426_100220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3" descr="C:\Users\дс№8\Desktop\Camera\юные таланты\IMG_20160426_102551.jpg"/>
          <p:cNvPicPr/>
          <p:nvPr/>
        </p:nvPicPr>
        <p:blipFill>
          <a:blip r:embed="rId1"/>
          <a:stretch/>
        </p:blipFill>
        <p:spPr>
          <a:xfrm>
            <a:off x="223920" y="3240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дс№8\Desktop\Camera\юные таланты\IMG_20160426_102529.jpg"/>
          <p:cNvPicPr/>
          <p:nvPr/>
        </p:nvPicPr>
        <p:blipFill>
          <a:blip r:embed="rId2"/>
          <a:stretch/>
        </p:blipFill>
        <p:spPr>
          <a:xfrm>
            <a:off x="4589640" y="2938320"/>
            <a:ext cx="433512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БДОУ № 8, МБДОУ № 14, МБДОУ ЦРР № 1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Picture 2" descr="C:\Users\дс№8\Desktop\Camera\юные таланты\IMG_20160426_111726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4" descr="C:\Users\дс№8\Desktop\Camera\юные таланты\IMG_20160426_093828.jpg"/>
          <p:cNvPicPr/>
          <p:nvPr/>
        </p:nvPicPr>
        <p:blipFill>
          <a:blip r:embed="rId1"/>
          <a:stretch/>
        </p:blipFill>
        <p:spPr>
          <a:xfrm>
            <a:off x="380880" y="1407960"/>
            <a:ext cx="421956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дс№8\Desktop\Camera\юные таланты\IMG_20160426_091641.jpg"/>
          <p:cNvPicPr/>
          <p:nvPr/>
        </p:nvPicPr>
        <p:blipFill>
          <a:blip r:embed="rId2"/>
          <a:stretch/>
        </p:blipFill>
        <p:spPr>
          <a:xfrm>
            <a:off x="4851360" y="3510000"/>
            <a:ext cx="42195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БДОУ № 8, МБДОУ № 10, МБДОУ ЦРР № 1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Picture 2" descr="C:\Users\дс№8\Desktop\Camera\юные таланты\IMG_20160427_100928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4" descr="C:\Users\дс№8\Desktop\Camera\юные таланты\IMG_20160426_105120.jpg"/>
          <p:cNvPicPr/>
          <p:nvPr/>
        </p:nvPicPr>
        <p:blipFill>
          <a:blip r:embed="rId1"/>
          <a:stretch/>
        </p:blipFill>
        <p:spPr>
          <a:xfrm>
            <a:off x="223920" y="192240"/>
            <a:ext cx="4255920" cy="319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дс№8\Desktop\Camera\юные таланты\IMG_20160426_105052.jpg"/>
          <p:cNvPicPr/>
          <p:nvPr/>
        </p:nvPicPr>
        <p:blipFill>
          <a:blip r:embed="rId2"/>
          <a:stretch/>
        </p:blipFill>
        <p:spPr>
          <a:xfrm>
            <a:off x="4603680" y="3340080"/>
            <a:ext cx="43401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БДОУ № 11, МБДОУ № 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Picture 2" descr="C:\Users\дс№8\Desktop\Camera\юные таланты\IMG_20160427_112007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0:01:15Z</dcterms:created>
  <dc:creator>Инна</dc:creator>
  <dc:description/>
  <dc:language>en-US</dc:language>
  <cp:lastModifiedBy>User</cp:lastModifiedBy>
  <dcterms:modified xsi:type="dcterms:W3CDTF">2020-04-06T02:40:14Z</dcterms:modified>
  <cp:revision>43</cp:revision>
  <dc:subject/>
  <dc:title>Название презентации</dc:title>
</cp:coreProperties>
</file>