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FB55-64D4-4546-BB29-61F59B3E3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7B29-9F8D-44E2-9774-D245D9B3C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3F2B8-5AE6-44A9-93AB-A7A05AAE8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1F17-14ED-4012-A405-7F6EAA5B6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94357-5E52-447F-B2D8-F47705FB7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D1B3-0630-4145-9B2B-8B954E697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3288-D249-449D-B129-3FB834938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9CEE6-395A-4001-A0A6-E036845907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1D715-6C9E-4C33-9032-5725C05D1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C57D-9E0F-44CB-B4D4-EFCD214E8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31A46-3B68-4083-BD3E-10D7EACF3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6E8-7CD8-4199-8ABD-A80DEEE74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2eeff"/>
            </a:gs>
            <a:gs pos="100000">
              <a:srgbClr val="cce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DA6C-360F-4AF5-9079-D41599F51B4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9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WordArt 4"/>
          <p:cNvSpPr txBox="1"/>
          <p:nvPr/>
        </p:nvSpPr>
        <p:spPr>
          <a:xfrm>
            <a:off x="1981080" y="914400"/>
            <a:ext cx="5791320" cy="25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Однокоренные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(родственные ) 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00"/>
                    </a:gs>
                    <a:gs pos="50000">
                      <a:srgbClr val="ffff00"/>
                    </a:gs>
                    <a:gs pos="100000">
                      <a:srgbClr val="ff33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слова</a:t>
            </a:r>
            <a:endParaRPr b="1" lang="en-US" sz="1800" spc="1" strike="noStrike">
              <a:ln w="1260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00"/>
                  </a:gs>
                  <a:gs pos="50000">
                    <a:srgbClr val="ffff00"/>
                  </a:gs>
                  <a:gs pos="100000">
                    <a:srgbClr val="ff3300"/>
                  </a:gs>
                </a:gsLst>
                <a:lin ang="5400000"/>
              </a:gra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43" name="AutoShape 7">
            <a:hlinkClick r:id="" action="ppaction://hlinkshowjump?jump=nextslide"/>
          </p:cNvPr>
          <p:cNvSpPr/>
          <p:nvPr/>
        </p:nvSpPr>
        <p:spPr>
          <a:xfrm>
            <a:off x="0" y="3657600"/>
            <a:ext cx="4724280" cy="3200400"/>
          </a:xfrm>
          <a:custGeom>
            <a:avLst/>
            <a:gdLst>
              <a:gd name="textAreaLeft" fmla="*/ 207360 w 4724280"/>
              <a:gd name="textAreaRight" fmla="*/ 4516920 w 4724280"/>
              <a:gd name="textAreaTop" fmla="*/ 207360 h 3200400"/>
              <a:gd name="textAreaBottom" fmla="*/ 2993040 h 3200400"/>
            </a:gdLst>
            <a:ahLst/>
            <a:rect l="textAreaLeft" t="textAreaTop" r="textAreaRight" b="textAreaBottom"/>
            <a:pathLst>
              <a:path w="31884" h="21600">
                <a:moveTo>
                  <a:pt x="0" y="0"/>
                </a:moveTo>
                <a:lnTo>
                  <a:pt x="31884" y="0"/>
                </a:lnTo>
                <a:lnTo>
                  <a:pt x="31884" y="21600"/>
                </a:lnTo>
                <a:lnTo>
                  <a:pt x="0" y="21600"/>
                </a:lnTo>
                <a:close/>
              </a:path>
              <a:path fill="lightenLess" w="31884" h="21600">
                <a:moveTo>
                  <a:pt x="0" y="0"/>
                </a:moveTo>
                <a:lnTo>
                  <a:pt x="31884" y="0"/>
                </a:lnTo>
                <a:lnTo>
                  <a:pt x="30484" y="1400"/>
                </a:lnTo>
                <a:lnTo>
                  <a:pt x="1400" y="1400"/>
                </a:lnTo>
                <a:close/>
              </a:path>
              <a:path fill="darken" w="31884" h="21600">
                <a:moveTo>
                  <a:pt x="31884" y="0"/>
                </a:moveTo>
                <a:lnTo>
                  <a:pt x="31884" y="21600"/>
                </a:lnTo>
                <a:lnTo>
                  <a:pt x="30484" y="20200"/>
                </a:lnTo>
                <a:lnTo>
                  <a:pt x="30484" y="1400"/>
                </a:lnTo>
                <a:close/>
              </a:path>
              <a:path fill="darkenLess" w="31884" h="21600">
                <a:moveTo>
                  <a:pt x="3188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484" y="20200"/>
                </a:lnTo>
                <a:close/>
              </a:path>
              <a:path fill="lighten" w="3188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10"/>
          <p:cNvSpPr/>
          <p:nvPr/>
        </p:nvSpPr>
        <p:spPr>
          <a:xfrm>
            <a:off x="4952880" y="3962520"/>
            <a:ext cx="3276720" cy="70380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Чтобы начать тест, нажми на картинк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11">
            <a:hlinkClick r:id="" action="ppaction://hlinkshowjump?jump=lastslide"/>
          </p:cNvPr>
          <p:cNvSpPr/>
          <p:nvPr/>
        </p:nvSpPr>
        <p:spPr>
          <a:xfrm>
            <a:off x="8229600" y="6248520"/>
            <a:ext cx="609480" cy="457200"/>
          </a:xfrm>
          <a:custGeom>
            <a:avLst/>
            <a:gdLst>
              <a:gd name="textAreaLeft" fmla="*/ 29520 w 609480"/>
              <a:gd name="textAreaRight" fmla="*/ 579960 w 6094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8789" h="21600">
                <a:moveTo>
                  <a:pt x="0" y="0"/>
                </a:moveTo>
                <a:lnTo>
                  <a:pt x="28789" y="0"/>
                </a:lnTo>
                <a:lnTo>
                  <a:pt x="28789" y="21600"/>
                </a:lnTo>
                <a:lnTo>
                  <a:pt x="0" y="21600"/>
                </a:lnTo>
                <a:close/>
              </a:path>
              <a:path fill="lightenLess" w="28789" h="21600">
                <a:moveTo>
                  <a:pt x="0" y="0"/>
                </a:moveTo>
                <a:lnTo>
                  <a:pt x="28789" y="0"/>
                </a:lnTo>
                <a:lnTo>
                  <a:pt x="27389" y="1400"/>
                </a:lnTo>
                <a:lnTo>
                  <a:pt x="1400" y="1400"/>
                </a:lnTo>
                <a:close/>
              </a:path>
              <a:path fill="darken" w="28789" h="21600">
                <a:moveTo>
                  <a:pt x="28789" y="0"/>
                </a:moveTo>
                <a:lnTo>
                  <a:pt x="28789" y="21600"/>
                </a:lnTo>
                <a:lnTo>
                  <a:pt x="27389" y="20200"/>
                </a:lnTo>
                <a:lnTo>
                  <a:pt x="27389" y="1400"/>
                </a:lnTo>
                <a:close/>
              </a:path>
              <a:path fill="darkenLess" w="28789" h="21600">
                <a:moveTo>
                  <a:pt x="287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89" y="20200"/>
                </a:lnTo>
                <a:close/>
              </a:path>
              <a:path fill="lighten" w="287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89" h="21600">
                <a:moveTo>
                  <a:pt x="14394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8789" h="21600">
                <a:moveTo>
                  <a:pt x="15500" y="14281"/>
                </a:moveTo>
                <a:lnTo>
                  <a:pt x="15500" y="12323"/>
                </a:lnTo>
                <a:cubicBezTo>
                  <a:pt x="15500" y="11496"/>
                  <a:pt x="15830" y="10800"/>
                  <a:pt x="16431" y="10800"/>
                </a:cubicBezTo>
                <a:cubicBezTo>
                  <a:pt x="17562" y="10800"/>
                  <a:pt x="18459" y="9434"/>
                  <a:pt x="18459" y="7849"/>
                </a:cubicBezTo>
                <a:cubicBezTo>
                  <a:pt x="18459" y="5534"/>
                  <a:pt x="16605" y="3794"/>
                  <a:pt x="14394" y="3794"/>
                </a:cubicBezTo>
                <a:cubicBezTo>
                  <a:pt x="12184" y="3794"/>
                  <a:pt x="10512" y="5534"/>
                  <a:pt x="10512" y="7849"/>
                </a:cubicBezTo>
                <a:lnTo>
                  <a:pt x="12366" y="7849"/>
                </a:lnTo>
                <a:cubicBezTo>
                  <a:pt x="12366" y="6709"/>
                  <a:pt x="13289" y="5821"/>
                  <a:pt x="14394" y="5821"/>
                </a:cubicBezTo>
                <a:cubicBezTo>
                  <a:pt x="15500" y="5821"/>
                  <a:pt x="16431" y="6709"/>
                  <a:pt x="16431" y="7849"/>
                </a:cubicBezTo>
                <a:cubicBezTo>
                  <a:pt x="16431" y="8589"/>
                  <a:pt x="15961" y="9320"/>
                  <a:pt x="15500" y="9320"/>
                </a:cubicBezTo>
                <a:cubicBezTo>
                  <a:pt x="14394" y="9320"/>
                  <a:pt x="13289" y="10800"/>
                  <a:pt x="13289" y="12323"/>
                </a:cubicBezTo>
                <a:lnTo>
                  <a:pt x="13289" y="14281"/>
                </a:lnTo>
                <a:close/>
              </a:path>
            </a:pathLst>
          </a:custGeom>
          <a:solidFill>
            <a:srgbClr val="ff99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3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ДОМ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СЛЕД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7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БЕЛКА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ЧАС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МАЛЫШ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762120" y="838080"/>
            <a:ext cx="7696080" cy="113004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Подбери однокоренное слово к слову «</a:t>
            </a:r>
            <a:r>
              <a:rPr b="1" lang="ru-RU" sz="3200" spc="-1" strike="noStrike">
                <a:solidFill>
                  <a:srgbClr val="ff3300"/>
                </a:solidFill>
                <a:latin typeface="Comic Sans MS"/>
              </a:rPr>
              <a:t>УХО</a:t>
            </a:r>
            <a:r>
              <a:rPr b="1" lang="ru-RU" sz="3200" spc="-1" strike="noStrike">
                <a:solidFill>
                  <a:srgbClr val="000000"/>
                </a:solidFill>
                <a:latin typeface="Comic Sans MS"/>
              </a:rPr>
              <a:t>».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16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4"/>
          <p:cNvSpPr/>
          <p:nvPr/>
        </p:nvSpPr>
        <p:spPr>
          <a:xfrm>
            <a:off x="914400" y="1066680"/>
            <a:ext cx="3505320" cy="39888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Предыдущий результат</a:t>
            </a:r>
            <a:r>
              <a:rPr b="1" i="1" lang="ru-RU" sz="2000" spc="-1" strike="noStrike" u="sng">
                <a:solidFill>
                  <a:srgbClr val="000000"/>
                </a:solidFill>
                <a:uFillTx/>
                <a:latin typeface="Monotype Corsiv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5"/>
          <p:cNvSpPr/>
          <p:nvPr/>
        </p:nvSpPr>
        <p:spPr>
          <a:xfrm>
            <a:off x="838080" y="1676520"/>
            <a:ext cx="480060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сего заданий выполне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838080" y="2362320"/>
            <a:ext cx="480060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Выполнено вер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838080" y="3048120"/>
            <a:ext cx="480060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Процент вы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3"/>
          <p:cNvSpPr/>
          <p:nvPr/>
        </p:nvSpPr>
        <p:spPr>
          <a:xfrm>
            <a:off x="4114800" y="3733920"/>
            <a:ext cx="1523880" cy="52056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omic Sans MS"/>
              </a:rPr>
              <a:t>Оцен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8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7" name="Text Box 4"/>
          <p:cNvSpPr/>
          <p:nvPr/>
        </p:nvSpPr>
        <p:spPr>
          <a:xfrm>
            <a:off x="838080" y="914400"/>
            <a:ext cx="769644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4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ramky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762120" y="914400"/>
            <a:ext cx="7696080" cy="642600"/>
          </a:xfrm>
          <a:prstGeom prst="rect">
            <a:avLst/>
          </a:pr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omic Sans MS"/>
              </a:rPr>
              <a:t>Какое слово «лишнее»?</a:t>
            </a:r>
            <a:r>
              <a:rPr b="0" lang="ru-RU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iki.rdf.ru</dc:description>
  <dc:language>en-US</dc:language>
  <cp:lastModifiedBy>Михаил</cp:lastModifiedBy>
  <dcterms:modified xsi:type="dcterms:W3CDTF">2020-04-06T05:02:47Z</dcterms:modified>
  <cp:revision>36</cp:revision>
  <dc:subject/>
  <dc:title>Однокоренные слов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009000000000001024140</vt:lpwstr>
  </property>
  <property fmtid="{D5CDD505-2E9C-101B-9397-08002B2CF9AE}" pid="3" name="Version">
    <vt:r8>1</vt:r8>
  </property>
</Properties>
</file>