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2B84-3AA5-4EA9-A7DE-B447AAB2E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12CB-85BB-4B2E-8826-E40F15F3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A950-CC39-47A8-ADB1-3EBE11D80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3F9C-C186-449B-BE23-0E1CE95F7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B7C6-73C5-4EC6-B385-57F939EEB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F88B-AC97-45D1-953E-5E4F679B4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28C06-A013-4BA5-B876-065B936E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30D9-B991-4503-8AA9-B9601C506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B709-78BF-4889-8BBE-01770B86E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C4EF-3CB8-427A-884C-8DBB929C1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7273-B308-49C0-A215-860EEFB9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D503-45E6-4A68-BF40-7CB4D5F94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ee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B41F-3B08-439B-B253-2E9A11E42B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1981080" y="914400"/>
            <a:ext cx="57913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Однокоренные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(родственные )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слов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AutoShape 7">
            <a:hlinkClick r:id="" action="ppaction://hlinkshowjump?jump=nextslide"/>
          </p:cNvPr>
          <p:cNvSpPr/>
          <p:nvPr/>
        </p:nvSpPr>
        <p:spPr>
          <a:xfrm>
            <a:off x="0" y="3657600"/>
            <a:ext cx="4724280" cy="3200400"/>
          </a:xfrm>
          <a:custGeom>
            <a:avLst/>
            <a:gdLst>
              <a:gd name="textAreaLeft" fmla="*/ 207360 w 4724280"/>
              <a:gd name="textAreaRight" fmla="*/ 4516920 w 4724280"/>
              <a:gd name="textAreaTop" fmla="*/ 207360 h 3200400"/>
              <a:gd name="textAreaBottom" fmla="*/ 2993040 h 3200400"/>
            </a:gdLst>
            <a:ahLst/>
            <a:rect l="textAreaLeft" t="textAreaTop" r="textAreaRight" b="textAreaBottom"/>
            <a:pathLst>
              <a:path w="31884" h="21600">
                <a:moveTo>
                  <a:pt x="0" y="0"/>
                </a:moveTo>
                <a:lnTo>
                  <a:pt x="31884" y="0"/>
                </a:lnTo>
                <a:lnTo>
                  <a:pt x="31884" y="21600"/>
                </a:lnTo>
                <a:lnTo>
                  <a:pt x="0" y="21600"/>
                </a:lnTo>
                <a:close/>
              </a:path>
              <a:path fill="lightenLess" w="31884" h="21600">
                <a:moveTo>
                  <a:pt x="0" y="0"/>
                </a:moveTo>
                <a:lnTo>
                  <a:pt x="31884" y="0"/>
                </a:lnTo>
                <a:lnTo>
                  <a:pt x="30484" y="1400"/>
                </a:lnTo>
                <a:lnTo>
                  <a:pt x="1400" y="1400"/>
                </a:lnTo>
                <a:close/>
              </a:path>
              <a:path fill="darken" w="31884" h="21600">
                <a:moveTo>
                  <a:pt x="31884" y="0"/>
                </a:moveTo>
                <a:lnTo>
                  <a:pt x="31884" y="21600"/>
                </a:lnTo>
                <a:lnTo>
                  <a:pt x="30484" y="20200"/>
                </a:lnTo>
                <a:lnTo>
                  <a:pt x="30484" y="1400"/>
                </a:lnTo>
                <a:close/>
              </a:path>
              <a:path fill="darkenLess" w="31884" h="21600">
                <a:moveTo>
                  <a:pt x="31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484" y="20200"/>
                </a:lnTo>
                <a:close/>
              </a:path>
              <a:path fill="lighten" w="31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4952880" y="3962520"/>
            <a:ext cx="3276720" cy="7038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начать тест, нажми на картин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1">
            <a:hlinkClick r:id="" action="ppaction://hlinkshowjump?jump=lastslide"/>
          </p:cNvPr>
          <p:cNvSpPr/>
          <p:nvPr/>
        </p:nvSpPr>
        <p:spPr>
          <a:xfrm>
            <a:off x="822960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ff99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762120" y="838080"/>
            <a:ext cx="7696080" cy="113004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дбери однокоренное слово к слову «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ДОМ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»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762120" y="838080"/>
            <a:ext cx="7696080" cy="113004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дбери однокоренное слово к слову «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СЛЕД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»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762120" y="838080"/>
            <a:ext cx="7696080" cy="113004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дбери однокоренное слово к слову «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БЕЛКА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»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762120" y="838080"/>
            <a:ext cx="7696080" cy="113004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дбери однокоренное слово к слову «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ЧАС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»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762120" y="838080"/>
            <a:ext cx="7696080" cy="113004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дбери однокоренное слово к слову «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МАЛЫШ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»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762120" y="838080"/>
            <a:ext cx="7696080" cy="113004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дбери однокоренное слово к слову «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УХО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»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6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914400" y="1066680"/>
            <a:ext cx="3505320" cy="39888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дыдущий результат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Monotype Corsiv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838080" y="1676520"/>
            <a:ext cx="480060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его заданий выполн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838080" y="2362320"/>
            <a:ext cx="480060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полнено 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838080" y="3048120"/>
            <a:ext cx="480060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цент выпол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4114800" y="3733920"/>
            <a:ext cx="152388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ц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8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838080" y="914400"/>
            <a:ext cx="769644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акое слово «лишнее»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762120" y="914400"/>
            <a:ext cx="769608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акое слово «лишнее»?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762120" y="914400"/>
            <a:ext cx="769608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акое слово «лишнее»?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762120" y="914400"/>
            <a:ext cx="769608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акое слово «лишнее»?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762120" y="914400"/>
            <a:ext cx="769608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акое слово «лишнее»?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762120" y="914400"/>
            <a:ext cx="769608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акое слово «лишнее»?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762120" y="914400"/>
            <a:ext cx="769608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акое слово «лишнее»?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762120" y="914400"/>
            <a:ext cx="769608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акое слово «лишнее»?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iki.rdf.ru</dc:description>
  <dc:language>en-US</dc:language>
  <cp:lastModifiedBy>Михаил</cp:lastModifiedBy>
  <dcterms:modified xsi:type="dcterms:W3CDTF">2020-04-06T05:02:47Z</dcterms:modified>
  <cp:revision>36</cp:revision>
  <dc:subject/>
  <dc:title>Однокоренные сло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09000000000001024140</vt:lpwstr>
  </property>
  <property fmtid="{D5CDD505-2E9C-101B-9397-08002B2CF9AE}" pid="3" name="Version">
    <vt:r8>1</vt:r8>
  </property>
</Properties>
</file>