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780B-EA75-4C8E-A43B-28C3FC5E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B919-0411-4AFE-91AE-77377125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4811-183D-43A3-9780-FF05FACC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2709-484F-46C5-AD85-801575BB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6D2A-FCC2-49E0-B2A0-BEF8D955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A530-0D57-4945-BEE3-FB94D8EC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378A-5EA8-4EA1-9503-7E9B19DB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8990-5324-45DA-B9FB-45486203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64C1-B35A-4CD9-BBEE-652A9904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5977-EEFD-44B1-8370-65B6FB2F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BCDF-93D9-4E21-B83B-D960A77A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32E9-37DB-4D63-99BC-327AADB1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D52B-6EDD-476D-B7B6-D67BFC6C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6D11-05E8-449D-8AA1-377885E5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1595-55B5-4E9F-A34D-98FE8379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BFE8-E292-4066-AB24-155A2C98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CE49-55BA-4AA1-A3C0-95B1ED4B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7416-1778-477A-850D-CA69305A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DAFE-9D74-406D-A3DB-8F58377C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3D5F-70A3-4BD1-874F-CEEC7A55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ADB6-D6C7-4C99-AE13-9F89A11C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4C09-D22A-45C4-83DE-B44AFA81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926A-42B1-4CE8-B20B-5E29E5ED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264D-FA6D-464B-948A-1B9CD945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A754-1541-41A4-8E9D-6A5395D8A4E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6193-C6AA-4C47-8734-E83E64F9520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image" Target="../media/image70.jpeg"/><Relationship Id="rId7" Type="http://schemas.openxmlformats.org/officeDocument/2006/relationships/image" Target="../media/image71.jpeg"/><Relationship Id="rId8" Type="http://schemas.openxmlformats.org/officeDocument/2006/relationships/image" Target="../media/image72.jpeg"/><Relationship Id="rId9" Type="http://schemas.openxmlformats.org/officeDocument/2006/relationships/image" Target="../media/image73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1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1773360"/>
            <a:ext cx="532800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Arial"/>
              </a:rPr>
              <a:t>Наука и техники в Х</a:t>
            </a: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ru-RU" sz="4600" spc="-1" strike="noStrike">
                <a:solidFill>
                  <a:srgbClr val="ffffff"/>
                </a:solidFill>
                <a:latin typeface="Arial"/>
              </a:rPr>
              <a:t>Х веке.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Электровоз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Телеграф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Телевидение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адио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первое"/>
          <p:cNvPicPr/>
          <p:nvPr/>
        </p:nvPicPr>
        <p:blipFill>
          <a:blip r:embed="rId1"/>
          <a:stretch/>
        </p:blipFill>
        <p:spPr>
          <a:xfrm>
            <a:off x="985680" y="836640"/>
            <a:ext cx="2241720" cy="3313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Телефон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Томас Эдисон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эдисон2"/>
          <p:cNvPicPr/>
          <p:nvPr/>
        </p:nvPicPr>
        <p:blipFill>
          <a:blip r:embed="rId1"/>
          <a:stretch/>
        </p:blipFill>
        <p:spPr>
          <a:xfrm>
            <a:off x="3059280" y="1628640"/>
            <a:ext cx="1963440" cy="251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эдисон5"/>
          <p:cNvPicPr/>
          <p:nvPr/>
        </p:nvPicPr>
        <p:blipFill>
          <a:blip r:embed="rId2"/>
          <a:stretch/>
        </p:blipFill>
        <p:spPr>
          <a:xfrm>
            <a:off x="1116000" y="148428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эдисон1"/>
          <p:cNvPicPr/>
          <p:nvPr/>
        </p:nvPicPr>
        <p:blipFill>
          <a:blip r:embed="rId4"/>
          <a:stretch/>
        </p:blipFill>
        <p:spPr>
          <a:xfrm>
            <a:off x="826920" y="4005360"/>
            <a:ext cx="1238400" cy="1944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5003640" y="3500280"/>
            <a:ext cx="120492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магнитофон"/>
          <p:cNvPicPr/>
          <p:nvPr/>
        </p:nvPicPr>
        <p:blipFill>
          <a:blip r:embed="rId6"/>
          <a:stretch/>
        </p:blipFill>
        <p:spPr>
          <a:xfrm>
            <a:off x="6443640" y="4653000"/>
            <a:ext cx="158436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машиностро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машины1"/>
          <p:cNvPicPr/>
          <p:nvPr/>
        </p:nvPicPr>
        <p:blipFill>
          <a:blip r:embed="rId1"/>
          <a:stretch/>
        </p:blipFill>
        <p:spPr>
          <a:xfrm>
            <a:off x="3132000" y="1916280"/>
            <a:ext cx="2305080" cy="1563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машины4"/>
          <p:cNvPicPr/>
          <p:nvPr/>
        </p:nvPicPr>
        <p:blipFill>
          <a:blip r:embed="rId3"/>
          <a:stretch/>
        </p:blipFill>
        <p:spPr>
          <a:xfrm>
            <a:off x="755640" y="1844640"/>
            <a:ext cx="2160720" cy="1627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машины2"/>
          <p:cNvPicPr/>
          <p:nvPr/>
        </p:nvPicPr>
        <p:blipFill>
          <a:blip r:embed="rId6"/>
          <a:stretch/>
        </p:blipFill>
        <p:spPr>
          <a:xfrm>
            <a:off x="3203640" y="378936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овременные автомобил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виация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инематограф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атья Люм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Лампа накалива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аровой двигатель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аровоз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ароход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home</cp:lastModifiedBy>
  <dcterms:modified xsi:type="dcterms:W3CDTF">2020-04-06T08:40:07Z</dcterms:modified>
  <cp:revision>8</cp:revision>
  <dc:subject/>
  <dc:title>Урок - семинар</dc:title>
</cp:coreProperties>
</file>