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A12-47DC-4AF6-91E6-3D261C4F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039-7D87-40DA-96DA-B5DC4FF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4D4-429A-4168-8181-0A6F4871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16E-1921-4AE6-BCFB-E89DCD6C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9EE8-5B12-4C6D-9BC7-E5D9A470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7D6E-B7CF-4F68-85E3-C4CC2E96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F4DC-A6E9-49FF-9DFA-A964589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6710-0979-4B49-B220-81C6DB9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BB7F-2258-42BD-BBD9-C66BB40F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098-1CEB-4F8C-987D-DBF8A75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E8B4-1441-410B-AC33-70B285A7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95C-DCD1-4972-B713-D815DA9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1324-392C-4A08-9259-640865C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0CFD-8E21-44E2-802D-0DF4A0A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A747-EB02-4923-92AC-AE0337D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6CCB-671F-4A23-81A7-C757C17C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9E9B-9900-4EE4-A100-CD68D750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B10-D335-46C7-8EFD-4A704C0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B4E-2BA4-400F-BC20-9B2FF58D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E0B-5827-4B14-85EA-10AB1DEF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2F8-305A-4A38-9001-7987B81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623-85B0-4EB0-830E-75A1A5C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1AB-63AE-474E-A313-B001244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E09-789E-4200-B4D2-182089D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76C-820D-4807-AC16-E05D75681F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CAA7-B501-4BAC-9455-9C81108A81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image" Target="../media/image72.jpeg"/><Relationship Id="rId9" Type="http://schemas.openxmlformats.org/officeDocument/2006/relationships/image" Target="../media/image7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773360"/>
            <a:ext cx="5328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Наука и техники в Х</a:t>
            </a: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Х веке.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лектровоз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легра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левидение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дио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первое"/>
          <p:cNvPicPr/>
          <p:nvPr/>
        </p:nvPicPr>
        <p:blipFill>
          <a:blip r:embed="rId1"/>
          <a:stretch/>
        </p:blipFill>
        <p:spPr>
          <a:xfrm>
            <a:off x="985680" y="836640"/>
            <a:ext cx="2241720" cy="331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лефо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омас Эдисо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эдисон2"/>
          <p:cNvPicPr/>
          <p:nvPr/>
        </p:nvPicPr>
        <p:blipFill>
          <a:blip r:embed="rId1"/>
          <a:stretch/>
        </p:blipFill>
        <p:spPr>
          <a:xfrm>
            <a:off x="3059280" y="1628640"/>
            <a:ext cx="196344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эдисон5"/>
          <p:cNvPicPr/>
          <p:nvPr/>
        </p:nvPicPr>
        <p:blipFill>
          <a:blip r:embed="rId2"/>
          <a:stretch/>
        </p:blipFill>
        <p:spPr>
          <a:xfrm>
            <a:off x="1116000" y="148428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эдисон1"/>
          <p:cNvPicPr/>
          <p:nvPr/>
        </p:nvPicPr>
        <p:blipFill>
          <a:blip r:embed="rId4"/>
          <a:stretch/>
        </p:blipFill>
        <p:spPr>
          <a:xfrm>
            <a:off x="826920" y="4005360"/>
            <a:ext cx="123840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5003640" y="3500280"/>
            <a:ext cx="120492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магнитофон"/>
          <p:cNvPicPr/>
          <p:nvPr/>
        </p:nvPicPr>
        <p:blipFill>
          <a:blip r:embed="rId6"/>
          <a:stretch/>
        </p:blipFill>
        <p:spPr>
          <a:xfrm>
            <a:off x="6443640" y="4653000"/>
            <a:ext cx="1584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машиностро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машины1"/>
          <p:cNvPicPr/>
          <p:nvPr/>
        </p:nvPicPr>
        <p:blipFill>
          <a:blip r:embed="rId1"/>
          <a:stretch/>
        </p:blipFill>
        <p:spPr>
          <a:xfrm>
            <a:off x="3132000" y="1916280"/>
            <a:ext cx="2305080" cy="1563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машины4"/>
          <p:cNvPicPr/>
          <p:nvPr/>
        </p:nvPicPr>
        <p:blipFill>
          <a:blip r:embed="rId3"/>
          <a:stretch/>
        </p:blipFill>
        <p:spPr>
          <a:xfrm>
            <a:off x="755640" y="1844640"/>
            <a:ext cx="2160720" cy="162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машины2"/>
          <p:cNvPicPr/>
          <p:nvPr/>
        </p:nvPicPr>
        <p:blipFill>
          <a:blip r:embed="rId6"/>
          <a:stretch/>
        </p:blipFill>
        <p:spPr>
          <a:xfrm>
            <a:off x="3203640" y="378936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временные автомоби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виация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инематогра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ья Лю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ампа накали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аровой двигатель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аровоз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ароход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home</cp:lastModifiedBy>
  <dcterms:modified xsi:type="dcterms:W3CDTF">2020-04-06T08:40:07Z</dcterms:modified>
  <cp:revision>8</cp:revision>
  <dc:subject/>
  <dc:title>Урок - семинар</dc:title>
</cp:coreProperties>
</file>