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700-9B3F-4AE7-8AD1-E0158246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95F-E215-45CA-AC87-B457DF2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533-C084-448A-9DD6-9BBFF724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5DD-6A2D-488E-8F42-D94D3037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975-0D0B-4AD5-B980-81A96BEA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CDD-3747-4FC9-B14A-B67417D1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CF2-6670-46B9-A62A-7E27536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E1D-4873-4118-AF5D-25D6DFE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9FF-059F-4B08-B7F3-0A166FC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88F-20C5-4EF7-BDD5-A24B5AF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FEE-5C7E-445C-BA7F-A08EABB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992-7C6F-4B31-9C1A-BE549AA4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DEA8-3AC0-4BA5-AC34-3B72DCE43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841400" y="992160"/>
            <a:ext cx="8242560" cy="2871720"/>
          </a:xfrm>
          <a:prstGeom prst="rect">
            <a:avLst/>
          </a:prstGeom>
          <a:noFill/>
          <a:ln w="1260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</a:t>
            </a:r>
            <a:r>
              <a:rPr b="1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йди лишнее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90520" y="876240"/>
            <a:ext cx="9150480" cy="4030560"/>
          </a:xfrm>
          <a:prstGeom prst="rect">
            <a:avLst/>
          </a:prstGeom>
          <a:noFill/>
          <a:ln w="1260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рогой друг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лагаю тебе поиграть в игру и найти один лишний предме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дь внимателен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433440" y="1417680"/>
            <a:ext cx="2684520" cy="3130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3333600" y="1417680"/>
            <a:ext cx="2737080" cy="3130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4"/>
          <a:stretch/>
        </p:blipFill>
        <p:spPr>
          <a:xfrm>
            <a:off x="9231480" y="1417680"/>
            <a:ext cx="2630160" cy="313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284880" y="1417680"/>
            <a:ext cx="27306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" fill="hold">
                                          <p:stCondLst>
                                            <p:cond delay="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" fill="hold">
                                          <p:stCondLst>
                                            <p:cond delay="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" fill="hold">
                                          <p:stCondLst>
                                            <p:cond delay="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" fill="hold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" fill="hold">
                                          <p:stCondLst>
                                            <p:cond delay="1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" fill="hold">
                                          <p:stCondLst>
                                            <p:cond delay="2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" fill="hold">
                                          <p:stCondLst>
                                            <p:cond delay="1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" fill="hold">
                                          <p:stCondLst>
                                            <p:cond delay="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968560" y="1498680"/>
            <a:ext cx="6489720" cy="2698560"/>
          </a:xfrm>
          <a:prstGeom prst="rect">
            <a:avLst/>
          </a:prstGeom>
          <a:noFill/>
          <a:ln w="1260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лодец!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ы справился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2T10:17:55Z</dcterms:created>
  <dc:creator>ASUS</dc:creator>
  <dc:description/>
  <dc:language>en-US</dc:language>
  <cp:lastModifiedBy>user</cp:lastModifiedBy>
  <dcterms:modified xsi:type="dcterms:W3CDTF">2020-04-06T12:22:17Z</dcterms:modified>
  <cp:revision>12</cp:revision>
  <dc:subject/>
  <dc:title>Презентация PowerPoint</dc:title>
</cp:coreProperties>
</file>