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627-C374-4108-A194-B815638F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626-00FE-49BB-9A2A-E359505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CCB-046A-427F-B5ED-38A2109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CA8-F46D-4166-9356-1102DB42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720-7469-464F-BEB2-56E6EC6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973-8F9B-4B08-96E6-7B43148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169-BCA9-407C-A4FB-18AC6BC3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26B-D8E1-4C89-AF90-AF6036CF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6FC-FFBB-4221-B31F-A89373A9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E64-87EF-492C-AD8C-A6D1EBA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34B-B2EC-4C4C-A777-F1C14F3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1D4-2058-4E62-A1D0-95B9E52F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16E-0473-4502-BB7A-722084FFB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841400" y="992160"/>
            <a:ext cx="8242560" cy="287172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</a:t>
            </a: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йди лишнее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90520" y="876240"/>
            <a:ext cx="9150480" cy="403056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рогой друг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лагаю тебе поиграть в игру и найти один лишний предм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ь внимателен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433440" y="1417680"/>
            <a:ext cx="2684520" cy="3130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3333600" y="1417680"/>
            <a:ext cx="2737080" cy="3130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tretch/>
        </p:blipFill>
        <p:spPr>
          <a:xfrm>
            <a:off x="9231480" y="1417680"/>
            <a:ext cx="2630160" cy="313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284880" y="1417680"/>
            <a:ext cx="273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" fill="hold">
                                          <p:stCondLst>
                                            <p:cond delay="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" fill="hold">
                                          <p:stCondLst>
                                            <p:cond delay="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" fill="hold">
                                          <p:stCondLst>
                                            <p:cond delay="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" fill="hold">
                                          <p:stCondLst>
                                            <p:cond delay="1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" fill="hold">
                                          <p:stCondLst>
                                            <p:cond delay="2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" fill="hold">
                                          <p:stCondLst>
                                            <p:cond delay="1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" fill="hold">
                                          <p:stCondLst>
                                            <p:cond delay="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968560" y="1498680"/>
            <a:ext cx="6489720" cy="269856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лодец!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ы справился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2T10:17:55Z</dcterms:created>
  <dc:creator>ASUS</dc:creator>
  <dc:description/>
  <dc:language>en-US</dc:language>
  <cp:lastModifiedBy>user</cp:lastModifiedBy>
  <dcterms:modified xsi:type="dcterms:W3CDTF">2020-04-06T12:22:17Z</dcterms:modified>
  <cp:revision>12</cp:revision>
  <dc:subject/>
  <dc:title>Презентация PowerPoint</dc:title>
</cp:coreProperties>
</file>