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B733-1E80-4A5D-A2FA-F09280CD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E85-0B28-4BDE-AB1A-D93587B5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ECCB-C3FB-4316-BCD7-692B2A74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EC2A-7F5D-4EC8-B06D-1EDD3D57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B7C4-CDE3-4837-9E41-94C43ACF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77CB-56B2-4D99-9C9B-98062886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5616-A4BC-4383-A9FA-0A23F2F2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90C5-E968-4432-8B5F-9FEABF53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6F82-160F-423A-8E40-B3A569D8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5920-3F4A-4AEF-9482-A5D71681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586D-1EC2-407C-B9D8-ED6145E9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201-01C8-4CF4-8BF5-F0C111FA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F430-EAC4-41B2-B8DD-B75BE2A9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C830-22E6-42D4-9487-73A69456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ED7C-AE55-4B1C-AC22-FEF9B3D3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BF16-7EAF-4F87-BC84-8FE663CA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3192-DBA9-4A87-9000-F94EED80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CC48-00F6-4F4A-8D54-EAF18091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11EF-4AE8-431B-A156-CBFBAC07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E5AA-59BC-4532-B858-610F827A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A15F-1C56-4E54-AAF7-AFCA919C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F161-E4C9-44E3-AC69-4E706681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7D8B-5528-476A-A7D7-D615C06F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A6AE-4E71-449B-8631-E355D8FC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65F3-1CF7-48B7-ABF9-57E1B413C4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1EF6-06CF-4E36-B56C-B73990EF7A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image" Target="../media/image17.jpeg"/><Relationship Id="rId5" Type="http://schemas.openxmlformats.org/officeDocument/2006/relationships/image" Target="../media/image8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0" descr="А Васнецов Кремл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46180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 Black"/>
              </a:rPr>
              <a:t>Кованные изделия – девять веков популярности.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екоративное искусство в современном мире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0" name="Picture 7" descr="Люстра рисунок"/>
          <p:cNvPicPr/>
          <p:nvPr/>
        </p:nvPicPr>
        <p:blipFill>
          <a:blip r:embed="rId1"/>
          <a:stretch/>
        </p:blipFill>
        <p:spPr>
          <a:xfrm>
            <a:off x="4876920" y="2666880"/>
            <a:ext cx="3929040" cy="3289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D:\Users\Sveta\Documents\Конспекты ИЗО 5\Карантин\Люстра.jpg"/>
          <p:cNvPicPr/>
          <p:nvPr/>
        </p:nvPicPr>
        <p:blipFill>
          <a:blip r:embed="rId2"/>
          <a:stretch/>
        </p:blipFill>
        <p:spPr>
          <a:xfrm>
            <a:off x="533520" y="1981080"/>
            <a:ext cx="3990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Творческая мастерская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61760" y="190512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 иллюстрации представленные в презентации и создай свой орнамент для металлического ограждения балкона, лестницы или мо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1" descr="D:\Users\Sveta\Documents\Конспекты ИЗО 5\Карантин\ступеньки.jpg"/>
          <p:cNvPicPr/>
          <p:nvPr/>
        </p:nvPicPr>
        <p:blipFill>
          <a:blip r:embed="rId1"/>
          <a:stretch/>
        </p:blipFill>
        <p:spPr>
          <a:xfrm>
            <a:off x="4624560" y="1905120"/>
            <a:ext cx="3952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3720" y="380520"/>
            <a:ext cx="35816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Творческая мастерская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7" name="Picture 15" descr="Полка"/>
          <p:cNvPicPr/>
          <p:nvPr/>
        </p:nvPicPr>
        <p:blipFill>
          <a:blip r:embed="rId1"/>
          <a:stretch/>
        </p:blipFill>
        <p:spPr>
          <a:xfrm>
            <a:off x="228600" y="3048120"/>
            <a:ext cx="2085840" cy="3047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D:\Users\Sveta\Documents\Конспекты ИЗО 5\Карантин\Фонарь.jpg"/>
          <p:cNvPicPr/>
          <p:nvPr/>
        </p:nvPicPr>
        <p:blipFill>
          <a:blip r:embed="rId2"/>
          <a:stretch/>
        </p:blipFill>
        <p:spPr>
          <a:xfrm>
            <a:off x="304920" y="4572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D:\Users\Sveta\Documents\Конспекты ИЗО 5\Карантин\Зеркало.jpg"/>
          <p:cNvPicPr/>
          <p:nvPr/>
        </p:nvPicPr>
        <p:blipFill>
          <a:blip r:embed="rId3"/>
          <a:stretch/>
        </p:blipFill>
        <p:spPr>
          <a:xfrm>
            <a:off x="2666880" y="1828800"/>
            <a:ext cx="2133720" cy="194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D:\Users\Sveta\Documents\Конспекты ИЗО 5\Карантин\Люстра.jpg"/>
          <p:cNvPicPr/>
          <p:nvPr/>
        </p:nvPicPr>
        <p:blipFill>
          <a:blip r:embed="rId4"/>
          <a:stretch/>
        </p:blipFill>
        <p:spPr>
          <a:xfrm>
            <a:off x="5257800" y="1828800"/>
            <a:ext cx="2681280" cy="1981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D:\Users\Sveta\Documents\Конспекты ИЗО 5\Карантин\Флюгер.jpg"/>
          <p:cNvPicPr/>
          <p:nvPr/>
        </p:nvPicPr>
        <p:blipFill>
          <a:blip r:embed="rId5"/>
          <a:stretch/>
        </p:blipFill>
        <p:spPr>
          <a:xfrm>
            <a:off x="7086600" y="304920"/>
            <a:ext cx="1809720" cy="1841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D:\Users\Sveta\Documents\Конспекты ИЗО 5\Карантин\Ворота.jpg"/>
          <p:cNvPicPr/>
          <p:nvPr/>
        </p:nvPicPr>
        <p:blipFill>
          <a:blip r:embed="rId6"/>
          <a:stretch/>
        </p:blipFill>
        <p:spPr>
          <a:xfrm>
            <a:off x="2590920" y="3962520"/>
            <a:ext cx="2487600" cy="163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686120" y="4000320"/>
            <a:ext cx="3771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 всех ли изображённых здесь предметах присутствует орнаментальный ря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Замок"/>
          <p:cNvPicPr/>
          <p:nvPr/>
        </p:nvPicPr>
        <p:blipFill>
          <a:blip r:embed="rId1"/>
          <a:stretch/>
        </p:blipFill>
        <p:spPr>
          <a:xfrm>
            <a:off x="4800600" y="533520"/>
            <a:ext cx="4038480" cy="2463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Художественная</a:t>
            </a: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ковка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2" name="Picture 11" descr="Замки"/>
          <p:cNvPicPr/>
          <p:nvPr/>
        </p:nvPicPr>
        <p:blipFill>
          <a:blip r:embed="rId2"/>
          <a:stretch/>
        </p:blipFill>
        <p:spPr>
          <a:xfrm>
            <a:off x="4191120" y="2743200"/>
            <a:ext cx="4727520" cy="37656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вять столетий. Именно столько существуе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удожественная к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Широчайшее распространение этот метод получил в XVII-XVIII ве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числу наиболее ранних кованых изделий относятся различные по назначению ручки, засовы, петли, которые со временем становились всё разнообразнее по художественным формам, рисунк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Художественная ковк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4419720"/>
            <a:ext cx="495288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и популярны ажурные решетки из кованого металла, предназначенные для закрывания оконных проемов, кованые ограды и вор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Ковн ворота"/>
          <p:cNvPicPr/>
          <p:nvPr/>
        </p:nvPicPr>
        <p:blipFill>
          <a:blip r:embed="rId1"/>
          <a:stretch/>
        </p:blipFill>
        <p:spPr>
          <a:xfrm>
            <a:off x="4724280" y="1523880"/>
            <a:ext cx="39132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D:\Users\Sveta\Documents\Конспекты ИЗО 5\Карантин\Ворота.jpg"/>
          <p:cNvPicPr/>
          <p:nvPr/>
        </p:nvPicPr>
        <p:blipFill>
          <a:blip r:embed="rId2"/>
          <a:stretch/>
        </p:blipFill>
        <p:spPr>
          <a:xfrm>
            <a:off x="946080" y="1905120"/>
            <a:ext cx="3148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0" y="5331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Художественная ковк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24280" y="3200400"/>
            <a:ext cx="4114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чественные каменные монастыри и храмы оборудовались железными дверями, которые украшались разнообразными элементами декоративной к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Двери"/>
          <p:cNvPicPr/>
          <p:nvPr/>
        </p:nvPicPr>
        <p:blipFill>
          <a:blip r:embed="rId1"/>
          <a:stretch/>
        </p:blipFill>
        <p:spPr>
          <a:xfrm>
            <a:off x="457200" y="533520"/>
            <a:ext cx="40528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716040"/>
            <a:ext cx="769608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Ковка – обжигающая красота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4724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придать металлу пластичности, температуры кузнечного горна вполне достаточно, но для того чтобы появился красивый, изысканный, гармоничный узор, требуется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Флюгер петух"/>
          <p:cNvPicPr/>
          <p:nvPr/>
        </p:nvPicPr>
        <p:blipFill>
          <a:blip r:embed="rId1"/>
          <a:stretch/>
        </p:blipFill>
        <p:spPr>
          <a:xfrm>
            <a:off x="4267080" y="1828800"/>
            <a:ext cx="4343400" cy="2846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86120" y="4000320"/>
            <a:ext cx="3771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D:\Users\Sveta\Documents\Конспекты ИЗО 5\Карантин\Флюгер.jpg"/>
          <p:cNvPicPr/>
          <p:nvPr/>
        </p:nvPicPr>
        <p:blipFill>
          <a:blip r:embed="rId2"/>
          <a:stretch/>
        </p:blipFill>
        <p:spPr>
          <a:xfrm>
            <a:off x="1066680" y="1905120"/>
            <a:ext cx="259092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Ковка – обжигающая красота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4800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уется огонь человеческого сердца, у которого в качестве топлива выступают его стремления, надежды, творческий порыв и вдохнов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Флюгер"/>
          <p:cNvPicPr/>
          <p:nvPr/>
        </p:nvPicPr>
        <p:blipFill>
          <a:blip r:embed="rId1"/>
          <a:stretch/>
        </p:blipFill>
        <p:spPr>
          <a:xfrm>
            <a:off x="457200" y="1143000"/>
            <a:ext cx="4114800" cy="3276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D:\Users\Sveta\Documents\Конспекты ИЗО 5\Карантин\Фонарь.jpg"/>
          <p:cNvPicPr/>
          <p:nvPr/>
        </p:nvPicPr>
        <p:blipFill>
          <a:blip r:embed="rId2"/>
          <a:stretch/>
        </p:blipFill>
        <p:spPr>
          <a:xfrm>
            <a:off x="5029200" y="1143000"/>
            <a:ext cx="349740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кий скачок в развитии                               отечественно металлургии                                   приходится на начало XVIII                                   столетия, когда военные                                                планы Петра I потребовали                                       огромного количества                                                   метал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круг Тулы начали вырастать                                 чугунные и железоделательные                                    заводы. Среди них особенно выделился кузнец - оружейни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ита Димидович Антуфь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озванный Демидов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Русская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металлург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2" name="Picture 7" descr="blacksmiths"/>
          <p:cNvPicPr/>
          <p:nvPr/>
        </p:nvPicPr>
        <p:blipFill>
          <a:blip r:embed="rId1"/>
          <a:stretch/>
        </p:blipFill>
        <p:spPr>
          <a:xfrm>
            <a:off x="5334120" y="228600"/>
            <a:ext cx="35971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Декоративное искусство в современном мире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4" name="Picture 7" descr="Пано"/>
          <p:cNvPicPr/>
          <p:nvPr/>
        </p:nvPicPr>
        <p:blipFill>
          <a:blip r:embed="rId1"/>
          <a:stretch/>
        </p:blipFill>
        <p:spPr>
          <a:xfrm>
            <a:off x="380880" y="2286000"/>
            <a:ext cx="4114800" cy="3701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D:\Users\Sveta\Documents\Конспекты ИЗО 5\Карантин\ступеньки.jpg"/>
          <p:cNvPicPr/>
          <p:nvPr/>
        </p:nvPicPr>
        <p:blipFill>
          <a:blip r:embed="rId2"/>
          <a:stretch/>
        </p:blipFill>
        <p:spPr>
          <a:xfrm>
            <a:off x="4648320" y="2286000"/>
            <a:ext cx="377172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екоративное искусство в современном мире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7" name="Picture 7" descr="Зеркало рисунок"/>
          <p:cNvPicPr/>
          <p:nvPr/>
        </p:nvPicPr>
        <p:blipFill>
          <a:blip r:embed="rId1"/>
          <a:stretch/>
        </p:blipFill>
        <p:spPr>
          <a:xfrm>
            <a:off x="5334120" y="1905120"/>
            <a:ext cx="3124080" cy="4038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D:\Users\Sveta\Documents\Конспекты ИЗО 5\Карантин\Зеркало.jpg"/>
          <p:cNvPicPr/>
          <p:nvPr/>
        </p:nvPicPr>
        <p:blipFill>
          <a:blip r:embed="rId2"/>
          <a:stretch/>
        </p:blipFill>
        <p:spPr>
          <a:xfrm>
            <a:off x="1219320" y="1828800"/>
            <a:ext cx="3429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veta</dc:creator>
  <dc:description/>
  <dc:language>en-US</dc:language>
  <cp:lastModifiedBy>Sveta</cp:lastModifiedBy>
  <dcterms:modified xsi:type="dcterms:W3CDTF">2020-04-02T12:32:4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