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324-FDBE-4C1D-9EBE-36EE657C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0B58-6B23-46F9-A5C5-11F27F10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D72-329B-4A0A-9D14-E85AA181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3A7-91BD-4207-BE8E-D944A3C9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807E-B62E-4F0A-9FA0-ACA893ED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EE77-58C8-432E-818D-76509A5A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AEE0-33CD-4943-97CD-67C8F13F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77D7-C88B-45CF-B6DF-1753ED16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D346-BF32-4DCA-BC29-12DA48FB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07E1-187B-45F5-AF45-617A69F1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44EB-6A7B-4D34-BEB0-295FBA77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D58-6F17-4A5D-963A-48A5E97A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3D46-EEBB-4223-BE39-7693F462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E3AE-A78E-4086-A3A2-D1274DED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2D33-FD3E-4C6C-BDA3-420C4FE9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A9C3-20A5-482D-92EB-AEA23941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0C6E-6606-4A38-8466-79CEAEBA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B21-14BE-4F7B-9B1A-5C97C833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2FD-786A-467E-BC8B-374B30D3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D3B-56F6-4E2B-A46F-FBA186F6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772-3AA4-4C36-B2BA-C6DE47F1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5B1-458B-483E-81CA-A25F3931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1A3-A74C-4CBA-B34D-BF3D31B5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A92-80C5-4A78-85A3-08672D3D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7BA9-74D9-408F-9D0D-D2BE75D728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2A91-732A-4A2A-AC04-C881949818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image" Target="../media/image8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" descr="А Васнецов Крем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6180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 Black"/>
              </a:rPr>
              <a:t>Кованные изделия – девять веков популярности.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екоративное искусство в современном мир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0" name="Picture 7" descr="Люстра рисунок"/>
          <p:cNvPicPr/>
          <p:nvPr/>
        </p:nvPicPr>
        <p:blipFill>
          <a:blip r:embed="rId1"/>
          <a:stretch/>
        </p:blipFill>
        <p:spPr>
          <a:xfrm>
            <a:off x="4876920" y="2666880"/>
            <a:ext cx="3929040" cy="3289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D:\Users\Sveta\Documents\Конспекты ИЗО 5\Карантин\Люстра.jpg"/>
          <p:cNvPicPr/>
          <p:nvPr/>
        </p:nvPicPr>
        <p:blipFill>
          <a:blip r:embed="rId2"/>
          <a:stretch/>
        </p:blipFill>
        <p:spPr>
          <a:xfrm>
            <a:off x="533520" y="1981080"/>
            <a:ext cx="3990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ворческая мастерская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61760" y="190512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иллюстрации представленные в презентации и создай свой орнамент для металлического ограждения балкона, лестницы или м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1" descr="D:\Users\Sveta\Documents\Конспекты ИЗО 5\Карантин\ступеньки.jpg"/>
          <p:cNvPicPr/>
          <p:nvPr/>
        </p:nvPicPr>
        <p:blipFill>
          <a:blip r:embed="rId1"/>
          <a:stretch/>
        </p:blipFill>
        <p:spPr>
          <a:xfrm>
            <a:off x="4624560" y="19051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3720" y="380520"/>
            <a:ext cx="35816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ворческая мастерская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7" name="Picture 15" descr="Полка"/>
          <p:cNvPicPr/>
          <p:nvPr/>
        </p:nvPicPr>
        <p:blipFill>
          <a:blip r:embed="rId1"/>
          <a:stretch/>
        </p:blipFill>
        <p:spPr>
          <a:xfrm>
            <a:off x="228600" y="3048120"/>
            <a:ext cx="2085840" cy="3047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D:\Users\Sveta\Documents\Конспекты ИЗО 5\Карантин\Фонарь.jpg"/>
          <p:cNvPicPr/>
          <p:nvPr/>
        </p:nvPicPr>
        <p:blipFill>
          <a:blip r:embed="rId2"/>
          <a:stretch/>
        </p:blipFill>
        <p:spPr>
          <a:xfrm>
            <a:off x="304920" y="4572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D:\Users\Sveta\Documents\Конспекты ИЗО 5\Карантин\Зеркало.jpg"/>
          <p:cNvPicPr/>
          <p:nvPr/>
        </p:nvPicPr>
        <p:blipFill>
          <a:blip r:embed="rId3"/>
          <a:stretch/>
        </p:blipFill>
        <p:spPr>
          <a:xfrm>
            <a:off x="2666880" y="1828800"/>
            <a:ext cx="2133720" cy="194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D:\Users\Sveta\Documents\Конспекты ИЗО 5\Карантин\Люстра.jpg"/>
          <p:cNvPicPr/>
          <p:nvPr/>
        </p:nvPicPr>
        <p:blipFill>
          <a:blip r:embed="rId4"/>
          <a:stretch/>
        </p:blipFill>
        <p:spPr>
          <a:xfrm>
            <a:off x="5257800" y="1828800"/>
            <a:ext cx="2681280" cy="198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D:\Users\Sveta\Documents\Конспекты ИЗО 5\Карантин\Флюгер.jpg"/>
          <p:cNvPicPr/>
          <p:nvPr/>
        </p:nvPicPr>
        <p:blipFill>
          <a:blip r:embed="rId5"/>
          <a:stretch/>
        </p:blipFill>
        <p:spPr>
          <a:xfrm>
            <a:off x="7086600" y="304920"/>
            <a:ext cx="1809720" cy="1841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D:\Users\Sveta\Documents\Конспекты ИЗО 5\Карантин\Ворота.jpg"/>
          <p:cNvPicPr/>
          <p:nvPr/>
        </p:nvPicPr>
        <p:blipFill>
          <a:blip r:embed="rId6"/>
          <a:stretch/>
        </p:blipFill>
        <p:spPr>
          <a:xfrm>
            <a:off x="2590920" y="3962520"/>
            <a:ext cx="2487600" cy="163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686120" y="400032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 всех ли изображённых здесь предметах присутствует орнаментальный ря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Замок"/>
          <p:cNvPicPr/>
          <p:nvPr/>
        </p:nvPicPr>
        <p:blipFill>
          <a:blip r:embed="rId1"/>
          <a:stretch/>
        </p:blipFill>
        <p:spPr>
          <a:xfrm>
            <a:off x="4800600" y="533520"/>
            <a:ext cx="4038480" cy="2463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Художественная</a:t>
            </a:r>
            <a:br>
              <a:rPr sz="2900"/>
            </a:b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ковка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2" name="Picture 11" descr="Замки"/>
          <p:cNvPicPr/>
          <p:nvPr/>
        </p:nvPicPr>
        <p:blipFill>
          <a:blip r:embed="rId2"/>
          <a:stretch/>
        </p:blipFill>
        <p:spPr>
          <a:xfrm>
            <a:off x="4191120" y="2743200"/>
            <a:ext cx="4727520" cy="3765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вять столетий. Именно столько существуе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удожественная к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Широчайшее распространение этот метод получил в XVII-XVIII ве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числу наиболее ранних кованых изделий относятся различные по назначению ручки, засовы, петли, которые со временем становились всё разнообразнее по художественным формам, рисунк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Художественная ков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4419720"/>
            <a:ext cx="495288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и популярны ажурные решетки из кованого металла, предназначенные для закрывания оконных проемов, кованые ограды и вор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Ковн ворота"/>
          <p:cNvPicPr/>
          <p:nvPr/>
        </p:nvPicPr>
        <p:blipFill>
          <a:blip r:embed="rId1"/>
          <a:stretch/>
        </p:blipFill>
        <p:spPr>
          <a:xfrm>
            <a:off x="4724280" y="1523880"/>
            <a:ext cx="39132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D:\Users\Sveta\Documents\Конспекты ИЗО 5\Карантин\Ворота.jpg"/>
          <p:cNvPicPr/>
          <p:nvPr/>
        </p:nvPicPr>
        <p:blipFill>
          <a:blip r:embed="rId2"/>
          <a:stretch/>
        </p:blipFill>
        <p:spPr>
          <a:xfrm>
            <a:off x="946080" y="1905120"/>
            <a:ext cx="3148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0" y="5331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Художественная ков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24280" y="320040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чественные каменные монастыри и храмы оборудовались железными дверями, которые украшались разнообразными элементами декоративной к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Двери"/>
          <p:cNvPicPr/>
          <p:nvPr/>
        </p:nvPicPr>
        <p:blipFill>
          <a:blip r:embed="rId1"/>
          <a:stretch/>
        </p:blipFill>
        <p:spPr>
          <a:xfrm>
            <a:off x="457200" y="533520"/>
            <a:ext cx="4052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16040"/>
            <a:ext cx="769608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овка – обжигающая красота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4724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идать металлу пластичности, температуры кузнечного горна вполне достаточно, но для того чтобы появился красивый, изысканный, гармоничный узор, требуетс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Флюгер петух"/>
          <p:cNvPicPr/>
          <p:nvPr/>
        </p:nvPicPr>
        <p:blipFill>
          <a:blip r:embed="rId1"/>
          <a:stretch/>
        </p:blipFill>
        <p:spPr>
          <a:xfrm>
            <a:off x="4267080" y="1828800"/>
            <a:ext cx="4343400" cy="2846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6120" y="400032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D:\Users\Sveta\Documents\Конспекты ИЗО 5\Карантин\Флюгер.jpg"/>
          <p:cNvPicPr/>
          <p:nvPr/>
        </p:nvPicPr>
        <p:blipFill>
          <a:blip r:embed="rId2"/>
          <a:stretch/>
        </p:blipFill>
        <p:spPr>
          <a:xfrm>
            <a:off x="1066680" y="1905120"/>
            <a:ext cx="259092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овка – обжигающая красота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4800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ется огонь человеческого сердца, у которого в качестве топлива выступают его стремления, надежды, творческий порыв и вдохнов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Флюгер"/>
          <p:cNvPicPr/>
          <p:nvPr/>
        </p:nvPicPr>
        <p:blipFill>
          <a:blip r:embed="rId1"/>
          <a:stretch/>
        </p:blipFill>
        <p:spPr>
          <a:xfrm>
            <a:off x="457200" y="114300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:\Users\Sveta\Documents\Конспекты ИЗО 5\Карантин\Фонарь.jpg"/>
          <p:cNvPicPr/>
          <p:nvPr/>
        </p:nvPicPr>
        <p:blipFill>
          <a:blip r:embed="rId2"/>
          <a:stretch/>
        </p:blipFill>
        <p:spPr>
          <a:xfrm>
            <a:off x="5029200" y="1143000"/>
            <a:ext cx="349740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кий скачок в развитии                               отечественно металлургии                                   приходится на начало XVIII                                   столетия, когда военные                                                планы Петра I потребовали                                       огромного количества                                                  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круг Тулы начали вырастать                                 чугунные и железоделательные                                    заводы. Среди них особенно выделился кузнец - оружейни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ита Димидович Антуфь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озванный Демидов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Русская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еталлург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2" name="Picture 7" descr="blacksmiths"/>
          <p:cNvPicPr/>
          <p:nvPr/>
        </p:nvPicPr>
        <p:blipFill>
          <a:blip r:embed="rId1"/>
          <a:stretch/>
        </p:blipFill>
        <p:spPr>
          <a:xfrm>
            <a:off x="5334120" y="228600"/>
            <a:ext cx="35971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Декоративное искусство в современном мире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4" name="Picture 7" descr="Пано"/>
          <p:cNvPicPr/>
          <p:nvPr/>
        </p:nvPicPr>
        <p:blipFill>
          <a:blip r:embed="rId1"/>
          <a:stretch/>
        </p:blipFill>
        <p:spPr>
          <a:xfrm>
            <a:off x="380880" y="2286000"/>
            <a:ext cx="4114800" cy="3701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D:\Users\Sveta\Documents\Конспекты ИЗО 5\Карантин\ступеньки.jpg"/>
          <p:cNvPicPr/>
          <p:nvPr/>
        </p:nvPicPr>
        <p:blipFill>
          <a:blip r:embed="rId2"/>
          <a:stretch/>
        </p:blipFill>
        <p:spPr>
          <a:xfrm>
            <a:off x="4648320" y="2286000"/>
            <a:ext cx="377172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екоративное искусство в современном мир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7" name="Picture 7" descr="Зеркало рисунок"/>
          <p:cNvPicPr/>
          <p:nvPr/>
        </p:nvPicPr>
        <p:blipFill>
          <a:blip r:embed="rId1"/>
          <a:stretch/>
        </p:blipFill>
        <p:spPr>
          <a:xfrm>
            <a:off x="5334120" y="1905120"/>
            <a:ext cx="312408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D:\Users\Sveta\Documents\Конспекты ИЗО 5\Карантин\Зеркало.jpg"/>
          <p:cNvPicPr/>
          <p:nvPr/>
        </p:nvPicPr>
        <p:blipFill>
          <a:blip r:embed="rId2"/>
          <a:stretch/>
        </p:blipFill>
        <p:spPr>
          <a:xfrm>
            <a:off x="1219320" y="1828800"/>
            <a:ext cx="3429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veta</dc:creator>
  <dc:description/>
  <dc:language>en-US</dc:language>
  <cp:lastModifiedBy>Sveta</cp:lastModifiedBy>
  <dcterms:modified xsi:type="dcterms:W3CDTF">2020-04-02T12:32:4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