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5.wmf" ContentType="image/x-wmf"/>
  <Override PartName="/ppt/media/image24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13CE-9F3D-4961-971D-DEE60B29E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87480" y="427392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8F97-3212-4D1C-8806-197CF6981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96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4185-1F75-4585-BCED-714B96588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8704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8660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8748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8704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8660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8B64-54A3-4046-BD6F-1F10091C3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5125-A8D6-4CB1-BA24-571F276C36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7480" y="2017440"/>
            <a:ext cx="7688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B8B8-8AB3-4651-B45A-061CE2575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8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A274-E9BE-4051-B671-6F60CAB4D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A8EC-5A86-4B8D-8AE8-BD2335EDB6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6248-1792-4F66-9927-6A7926503B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040" y="1058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7B92-D5E5-4F2A-A13B-0D7A97D9B9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72F6-8F2E-467F-86D4-440B1E181A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87480" y="2017440"/>
            <a:ext cx="7688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B822-C389-4E85-A6F6-117642B00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96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BEBB-0D28-4A01-97ED-29C4B23ADC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8476-DEB1-44C5-8FEE-7D68D91F1F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7480" y="427392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06CD-FCB3-4A23-A649-F39265840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96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DA51-933D-4F5C-A8B5-314119F5F7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704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660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748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704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660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242B-7C94-42D0-B7E5-2F008923FD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87480" y="2017440"/>
            <a:ext cx="7688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8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8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F251-12DE-4D56-B371-A662A11CF2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71040" y="1058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2696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987480" y="427392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92696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8704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86600" y="201744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98748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8704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86600" y="4273920"/>
            <a:ext cx="2475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D02C-4824-4F2D-83F8-A8058C832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028E-392C-4A60-A21F-680A89247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71040" y="1058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E63F-897E-42F8-B1B7-288258C73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0091-B004-4A1C-B9B4-891D8BD95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960" y="427392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E343-45FB-4871-BBD5-A3D459677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960" y="2017440"/>
            <a:ext cx="37515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87480" y="4273920"/>
            <a:ext cx="76881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65DE-6863-4713-BB3B-66433FC54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D5F59-1B6B-464F-AB8C-EF5F200889F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576E9E-D055-4213-811F-CD41CD69D6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105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480" y="2017440"/>
            <a:ext cx="76881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199280" y="5670720"/>
            <a:ext cx="1785960" cy="9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277920"/>
            <a:ext cx="822960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«Правильная осанка –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залог здоровь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ичины возникновения нарушения осан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60020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близкое расстояние от глаз до пар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979640" y="2565360"/>
            <a:ext cx="5545080" cy="40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00040" y="285840"/>
            <a:ext cx="82296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ичины возникновения нарушения осан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71840" y="2786040"/>
            <a:ext cx="4143240" cy="3830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43000" y="1928880"/>
            <a:ext cx="7201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лгое сидение 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мпьюте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57120" y="333360"/>
            <a:ext cx="8329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Оса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068640"/>
            <a:ext cx="850716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- это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nodeType="clickEffect" fill="hold">
                      <p:stCondLst>
                        <p:cond delay="0"/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положе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котором челов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держит своё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тело.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авильная оса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Туловище выпрямлено, голова поднят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плечи расправлены, живот подтян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- При правильной осанке хорошо развиты мышцы.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27792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Как влияет неправильная осанка на здоровье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2205000"/>
            <a:ext cx="742788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худшается работа органов дыхания, поскольку грудная клетка сдавле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 в спине, шее, головные бо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ческая усталость, снижение аппети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позвоночные диски постоянно напряжены, их питание нарушается, а потому идет задержка в ро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с плохой осанкой выглядит неудачником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nodeType="clickEffect" fill="hold">
                      <p:stCondLst>
                        <p:cond delay="0"/>
                      </p:stCondLst>
                      <p:childTnLst>
                        <p:par>
                          <p:cTn id="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для поддержания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ьной осан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1773360"/>
            <a:ext cx="69120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исьме придать тетради наклонное полож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79840" y="3184560"/>
            <a:ext cx="4200480" cy="3465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201600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для поддержания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ьной осан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1989000"/>
            <a:ext cx="7643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 при письме должен падать слева, а для левши – с прав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3457440" cy="3400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597528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28760" y="214200"/>
            <a:ext cx="8229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для поддержания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ьной осан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680" y="1714680"/>
            <a:ext cx="7786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едить, чтобы размеры стола и стула соответствовали вашему росту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28800" y="3571920"/>
            <a:ext cx="3743280" cy="3031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214960" y="3571920"/>
            <a:ext cx="3290760" cy="30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57120" y="1714680"/>
            <a:ext cx="8373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Правильная осанка – залог здоровь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7040" y="3000240"/>
            <a:ext cx="5313240" cy="3500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42960" y="214200"/>
            <a:ext cx="7929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64240" y="5183280"/>
            <a:ext cx="4033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792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для поддержания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ьной осан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680" y="185724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учше купить ранец, который можно носить на спи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86240" y="3286080"/>
            <a:ext cx="2943360" cy="3270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143000" y="3286080"/>
            <a:ext cx="313992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7920"/>
            <a:ext cx="82296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для поддержания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ьной осан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2133720"/>
            <a:ext cx="78598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раться стоять и ходить с максимально выпрямленной спи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71880" y="3429000"/>
            <a:ext cx="1979640" cy="3139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26920" y="472428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286240" y="3429000"/>
            <a:ext cx="357372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а для поддержания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правильной осан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жить со спортом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643200" y="2786040"/>
            <a:ext cx="2274840" cy="3448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42960" y="2817720"/>
            <a:ext cx="2357280" cy="3571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292800" y="2928960"/>
            <a:ext cx="236052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27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5880" y="1143000"/>
            <a:ext cx="76755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 algn="ctr">
              <a:spcBef>
                <a:spcPts val="11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слушайтесь к этим советам, если  хотите, чтобы вы  выросли с правильной осанкой и здоровой спино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"Осанка – внешность, манера держать себя”.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.И.Оже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авильная оса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13000"/>
          <a:ext cx="8067240" cy="1152000"/>
        </p:xfrm>
        <a:graphic>
          <a:graphicData uri="http://schemas.openxmlformats.org/drawingml/2006/table">
            <a:tbl>
              <a:tblPr/>
              <a:tblGrid>
                <a:gridCol w="8067240"/>
              </a:tblGrid>
              <a:tr h="115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3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елает фигуру человека красиво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d05b"/>
                    </a:solidFill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859280" y="2421000"/>
            <a:ext cx="3575160" cy="417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167280" cy="42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77920"/>
            <a:ext cx="82296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Неправильная оса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12536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некрасива и вред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435780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43760" y="2071800"/>
            <a:ext cx="2286000" cy="44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7920"/>
            <a:ext cx="8229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ичины возникновения нарушения осан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48428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неправильная посадка за пар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4103640" cy="3668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0760" y="2857680"/>
            <a:ext cx="371304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ичины возникновения нарушения осан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000" y="1600200"/>
            <a:ext cx="8928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е соответствующая росту ребёнка меб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2662200" cy="340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43000" y="3071880"/>
            <a:ext cx="364320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77920"/>
            <a:ext cx="8229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Причины возникновения нарушения осан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87480" y="1700280"/>
            <a:ext cx="7643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57880" y="2928960"/>
            <a:ext cx="2647800" cy="3732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57160" y="2928960"/>
            <a:ext cx="3951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енос тяже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одной ру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0:08:55Z</dcterms:created>
  <dc:creator>FoM</dc:creator>
  <dc:description/>
  <dc:language>en-US</dc:language>
  <cp:lastModifiedBy>андрей</cp:lastModifiedBy>
  <dcterms:modified xsi:type="dcterms:W3CDTF">2020-04-06T14:44:50Z</dcterms:modified>
  <cp:revision>85</cp:revision>
  <dc:subject/>
  <dc:title>Как сохранить осанку школьника? </dc:title>
</cp:coreProperties>
</file>