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E92-DCC3-4FDE-A49C-07DE26A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7DA-8315-447E-8262-301953A0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585-B248-4585-8D2B-4970677C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D55-6032-4F59-A276-233D4056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B34-0314-458F-86AA-21F72FB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6E5-A125-4731-891E-2818C4A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0E9-44F7-4476-A4AA-64BEA3AC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5CC-E656-42B7-96B0-422E1C9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8ED-54CD-44E7-A3DC-69D8C51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514-9643-44C1-8577-CCEFC42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214-5C93-48E4-8E01-1085A64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9C4-4AD7-4054-86E3-5D62BD1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B3E-C0D6-4D72-B6E3-F3C9FFB3D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980640"/>
            <a:ext cx="3309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5661000"/>
            <a:ext cx="51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«Покорители космоса». Презентацию подготовила воспитатель логопедической группы  Злобина У. Б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Люберцы, 2020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5516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68407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фандр – специальное снаряжение космонавта. Это специальный костюм, предназначенный для осуществления безопасного пребывания и работы космонавта в космическом корабле и в открытом космос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294984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tretch/>
        </p:blipFill>
        <p:spPr>
          <a:xfrm>
            <a:off x="4975200" y="1628640"/>
            <a:ext cx="2692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ческое пит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2917800" y="1600200"/>
            <a:ext cx="330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360" y="2205000"/>
            <a:ext cx="7201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4356000" y="3662280"/>
            <a:ext cx="3600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34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 и Стрелка – собаки, полетевшие в космос 19 августа 1960 г. и благополучно вернувшиеся на Зем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месяцев у Стрелки родилось 6 здоровых щен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1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8007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6985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искусственный Спутник Земли, советский космический аппарат, созданный под руководством Сергея Павловича Королева. Запущен на орбиту 4 октября 1957 года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987480" y="1600200"/>
            <a:ext cx="716904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Восток-1 - Позывные Первого Спутника Земли_(Inkompmusic.ru).mp3" descr=""/>
          <p:cNvPicPr/>
          <p:nvPr/>
        </p:nvPicPr>
        <p:blipFill>
          <a:blip r:embed="rId2"/>
          <a:stretch/>
        </p:blipFill>
        <p:spPr>
          <a:xfrm>
            <a:off x="1908000" y="4797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9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561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ток-1» («Восток»)  -космический корабль из серии «Восток», первый космический аппарат, поднявший человека на околоземную орбиту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8" descr=""/>
          <p:cNvPicPr/>
          <p:nvPr/>
        </p:nvPicPr>
        <p:blipFill>
          <a:blip r:embed="rId1"/>
          <a:stretch/>
        </p:blipFill>
        <p:spPr>
          <a:xfrm>
            <a:off x="3060720" y="1600200"/>
            <a:ext cx="302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5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561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Алексеевич Гагарин – летчик-космонавт СССР, Герой Советского Союза, первый человек, совершивший полет в космо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рабле «Восток-1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4464360"/>
          </a:xfrm>
          <a:prstGeom prst="rect">
            <a:avLst/>
          </a:prstGeom>
          <a:ln w="0">
            <a:noFill/>
          </a:ln>
        </p:spPr>
      </p:pic>
      <p:pic>
        <p:nvPicPr>
          <p:cNvPr id="54" name="ju-gagarin-poehali-y-gagarin-poehali.mp3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олет длился 1 час и 48 минут. За это время был соверш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 виток вокруг Зем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5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334944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6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4038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Владелец</cp:lastModifiedBy>
  <dcterms:modified xsi:type="dcterms:W3CDTF">2020-04-06T18:54:54Z</dcterms:modified>
  <cp:revision>22</cp:revision>
  <dc:subject/>
  <dc:title>Презентация PowerPoint</dc:title>
</cp:coreProperties>
</file>